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510D-8B94-449C-83AF-6A37941963B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B381-686E-4F2C-B104-62E5844892A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749-D347-437D-9E66-277FA7D6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130-C455-4E0C-AA00-50A30A22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0C3-896B-457A-AEC0-388D5218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C2C-15DA-4EDA-A62D-03ACDE4D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0CC1-3263-41FF-8831-6727550B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CA95-205C-4090-ADFB-A029D87B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DD02-5D5C-4C2D-AD8D-07E1F3B7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8E36-EE00-4C55-B070-7658CFCB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9D7A-E3C4-42F0-9B75-83980278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F550-1A41-403B-A988-176C3E54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9E52-66C7-497E-BC91-BFF83D9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421-1BCC-451E-A9AF-A9B82188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03F7-6D8B-41DE-9A18-42312C3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170C-6E23-424F-A7D5-D0A938A9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82E5-1A97-4E26-91CD-7F5A37F3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7815-AA8C-4D9C-9523-69687B2B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E3E1-33D4-4A0D-8ECD-84A497EF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AB76-4CA9-4574-A172-9B35AA22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D6A90-94D5-448B-A234-5169A25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7A4E-EAD4-4D3B-BB15-8C470247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0C12-B009-43DB-8127-9BDEA764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5A74-BCD5-4B52-BC28-C51C4E03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571-E36D-4F80-AD17-84C9D94D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9055-9B5F-4C09-AA12-DCBC2F32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1B27-6544-41A9-9091-5094F8B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98FE-5218-467E-904D-EAE66F7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9C59-C6C7-424B-B603-2D1D4419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A886-DFBD-45D4-8541-20FF9CF4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F48B-ACF9-4507-B58D-8A3478FC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FC53-A404-4FB8-8454-C6FF6979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B54D-9D73-4D29-8617-C559453E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B769-B874-47B9-816F-317F848B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8825-D5DF-456A-8737-4DDA9645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726-1CFA-4922-AE71-A5D8F15C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4030-79A7-496E-820C-941696CC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2E803-7F7C-4EC4-95E5-C027119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C87A-0B6A-4C94-A5DA-804E5317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25D3-EAFE-4134-A26F-5678D154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4D4E5-8B63-4737-8B4B-B62B922F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C816-77ED-4779-B754-F5D55202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2A4CA-E236-4245-A10A-78AE47E2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6A58-BE2A-4DDE-8EF0-789512FE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8F326-544B-4300-A399-D8DE4172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719EE-20AE-424E-99E2-25772F8F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D29-00B6-4D95-B938-862DEF6F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8DDE-852E-43E3-AADA-85D04B5D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49824-AD61-4580-AE34-2C945299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EBEF7-DF5A-4D28-B4E9-8ED3189C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E1149-EA36-4CA2-8C5F-0C263A09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1F55E-85FB-447E-9440-236364D6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ED2F-E813-44CA-9D4B-5B8044DC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5608-0365-42D1-803A-ABEA780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E78E4-A954-405E-AF1C-DC1E12D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321D2-96D0-46F4-9C0F-BA8FA5D1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9CBE2-3D14-4418-B786-A8EE2554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F42-40C8-43BB-B34F-68DF69F2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59E1D-658A-46A4-9C20-C145BDDE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2F8E7-C4E3-4AF6-A90C-57C77E36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F01F8-A5A4-4962-A917-EE9B1F88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1F007-6CC7-40CB-B06B-8EE781CB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61961-0BA0-407D-A3D0-CCC02889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6670-13E1-4490-ACE2-594FC00D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5A69-E3E4-461E-9020-894389B6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FA52-45E0-4AB9-A3CD-FDF0EB4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2E2D1-A5A1-4073-B5E3-29CB590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6658-EAE4-4FB9-9735-BFBAF940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817-AFD4-433B-9F85-3927827F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401DC-E291-478C-9A1A-6C659292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A3F9D-C592-40C1-B617-2CEA760C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F7383-EC8B-4061-A191-784D6E85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9E17E-DDF7-4914-851B-1EC3BE8A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B5E82-7EAE-48B6-BFB4-F19D28B4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A0D11-2977-4326-A3E3-5B20BCFA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29E7A-F755-499B-B97B-F5437934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7224D-DA2E-406D-AD48-FFC38492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81EFB-1DF3-4FE1-A214-DBCE64F4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0502-9D20-4F1A-8323-7AA01DB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C4D-B19D-49EC-AAC3-AF15B2F2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73631-502F-4609-918C-2A87A84F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5285-3CAB-4221-AD19-31D3CAD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6F72-A13B-409E-9624-4D3BBDC8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00850-98BD-4624-A569-5835B056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AC512-5E54-4A16-B353-E5FBB383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F68-602A-4532-AB29-357601B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F9D7-CA29-46B4-A808-5B01E3A333E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2EB1-0F3C-4D2C-B87C-CBA3CB3864A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6C98-BC0C-4748-B13F-528BA45DD23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17D5-938B-4B63-87BA-BEC562E4C6F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3320-F6BA-44DA-AB2F-AACF4F80353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A3F1-FA5E-4C04-B3FD-3B9DB725DEA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3D2A-8A15-4620-A54A-6E54B88F2AC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stema de Transporte Urb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7280" y="1447560"/>
            <a:ext cx="774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dentificar algún proyecto de transporte que se haya realizado o esté en proceso de realización señalando el país de procedencia y sus principales característic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 indicar qué necesidades satisface este proyecto, los medios y operaciones que utiliza y cómo afecta la estructura espacial en donde es llevado a cab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Cómo espera que afecte el sistema de transporte, el sistema de actividades y la estructura de flujo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2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 pid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ncontrar la ecuación de demanda por transporte y graficarla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ñalar claramente la cantidad máxima que se puede transportar y la tarifa máxima para que se transporte el product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 sección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06T17:02:27Z</dcterms:modified>
  <cp:revision>13</cp:revision>
  <dc:subject/>
  <dc:title>Taller I CI43A </dc:title>
</cp:coreProperties>
</file>