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16FF-096D-4D15-A074-38E0ABF3F54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CC969-6837-47D1-870B-5D0889727B7F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F0CD-EE72-4E2F-9353-453EE0AA0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6F21-6367-4396-971F-D39D021D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9428-9EE6-4E7B-A43A-AC73B903A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72A-3168-4A6B-B6E8-7115A2A7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327AA-A733-492A-95AB-26AE03FA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F35-63FC-4854-89A9-13BDF3B40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9A8A3-D8AD-49EB-9253-BA750CA9F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FC75-70AD-4D4B-9827-0A98AB8C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D8EC-DD57-4C9D-AF1C-2C301714E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F5CA-5D05-4358-9F54-DA63298C2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9D23-C1D7-4B93-AADF-1DB5741A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B5A4-9FDC-4418-858F-24F3BFED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CC2B9-078C-4609-ABAE-094476C4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3EA7-AB5D-4298-9C20-B811A5F1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68053-EF26-4883-828A-A1B25C01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721E-2943-490D-96B9-0F73A3EB4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EECC-D7EA-4228-866C-7312F614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05F77-9286-45EA-A2D4-23284B08D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19835-36A8-4DFF-AD6A-5852A457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44E61-2A97-4D16-9ADC-BFCD4894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02E09-1CDA-4C9D-9750-BE3A317A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D895C-7850-4451-985A-0522D2E8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C3E9-1273-4F35-8D57-B76E2B51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016C7-4192-482D-9771-FB205F1F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43D14-A394-4DE5-864C-9619C5C5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31CB1-99D6-447D-BC66-297E8D72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4A3FF-D333-4296-890D-C7A9BB186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478C1-EB3A-492F-85A4-BD884A59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42036-0547-4733-8BE4-70A24C08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12A06-3AB7-49A6-96F1-8ABF3881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26464-8BF1-4D6B-8610-EA43B059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66727-357E-4DB5-A6D9-AB6E6E7B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7D23D4-24DE-40FE-861B-4F806BD0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D066-15D3-4A0D-885C-87F56B9C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1F7E-43C5-4BF3-9ADC-3BDC240D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EC8E-7A1D-4690-AEF8-FBA4A304C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C67E1-A874-43F9-AA8D-2F79F375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36409-B814-40F8-BBC9-48234C7C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DA091-0A2E-4D26-B2D3-297B5694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26BE8-FE01-4F5E-B1E8-ECE77976C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FB428-E29E-42D2-84B4-E0D404885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CE9BC-A632-41F1-9510-B0760CFE3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D1E5-D24F-4D46-A8CD-58DA4343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253E0-8A7D-4873-95D7-2A59BA6D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E1F-5BEC-42BD-9AF0-495C77BB6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BFA390-2075-4F69-BE9F-06FDFE5F5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2E48A-9A8B-44E0-9AE8-5A41E45ED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23496-CF53-4825-9721-C488EB1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9DDDB-A748-4D5D-953C-C96C06B78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9279C-B4DF-4883-AA24-A5AD92EF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CF46D7-FA6A-46ED-B2AD-E4AD40860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D9651-2978-4780-89B8-5D190375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3D694-8602-4735-AEB2-44D8A5B2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302A7-E197-4F49-9035-A16B0C09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781A-36D4-413E-A17E-60ED5F1DC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FACA-91E8-4BD0-926A-4CCAF439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333F7-65ED-4A33-9570-5FD5E429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17E79-FA97-425C-8D50-28AA84F15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E9B307-8663-4293-A48C-6255147F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B28EC-0761-44AE-A73B-DF6E5761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A159-67E7-4C35-9800-BBB9EF13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FBCA5-30F2-47C0-89A0-01315238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E03B0-0A63-450C-AAEF-2C491B07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1EB82-2447-4EB7-A9BB-77307805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E5BA1-C856-4EFF-A47B-2ABA042F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13FD9-6D69-4EE2-AAAC-06591F093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CA14-6F18-40F9-A35E-068DCD8E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77BA5-E912-409B-A51A-6C6F92B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A2058-ADE1-4EB4-97E2-2B8328233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B8CBA-9FCB-4AAA-A45E-B66D4C042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59362-B839-4409-A2EC-E8DE98970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C1F9B-930D-4FA0-B3A9-6ED3D6C1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D20ED-B0AB-4267-BD25-2289CA83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842EA-CF06-4C13-947B-D7026DDE4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37AC9C-9346-497E-AD79-6F3A233D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197E3-F066-46B2-A7C2-28FCDB2A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D3DFE-259F-437C-87A4-A565F1DD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986A-D93B-4661-8E20-C8909696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EF9140-D161-4081-9B99-BB2226954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00FA1-3E67-499D-B4C9-5928ECA9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ECB33-BA5E-491A-AA51-C2293029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928C4-67E3-46C4-8946-4E292AA9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AF719-F30A-47AF-9F99-D101238D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8A5C-CB9A-4B5E-B135-F35F1C85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C33-8764-4CF9-B50B-EE50FFB71E2F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F0D6B-2F27-457E-9578-8DBFA208C6D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48F66-BB89-4EF1-8453-66AED94D696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6906-4BF9-4CAF-9B99-11886B4FE568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2C83-2C2F-4CF6-A20A-FDCC4E3FE153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F50-8FCE-45C7-82B3-7B411B6EA6FE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0797-8B60-4614-9B63-84120F2BC5C1}" type="slidenum">
              <a:rPr b="0" lang="es-E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288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572314"/>
                </a:solidFill>
                <a:latin typeface="Calibri"/>
                <a:ea typeface="Arial"/>
              </a:rPr>
              <a:t>Taller I CI43A </a:t>
            </a:r>
            <a:endParaRPr b="0" lang="en-US" sz="3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istema de Transporte Urban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Mercados Puntua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Problema 1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187280" y="1447560"/>
            <a:ext cx="7747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Identificar algún proyecto de transporte que se haya realizado o esté en proceso de realización señalando el país de procedencia y sus principales característica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Se debe indicar qué necesidades satisface este proyecto, los medios y operaciones que utiliza y cómo afecta la estructura espacial en donde es llevado a cab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Gill Sans MT"/>
              </a:rPr>
              <a:t>¿Cómo espera que afecte el sistema de transporte, el sistema de actividades y la estructura de flujo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572314"/>
                </a:solidFill>
                <a:latin typeface="Gill Sans MT"/>
              </a:rPr>
              <a:t>Problema 2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1644480" y="1213920"/>
            <a:ext cx="749952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xisten dos islas en cuyas costas abunda el abalone, un molusco difícil de extraer y procesar, pero que finalmente es un alimento muy apreciado.  En ambas islas se produce y se consume este molusco, y las funciones de oferta y demanda por este en cada una de las islas son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1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3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- 9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= 5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	</a:t>
            </a:r>
            <a:r>
              <a:rPr b="1" lang="es-MX" sz="1600" spc="-1" strike="noStrike">
                <a:solidFill>
                  <a:srgbClr val="8dc765"/>
                </a:solidFill>
                <a:latin typeface="Gill Sans MT"/>
              </a:rPr>
              <a:t>Isla 2</a:t>
            </a:r>
            <a:r>
              <a:rPr b="0" lang="es-MX" sz="1600" spc="-1" strike="noStrike">
                <a:solidFill>
                  <a:srgbClr val="8dc765"/>
                </a:solidFill>
                <a:latin typeface="Gill Sans MT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Ofert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O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/2 - 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      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emanda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Q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s-MX" sz="1600" spc="-1" strike="noStrike" baseline="30000">
                <a:solidFill>
                  <a:srgbClr val="000000"/>
                </a:solidFill>
                <a:latin typeface="Gill Sans MT"/>
              </a:rPr>
              <a:t>D</a:t>
            </a: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 = 100 - P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Gill Sans MT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 pide: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Encontrar la ecuación de demanda por transporte y graficarla.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Gill Sans MT"/>
              </a:rPr>
              <a:t>Señalar claramente la cantidad máxima que se puede transportar y la tarifa máxima para que se transporte el producto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300" spc="-1" strike="noStrike">
                <a:solidFill>
                  <a:srgbClr val="572314"/>
                </a:solidFill>
                <a:latin typeface="Gill Sans MT"/>
              </a:rPr>
              <a:t>Considera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Gill Sans MT"/>
              </a:rPr>
              <a:t>S</a:t>
            </a: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 deben entregar los archivos con el siguiente formato: apellido1_apellido2.do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nviar al mail del curso: tallerci43a@gmail.co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Asunto: Taller n°1 sección 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Incluir archivo .doc con el desarrollo del taller y el archivo .xls con los cálcul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Gill Sans MT"/>
              </a:rPr>
              <a:t>El punto base se asigna de acuerdo a la presentación y orden de los archivo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5T21:02:17Z</dcterms:created>
  <dc:creator>hsilva</dc:creator>
  <dc:description/>
  <dc:language>en-US</dc:language>
  <cp:lastModifiedBy>Hugo</cp:lastModifiedBy>
  <dcterms:modified xsi:type="dcterms:W3CDTF">2008-08-06T17:02:27Z</dcterms:modified>
  <cp:revision>13</cp:revision>
  <dc:subject/>
  <dc:title>Taller I CI43A </dc:title>
</cp:coreProperties>
</file>