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2594-D914-44E1-9927-9D0C7BDD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FAF-8915-4CDA-A8E7-681913C8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EDB-0EF7-4809-97F1-A9985078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9322-9FEF-49FE-8FA8-37E2C6FC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A56-B8D2-4E57-87AF-FB232F06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6C6-A114-4B25-9F8F-EF429A7E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F011-7A00-46AB-94F9-D046AA70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5CA-6C60-453C-AC90-740E30C9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A90-4620-4D30-99C5-27D2F291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675D-E2A8-4F5C-866B-3490894E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0FF-066B-40F1-88F3-C78FB78A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C747-2DB2-4562-81A6-F49A103B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E503-DBBC-40EB-A736-8136DF316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7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7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 produ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0" y="2437920"/>
              <a:ext cx="7924680" cy="3813120"/>
              <a:chOff x="0" y="2437920"/>
              <a:chExt cx="7924680" cy="381312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762120" y="2437920"/>
                <a:ext cx="0" cy="312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2120" y="556272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8600" y="2514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91520" y="5791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15000" y="3352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O</a:t>
                </a:r>
                <a:r>
                  <a:rPr b="0" lang="es-ES_tradnl" sz="2400" spc="-1" strike="noStrike" baseline="30000">
                    <a:solidFill>
                      <a:srgbClr val="ff3300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95480" y="2971800"/>
                <a:ext cx="3429000" cy="2133720"/>
              </a:xfrm>
              <a:custGeom>
                <a:avLst/>
                <a:gdLst/>
                <a:ahLst/>
                <a:rect l="l" t="t" r="r" b="b"/>
                <a:pathLst>
                  <a:path w="2160" h="1344">
                    <a:moveTo>
                      <a:pt x="0" y="0"/>
                    </a:moveTo>
                    <a:cubicBezTo>
                      <a:pt x="180" y="392"/>
                      <a:pt x="360" y="784"/>
                      <a:pt x="720" y="1008"/>
                    </a:cubicBezTo>
                    <a:cubicBezTo>
                      <a:pt x="1080" y="1232"/>
                      <a:pt x="1620" y="1288"/>
                      <a:pt x="2160" y="1344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77120" y="4800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D</a:t>
                </a:r>
                <a:r>
                  <a:rPr b="0" lang="es-ES_tradnl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62120" y="4786200"/>
                <a:ext cx="36432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4495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38480" y="5638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2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7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4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1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6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7-07-30T15:36:38Z</dcterms:modified>
  <cp:revision>56</cp:revision>
  <dc:subject/>
  <dc:title>Sin título de diapositiva</dc:title>
</cp:coreProperties>
</file>