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D1CC-B2EC-46A4-9DA5-236AD47A1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2975-3C42-49C0-B38C-BFC728514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499E-6030-4A2E-A4FA-4C4C20D11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7E57-99F5-4F97-9937-D8BD746AA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442E-9B8C-4F93-85A3-F726CC3A8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AE93-E527-415D-AFA5-102762B57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EB6D-98BD-41C8-A58B-484B0A2D4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A8B0-B96B-4DA6-B2CB-684CCA125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8513-38A3-46C4-AC86-9F582D194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307A-6EC0-43F2-B1A6-844F5E0E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F7CE-B88F-49D4-B3C0-729CFD71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3DC9-CA8F-473A-AF61-EE93E7E2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0C6AD-7548-40AC-9378-36AE5B97B5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dicción de fluj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74880" y="2347920"/>
            <a:ext cx="2073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--&gt; T’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--&gt; A´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52680" y="2576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00600" y="265284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--&gt; F’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4114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upue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xiste un mercado por servicios de transporte que puede ser separado y analizado en forma independiente de los demás mercados.</a:t>
            </a: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i.e. Las relaciones de tipo 1 pueden ser separadas de las de tipo 2 y 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16765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En el 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05520" y="51055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(-1)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0" y="2286000"/>
            <a:ext cx="6248520" cy="3660120"/>
            <a:chOff x="0" y="2286000"/>
            <a:chExt cx="6248520" cy="3660120"/>
          </a:xfrm>
        </p:grpSpPr>
        <p:sp>
          <p:nvSpPr>
            <p:cNvPr id="167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62120" y="5562720"/>
              <a:ext cx="510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8600" y="2286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62720" y="54864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0" y="37339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62320" y="24382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1460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914400" y="2590920"/>
              <a:ext cx="1600200" cy="12952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990720" y="2666520"/>
              <a:ext cx="1295280" cy="1295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57600" y="4038480"/>
              <a:ext cx="1600200" cy="12956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3733920" y="4114800"/>
              <a:ext cx="1295280" cy="1295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371600" y="3581280"/>
              <a:ext cx="762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038480" y="4343400"/>
              <a:ext cx="7621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790560" y="32338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776160" y="467676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0" y="297180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0" y="44956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62485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6248520" y="55627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6248520" y="3581280"/>
            <a:ext cx="1904760" cy="1067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001000" y="3124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O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248520" y="3124080"/>
            <a:ext cx="2133360" cy="15242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48720" y="4800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58672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Comic Sans MS"/>
              </a:rPr>
              <a:t>Ubicar: Q dada una tarifa de transporte t, Qmax, t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16765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En el 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615636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Graficar la curva de demanda por trans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Agregar una curva de oferta de transporte e identificar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724280" y="243792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24280" y="55627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0" y="2437920"/>
            <a:ext cx="3352680" cy="3584520"/>
            <a:chOff x="0" y="2437920"/>
            <a:chExt cx="3352680" cy="3584520"/>
          </a:xfrm>
        </p:grpSpPr>
        <p:sp>
          <p:nvSpPr>
            <p:cNvPr id="197" name=""/>
            <p:cNvSpPr/>
            <p:nvPr/>
          </p:nvSpPr>
          <p:spPr>
            <a:xfrm flipV="1">
              <a:off x="68580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85800" y="556272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685800" y="3581280"/>
              <a:ext cx="1905120" cy="1067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438280" y="31240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EO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85800" y="3124080"/>
              <a:ext cx="2133720" cy="15242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286000" y="4800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E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0" y="274320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0" y="44956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19320" y="350532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685800" y="35053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685800" y="4343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8580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62120" y="55627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0" y="320040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0" y="40384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890720" y="3962520"/>
              <a:ext cx="14400" cy="1600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295280" y="55627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ma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16765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Nuevo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56386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¿quiénes ganan y quienes pierd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1981080" y="243792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981080" y="50292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3520" y="2743200"/>
            <a:ext cx="152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0-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981080" y="3200400"/>
            <a:ext cx="2057400" cy="1828800"/>
          </a:xfrm>
          <a:prstGeom prst="line">
            <a:avLst/>
          </a:prstGeom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5029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819520" y="28954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max=Q(t=0)=ED1(p1=p2)=EO2(p1=p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124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nalicemos unidimensionalmente (teniendo claro que no lo es).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: volumen o magnitud de flujos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: características del nivel de servicio experimentado por un cierto flujo de usuarios en T.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=S(T,V)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función de servicio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=D(A,S)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función de demanda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3657600"/>
            <a:ext cx="152388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p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3505320"/>
            <a:ext cx="1676160" cy="11912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990720" y="2514600"/>
            <a:ext cx="2666880" cy="1142640"/>
            <a:chOff x="990720" y="2514600"/>
            <a:chExt cx="2666880" cy="1142640"/>
          </a:xfrm>
        </p:grpSpPr>
        <p:sp>
          <p:nvSpPr>
            <p:cNvPr id="52" name=""/>
            <p:cNvSpPr/>
            <p:nvPr/>
          </p:nvSpPr>
          <p:spPr>
            <a:xfrm>
              <a:off x="1981080" y="2514600"/>
              <a:ext cx="1676520" cy="82548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ofer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990720" y="2971440"/>
              <a:ext cx="9903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990720" y="4114800"/>
            <a:ext cx="2743200" cy="1654920"/>
            <a:chOff x="990720" y="4114800"/>
            <a:chExt cx="2743200" cy="1654920"/>
          </a:xfrm>
        </p:grpSpPr>
        <p:sp>
          <p:nvSpPr>
            <p:cNvPr id="55" name=""/>
            <p:cNvSpPr/>
            <p:nvPr/>
          </p:nvSpPr>
          <p:spPr>
            <a:xfrm>
              <a:off x="2057400" y="4578480"/>
              <a:ext cx="1676520" cy="119124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deman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990720" y="4114800"/>
              <a:ext cx="10666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657600" y="2971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3733920" y="43430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572000" y="2460600"/>
            <a:ext cx="2514600" cy="1557000"/>
            <a:chOff x="4572000" y="2460600"/>
            <a:chExt cx="2514600" cy="1557000"/>
          </a:xfrm>
        </p:grpSpPr>
        <p:sp>
          <p:nvSpPr>
            <p:cNvPr id="60" name=""/>
            <p:cNvSpPr/>
            <p:nvPr/>
          </p:nvSpPr>
          <p:spPr>
            <a:xfrm>
              <a:off x="5257800" y="2460600"/>
              <a:ext cx="1828800" cy="15570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consumo de recurs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4572000" y="2895480"/>
              <a:ext cx="6858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572000" y="4152960"/>
            <a:ext cx="2548080" cy="1557000"/>
            <a:chOff x="4572000" y="4152960"/>
            <a:chExt cx="2548080" cy="1557000"/>
          </a:xfrm>
        </p:grpSpPr>
        <p:sp>
          <p:nvSpPr>
            <p:cNvPr id="63" name=""/>
            <p:cNvSpPr/>
            <p:nvPr/>
          </p:nvSpPr>
          <p:spPr>
            <a:xfrm>
              <a:off x="5291280" y="4152960"/>
              <a:ext cx="1828800" cy="15570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desplazamiento de actividad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72000" y="4343400"/>
              <a:ext cx="6858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81480" y="2895480"/>
            <a:ext cx="3733920" cy="1981080"/>
            <a:chOff x="5181480" y="2895480"/>
            <a:chExt cx="3733920" cy="1981080"/>
          </a:xfrm>
        </p:grpSpPr>
        <p:sp>
          <p:nvSpPr>
            <p:cNvPr id="66" name=""/>
            <p:cNvSpPr/>
            <p:nvPr/>
          </p:nvSpPr>
          <p:spPr>
            <a:xfrm>
              <a:off x="7238880" y="3648240"/>
              <a:ext cx="1676520" cy="45972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Impact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086600" y="2895480"/>
              <a:ext cx="8380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7162920" y="4114440"/>
              <a:ext cx="76176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181480" y="388620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 flipH="1">
            <a:off x="3733560" y="52578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3657240" y="2590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conceptual que nos permitirá entender la generación de viajes.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Bibliografía: generación y efectos de mercados de transporte Jara-Gálvez (1975). También en: Apuntes de análisis de sistemas de transporte Martínez y Tudela (199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upongamos la existencia de dos mercados, inicialmente aislados, donde se produce y consume un mismo bi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sucede si se conecta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152388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q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tidad produci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1600200"/>
            <a:ext cx="1676160" cy="825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ercad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228600" y="2437920"/>
            <a:ext cx="4419720" cy="3736800"/>
            <a:chOff x="228600" y="2437920"/>
            <a:chExt cx="4419720" cy="3736800"/>
          </a:xfrm>
        </p:grpSpPr>
        <p:sp>
          <p:nvSpPr>
            <p:cNvPr id="78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62120" y="556272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14800" y="5715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5562720" y="2438280"/>
            <a:ext cx="327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O1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: Oferta. Cantidad del bien </a:t>
            </a:r>
            <a:r>
              <a:rPr b="0" i="1" lang="en-US" sz="2000" spc="-1" strike="noStrike">
                <a:solidFill>
                  <a:srgbClr val="ff3300"/>
                </a:solidFill>
                <a:latin typeface="Comic Sans MS"/>
              </a:rPr>
              <a:t>x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 que está dispuesta a ofrecer la(s) empresa(s) a un precio p. O1=O1(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62720" y="3886200"/>
            <a:ext cx="327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D1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: Demanda. Cantidad del bien </a:t>
            </a: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que están dispuestos a adquirir los consumidores a un precio p. D1=D1(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62120" y="3276720"/>
            <a:ext cx="3886200" cy="2286000"/>
            <a:chOff x="762120" y="3276720"/>
            <a:chExt cx="3886200" cy="2286000"/>
          </a:xfrm>
        </p:grpSpPr>
        <p:sp>
          <p:nvSpPr>
            <p:cNvPr id="85" name=""/>
            <p:cNvSpPr/>
            <p:nvPr/>
          </p:nvSpPr>
          <p:spPr>
            <a:xfrm>
              <a:off x="762120" y="3505320"/>
              <a:ext cx="3047760" cy="2057400"/>
            </a:xfrm>
            <a:custGeom>
              <a:avLst/>
              <a:gdLst/>
              <a:ahLst/>
              <a:rect l="l" t="t" r="r" b="b"/>
              <a:pathLst>
                <a:path w="2208" h="1392">
                  <a:moveTo>
                    <a:pt x="0" y="1392"/>
                  </a:moveTo>
                  <a:cubicBezTo>
                    <a:pt x="268" y="1044"/>
                    <a:pt x="536" y="696"/>
                    <a:pt x="864" y="480"/>
                  </a:cubicBezTo>
                  <a:cubicBezTo>
                    <a:pt x="1192" y="264"/>
                    <a:pt x="1744" y="176"/>
                    <a:pt x="1968" y="96"/>
                  </a:cubicBezTo>
                  <a:cubicBezTo>
                    <a:pt x="2192" y="16"/>
                    <a:pt x="2200" y="8"/>
                    <a:pt x="2208" y="0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962520" y="3276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838080" y="2895480"/>
            <a:ext cx="4114800" cy="2364840"/>
            <a:chOff x="838080" y="2895480"/>
            <a:chExt cx="4114800" cy="2364840"/>
          </a:xfrm>
        </p:grpSpPr>
        <p:sp>
          <p:nvSpPr>
            <p:cNvPr id="88" name=""/>
            <p:cNvSpPr/>
            <p:nvPr/>
          </p:nvSpPr>
          <p:spPr>
            <a:xfrm>
              <a:off x="838080" y="2895480"/>
              <a:ext cx="3429000" cy="2133720"/>
            </a:xfrm>
            <a:custGeom>
              <a:avLst/>
              <a:gdLst/>
              <a:ahLst/>
              <a:rect l="l" t="t" r="r" b="b"/>
              <a:pathLst>
                <a:path w="2160" h="1344">
                  <a:moveTo>
                    <a:pt x="0" y="0"/>
                  </a:moveTo>
                  <a:cubicBezTo>
                    <a:pt x="180" y="392"/>
                    <a:pt x="360" y="784"/>
                    <a:pt x="720" y="1008"/>
                  </a:cubicBezTo>
                  <a:cubicBezTo>
                    <a:pt x="1080" y="1232"/>
                    <a:pt x="1620" y="1288"/>
                    <a:pt x="2160" y="134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267080" y="4800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167652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 el espacio p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28600" y="2437920"/>
            <a:ext cx="4419720" cy="3736800"/>
            <a:chOff x="228600" y="2437920"/>
            <a:chExt cx="4419720" cy="3736800"/>
          </a:xfrm>
        </p:grpSpPr>
        <p:sp>
          <p:nvSpPr>
            <p:cNvPr id="93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62120" y="556272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114800" y="5715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562720" y="243828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1*,q1*: equilibrio aisl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67280" y="320040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n el mercado 2 la situación es análo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2590920"/>
            <a:ext cx="2895480" cy="2971800"/>
          </a:xfrm>
          <a:custGeom>
            <a:avLst/>
            <a:gdLst/>
            <a:ahLst/>
            <a:rect l="l" t="t" r="r" b="b"/>
            <a:pathLst>
              <a:path w="2208" h="1392">
                <a:moveTo>
                  <a:pt x="0" y="1392"/>
                </a:moveTo>
                <a:cubicBezTo>
                  <a:pt x="268" y="1044"/>
                  <a:pt x="536" y="696"/>
                  <a:pt x="864" y="480"/>
                </a:cubicBezTo>
                <a:cubicBezTo>
                  <a:pt x="1192" y="264"/>
                  <a:pt x="1744" y="176"/>
                  <a:pt x="1968" y="96"/>
                </a:cubicBezTo>
                <a:cubicBezTo>
                  <a:pt x="2192" y="16"/>
                  <a:pt x="2200" y="8"/>
                  <a:pt x="2208" y="0"/>
                </a:cubicBezTo>
              </a:path>
            </a:pathLst>
          </a:cu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988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O</a:t>
            </a:r>
            <a:r>
              <a:rPr b="0" lang="es-ES_tradnl" sz="2400" spc="-1" strike="noStrike" baseline="30000">
                <a:solidFill>
                  <a:srgbClr val="ff3300"/>
                </a:solidFill>
                <a:latin typeface="Comic Sans MS"/>
              </a:rPr>
              <a:t>(-1)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2286000"/>
            <a:ext cx="3429000" cy="2133720"/>
          </a:xfrm>
          <a:custGeom>
            <a:avLst/>
            <a:gdLst/>
            <a:ahLst/>
            <a:rect l="l" t="t" r="r" b="b"/>
            <a:pathLst>
              <a:path w="2160" h="1344">
                <a:moveTo>
                  <a:pt x="0" y="0"/>
                </a:moveTo>
                <a:cubicBezTo>
                  <a:pt x="180" y="392"/>
                  <a:pt x="360" y="784"/>
                  <a:pt x="720" y="1008"/>
                </a:cubicBezTo>
                <a:cubicBezTo>
                  <a:pt x="1080" y="1232"/>
                  <a:pt x="1620" y="1288"/>
                  <a:pt x="2160" y="134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6708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(-1)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752480" y="3733920"/>
            <a:ext cx="144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761760" y="37339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505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1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5638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1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167652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rcado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213372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Ambos mercados se conect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0" y="2437920"/>
            <a:ext cx="7924680" cy="3813120"/>
            <a:chOff x="0" y="2437920"/>
            <a:chExt cx="7924680" cy="3813120"/>
          </a:xfrm>
        </p:grpSpPr>
        <p:sp>
          <p:nvSpPr>
            <p:cNvPr id="111" name=""/>
            <p:cNvSpPr/>
            <p:nvPr/>
          </p:nvSpPr>
          <p:spPr>
            <a:xfrm flipH="1">
              <a:off x="4419360" y="4800600"/>
              <a:ext cx="14040" cy="762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0" y="2437920"/>
              <a:ext cx="7924680" cy="3813120"/>
              <a:chOff x="0" y="2437920"/>
              <a:chExt cx="7924680" cy="3813120"/>
            </a:xfrm>
          </p:grpSpPr>
          <p:sp>
            <p:nvSpPr>
              <p:cNvPr id="113" name=""/>
              <p:cNvSpPr/>
              <p:nvPr/>
            </p:nvSpPr>
            <p:spPr>
              <a:xfrm flipV="1">
                <a:off x="762120" y="2437920"/>
                <a:ext cx="0" cy="312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62120" y="556272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8600" y="25146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Comic Sans MS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391520" y="57913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Comic Sans MS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715000" y="33526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3300"/>
                    </a:solidFill>
                    <a:latin typeface="Comic Sans MS"/>
                  </a:rPr>
                  <a:t>O</a:t>
                </a:r>
                <a:r>
                  <a:rPr b="0" lang="es-ES_tradnl" sz="2400" spc="-1" strike="noStrike" baseline="30000">
                    <a:solidFill>
                      <a:srgbClr val="ff3300"/>
                    </a:solidFill>
                    <a:latin typeface="Comic Sans MS"/>
                  </a:rPr>
                  <a:t>(-1)</a:t>
                </a:r>
                <a:r>
                  <a:rPr b="0" lang="es-ES_tradnl" sz="2400" spc="-1" strike="noStrike">
                    <a:solidFill>
                      <a:srgbClr val="ff33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895480" y="2971800"/>
                <a:ext cx="3429000" cy="2133720"/>
              </a:xfrm>
              <a:custGeom>
                <a:avLst/>
                <a:gdLst/>
                <a:ahLst/>
                <a:rect l="l" t="t" r="r" b="b"/>
                <a:pathLst>
                  <a:path w="2160" h="1344">
                    <a:moveTo>
                      <a:pt x="0" y="0"/>
                    </a:moveTo>
                    <a:cubicBezTo>
                      <a:pt x="180" y="392"/>
                      <a:pt x="360" y="784"/>
                      <a:pt x="720" y="1008"/>
                    </a:cubicBezTo>
                    <a:cubicBezTo>
                      <a:pt x="1080" y="1232"/>
                      <a:pt x="1620" y="1288"/>
                      <a:pt x="2160" y="1344"/>
                    </a:cubicBezTo>
                  </a:path>
                </a:pathLst>
              </a:custGeom>
              <a:noFill/>
              <a:ln w="93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477120" y="48006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3333cc"/>
                    </a:solidFill>
                    <a:latin typeface="Comic Sans MS"/>
                  </a:rPr>
                  <a:t>D</a:t>
                </a:r>
                <a:r>
                  <a:rPr b="0" lang="es-ES_tradnl" sz="2400" spc="-1" strike="noStrike" baseline="30000">
                    <a:solidFill>
                      <a:srgbClr val="3333cc"/>
                    </a:solidFill>
                    <a:latin typeface="Comic Sans MS"/>
                  </a:rPr>
                  <a:t>(-1)</a:t>
                </a:r>
                <a:r>
                  <a:rPr b="0" lang="es-ES_tradnl" sz="2400" spc="-1" strike="noStrike">
                    <a:solidFill>
                      <a:srgbClr val="3333cc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762120" y="4786200"/>
                <a:ext cx="3643200" cy="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44956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Comic Sans MS"/>
                  </a:rPr>
                  <a:t>p2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038480" y="56386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Comic Sans MS"/>
                  </a:rPr>
                  <a:t>q2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2666880" y="3657600"/>
              <a:ext cx="2971800" cy="1523880"/>
            </a:xfrm>
            <a:custGeom>
              <a:avLst/>
              <a:gdLst/>
              <a:ahLst/>
              <a:rect l="l" t="t" r="r" b="b"/>
              <a:pathLst>
                <a:path w="1872" h="960">
                  <a:moveTo>
                    <a:pt x="0" y="960"/>
                  </a:moveTo>
                  <a:cubicBezTo>
                    <a:pt x="396" y="920"/>
                    <a:pt x="792" y="880"/>
                    <a:pt x="1104" y="720"/>
                  </a:cubicBezTo>
                  <a:cubicBezTo>
                    <a:pt x="1416" y="560"/>
                    <a:pt x="1744" y="120"/>
                    <a:pt x="1872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28600" y="2437920"/>
            <a:ext cx="7696080" cy="3813120"/>
            <a:chOff x="228600" y="2437920"/>
            <a:chExt cx="7696080" cy="3813120"/>
          </a:xfrm>
        </p:grpSpPr>
        <p:sp>
          <p:nvSpPr>
            <p:cNvPr id="126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2120" y="5562720"/>
              <a:ext cx="678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91520" y="57913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5486400" y="213372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Ambos mercados se conect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343400" y="3352680"/>
            <a:ext cx="3352680" cy="1907640"/>
            <a:chOff x="4343400" y="3352680"/>
            <a:chExt cx="3352680" cy="1907640"/>
          </a:xfrm>
        </p:grpSpPr>
        <p:sp>
          <p:nvSpPr>
            <p:cNvPr id="132" name=""/>
            <p:cNvSpPr/>
            <p:nvPr/>
          </p:nvSpPr>
          <p:spPr>
            <a:xfrm>
              <a:off x="5715000" y="335268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0" y="3809880"/>
              <a:ext cx="1752480" cy="1295640"/>
            </a:xfrm>
            <a:custGeom>
              <a:avLst/>
              <a:gdLst/>
              <a:ahLst/>
              <a:rect l="l" t="t" r="r" b="b"/>
              <a:pathLst>
                <a:path w="2160" h="1344">
                  <a:moveTo>
                    <a:pt x="0" y="0"/>
                  </a:moveTo>
                  <a:cubicBezTo>
                    <a:pt x="180" y="392"/>
                    <a:pt x="360" y="784"/>
                    <a:pt x="720" y="1008"/>
                  </a:cubicBezTo>
                  <a:cubicBezTo>
                    <a:pt x="1080" y="1232"/>
                    <a:pt x="1620" y="1288"/>
                    <a:pt x="2160" y="134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477120" y="480060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43400" y="3886200"/>
              <a:ext cx="1295280" cy="1371600"/>
            </a:xfrm>
            <a:custGeom>
              <a:avLst/>
              <a:gdLst/>
              <a:ahLst/>
              <a:rect l="l" t="t" r="r" b="b"/>
              <a:pathLst>
                <a:path w="1872" h="960">
                  <a:moveTo>
                    <a:pt x="0" y="960"/>
                  </a:moveTo>
                  <a:cubicBezTo>
                    <a:pt x="396" y="920"/>
                    <a:pt x="792" y="880"/>
                    <a:pt x="1104" y="720"/>
                  </a:cubicBezTo>
                  <a:cubicBezTo>
                    <a:pt x="1416" y="560"/>
                    <a:pt x="1744" y="120"/>
                    <a:pt x="1872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523880" y="2286000"/>
            <a:ext cx="2286000" cy="1602720"/>
            <a:chOff x="1523880" y="2286000"/>
            <a:chExt cx="2286000" cy="1602720"/>
          </a:xfrm>
        </p:grpSpPr>
        <p:sp>
          <p:nvSpPr>
            <p:cNvPr id="137" name=""/>
            <p:cNvSpPr/>
            <p:nvPr/>
          </p:nvSpPr>
          <p:spPr>
            <a:xfrm>
              <a:off x="1676520" y="2743200"/>
              <a:ext cx="1218960" cy="1143000"/>
            </a:xfrm>
            <a:custGeom>
              <a:avLst/>
              <a:gdLst/>
              <a:ahLst/>
              <a:rect l="l" t="t" r="r" b="b"/>
              <a:pathLst>
                <a:path w="2208" h="1392">
                  <a:moveTo>
                    <a:pt x="0" y="1392"/>
                  </a:moveTo>
                  <a:cubicBezTo>
                    <a:pt x="268" y="1044"/>
                    <a:pt x="536" y="696"/>
                    <a:pt x="864" y="480"/>
                  </a:cubicBezTo>
                  <a:cubicBezTo>
                    <a:pt x="1192" y="264"/>
                    <a:pt x="1744" y="176"/>
                    <a:pt x="1968" y="96"/>
                  </a:cubicBezTo>
                  <a:cubicBezTo>
                    <a:pt x="2192" y="16"/>
                    <a:pt x="2200" y="8"/>
                    <a:pt x="2208" y="0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90920" y="23623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23880" y="2286000"/>
              <a:ext cx="1600200" cy="1143000"/>
            </a:xfrm>
            <a:custGeom>
              <a:avLst/>
              <a:gdLst/>
              <a:ahLst/>
              <a:rect l="l" t="t" r="r" b="b"/>
              <a:pathLst>
                <a:path w="2160" h="1344">
                  <a:moveTo>
                    <a:pt x="0" y="0"/>
                  </a:moveTo>
                  <a:cubicBezTo>
                    <a:pt x="180" y="392"/>
                    <a:pt x="360" y="784"/>
                    <a:pt x="720" y="1008"/>
                  </a:cubicBezTo>
                  <a:cubicBezTo>
                    <a:pt x="1080" y="1232"/>
                    <a:pt x="1620" y="1288"/>
                    <a:pt x="2160" y="134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895480" y="34290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685800" y="579132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¿qué va a suceder con los productores y consumidores de ambos mercad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28600" y="2437920"/>
            <a:ext cx="7848720" cy="3279600"/>
            <a:chOff x="228600" y="2437920"/>
            <a:chExt cx="7848720" cy="3279600"/>
          </a:xfrm>
        </p:grpSpPr>
        <p:sp>
          <p:nvSpPr>
            <p:cNvPr id="144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120" y="5562720"/>
              <a:ext cx="678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543800" y="52578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3809880" y="1600200"/>
            <a:ext cx="32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n M1 se genera exceso de 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58672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Escribir las ecuaciones de exceso de oferta y exceso de 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¿nueva condición de equilibri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523880" y="2438280"/>
            <a:ext cx="2514600" cy="1679040"/>
            <a:chOff x="1523880" y="2438280"/>
            <a:chExt cx="2514600" cy="1679040"/>
          </a:xfrm>
        </p:grpSpPr>
        <p:sp>
          <p:nvSpPr>
            <p:cNvPr id="151" name=""/>
            <p:cNvSpPr/>
            <p:nvPr/>
          </p:nvSpPr>
          <p:spPr>
            <a:xfrm>
              <a:off x="2971800" y="24382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1240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523880" y="2590920"/>
              <a:ext cx="1600200" cy="12952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1600200" y="2666520"/>
              <a:ext cx="1295280" cy="1295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029200" y="3733920"/>
            <a:ext cx="2666880" cy="1831320"/>
            <a:chOff x="5029200" y="3733920"/>
            <a:chExt cx="2666880" cy="1831320"/>
          </a:xfrm>
        </p:grpSpPr>
        <p:sp>
          <p:nvSpPr>
            <p:cNvPr id="156" name=""/>
            <p:cNvSpPr/>
            <p:nvPr/>
          </p:nvSpPr>
          <p:spPr>
            <a:xfrm>
              <a:off x="5943600" y="37339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77120" y="51055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029200" y="4038480"/>
              <a:ext cx="1600200" cy="12956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5105520" y="4114800"/>
              <a:ext cx="1295280" cy="1295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6019920" y="2819520"/>
            <a:ext cx="32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n M2 se genera exceso de o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81080" y="3581280"/>
            <a:ext cx="7621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4343400"/>
            <a:ext cx="7621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08:07:30Z</dcterms:created>
  <dc:creator>Marcela Munizaga</dc:creator>
  <dc:description/>
  <dc:language>en-US</dc:language>
  <cp:lastModifiedBy>Marcela Munizaga</cp:lastModifiedBy>
  <dcterms:modified xsi:type="dcterms:W3CDTF">2007-07-30T15:36:38Z</dcterms:modified>
  <cp:revision>56</cp:revision>
  <dc:subject/>
  <dc:title>Sin título de diapositiva</dc:title>
</cp:coreProperties>
</file>