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D87-CDD1-4178-9CA5-2CCD13EA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2AC-3D26-4D39-91B8-6BD46C5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5C3-CD97-402B-BDB4-9FA66F9D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320-98E5-419E-B489-19BEEA1F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6D4-8E59-4ED6-BF39-DC84FAF3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F37-0F99-4FB4-B68C-7CEB6B69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C0A-7E91-495F-92B7-67B1D072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B33-0442-45BB-8DAE-59229357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6B8-49F1-494F-9DBE-FF0EA41B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B67-80A2-4CCF-9DE4-0F1B5F5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2D3-910B-4003-B525-BB0C79C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71B-EC5D-4783-A322-8D5EC22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E684-6B64-473E-A503-984465761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8-08-01T14:49:29Z</dcterms:modified>
  <cp:revision>37</cp:revision>
  <dc:subject/>
  <dc:title>Definiciones y conceptos básicos</dc:title>
</cp:coreProperties>
</file>