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8B5-A014-450C-B48F-08CC946A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C29-F676-4E1F-BC91-C3FE7CEA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CD5-E263-4710-9825-B01A7B98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AA5-6742-496F-9786-427D6CF0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307-178D-4476-8702-634E528F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151-485C-43D1-8E2A-CFBAE405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A0C-007F-4FD1-B83E-ECFB5960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CA8-738E-4964-AED1-A382AB4F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C44-E4A0-4A5A-99FE-195B9D74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498-EE03-4DD3-B6BE-E89F82A8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C4A-DA22-4791-AA15-F798DAF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AFF-C67F-4113-BFF2-1140C336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8A3D-ED30-49DE-B550-EE2AFF215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8-08-01T14:49:29Z</dcterms:modified>
  <cp:revision>37</cp:revision>
  <dc:subject/>
  <dc:title>Definiciones y conceptos básicos</dc:title>
</cp:coreProperties>
</file>