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7A2-AD2F-42F3-B218-7816C1CC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118-04DA-4FF2-916F-81A4EAC3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F2D-602F-4949-9818-2E77DC92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B04-187E-448D-ACDC-B29C37EA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653-8EB5-4316-8434-C775BBFB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2BE-0BAC-4D0E-AB24-0DB22A00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117-900F-47EA-8785-1926F17F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FB8-D12D-4A3A-8730-FB604161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9E3-D5D3-47A8-9481-42852938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C91-DC96-4782-9EB3-44FB3BD6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0E2-C834-4237-9930-5AF67FD7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534-80DC-40BB-9C25-73F42DDF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8AEA-C13B-4DDD-89CD-C16673C97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8-08-01T14:49:29Z</dcterms:modified>
  <cp:revision>37</cp:revision>
  <dc:subject/>
  <dc:title>Definiciones y conceptos básicos</dc:title>
</cp:coreProperties>
</file>