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D93-5CFC-45E9-97CF-79FDC5DB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513-CFD0-4DE8-8CB5-9A90C34D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020-4B20-45E0-BF5B-972F7AE9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533-D254-4F5D-A978-DC27191F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8A61-DF77-4B58-A817-91E59B85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EC2-9CE7-4D3C-B7B7-E3EFBFBE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C4F-2273-4D1B-9684-5288C23A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A6C-01A9-4A25-9D52-46A2196E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AEB-BE7D-4FFD-B217-23365F40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E38-9007-4273-8D57-3C931CC0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465-B1E1-4805-8070-EDCBEC34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845-2F28-489A-A9DC-B857A286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A1DC-45CE-42F4-A514-98E27DB16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Hugo Si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8-08-01T14:49:29Z</dcterms:modified>
  <cp:revision>37</cp:revision>
  <dc:subject/>
  <dc:title>Definiciones y conceptos básicos</dc:title>
</cp:coreProperties>
</file>