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1711CF-4A02-4E62-B317-E90ED116532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B713A7-97DA-4FA6-9044-E9C541142CC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5A5330-BD1F-4D44-AEA5-5A7516B0A1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A1617B-D409-4FA7-BD38-CD08A937B71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506205-7E5F-4AFF-808C-C4C93E0D6A6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B29668-C02E-4029-A7E0-74A00F9E8AF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FF3392-8720-4571-A2E9-EA4F5981650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42F7BB-CFA5-419A-BBCD-4B669868B5F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662FB4-9149-4915-B053-2968D5D7BF0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BEE8DD-AE99-402C-B725-D75F4513F54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155485-B4BD-44D2-AC36-69FBB9F0FF3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AED9C4-8B69-48A8-BA61-BD1DD71587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BD4584-BDF6-4B64-B279-A14AF36AB2A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82DCA6-6B41-4667-B362-AD897145E69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4CB01D-A989-4163-8FD9-0EC409F5EFE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051AA7-98E3-4F10-BD84-782231C7E8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936D73-F473-4D99-8639-35CE4A892D2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B7C943-F504-4756-BDB9-78B8F14AF8B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074AAC-5764-4CEF-AC87-CF6115E747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7AEAE8-9F11-4FA9-A6A3-644A361542D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18C2BA-7BBD-4E62-988A-AC25DB7F2EF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C41-7B7E-4C8B-8F13-2AC71925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561-4CB4-439F-936D-093BCE0D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15B-1B0D-4094-91E3-DCEFF699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8D6-BB0B-4BB7-976B-9EED296E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219-4309-407C-9CB5-893AF1A0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26A-A868-43B6-8834-FCCB8ED2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521-235D-4FAE-84AE-916DABE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B90-3D8E-46DF-9A5D-D781813B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2DA-924B-41AF-874C-F376166F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9B4-37BA-48A4-A323-652E8AF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4BF-749C-4541-B183-DA53826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5B8-B5C0-48DE-BEC8-C9B2631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96CA-92F1-49BD-9932-E1230C67AD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 (Sherman, 19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ED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eoría HU aplicable a sistema lineal con cualquier 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492360" y="260280"/>
            <a:ext cx="2590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spaci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Obtener HU para tormentas de corta duración (tiempo de desfase 1/4 o 1/3 a 1/5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- T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- 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0000ff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2124000" y="1773360"/>
            <a:ext cx="4267080" cy="2476440"/>
            <a:chOff x="2124000" y="1773360"/>
            <a:chExt cx="4267080" cy="2476440"/>
          </a:xfrm>
        </p:grpSpPr>
        <p:sp>
          <p:nvSpPr>
            <p:cNvPr id="179" name="Line 4"/>
            <p:cNvSpPr/>
            <p:nvPr/>
          </p:nvSpPr>
          <p:spPr>
            <a:xfrm>
              <a:off x="2124000" y="2052360"/>
              <a:ext cx="0" cy="158184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2124000" y="3634560"/>
              <a:ext cx="4178160" cy="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301480" y="2052360"/>
              <a:ext cx="266400" cy="18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2301480" y="2672640"/>
              <a:ext cx="2933640" cy="9615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457440" y="2052360"/>
              <a:ext cx="266400" cy="371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3457440" y="1773360"/>
              <a:ext cx="2933640" cy="1865160"/>
            </a:xfrm>
            <a:prstGeom prst="pie">
              <a:avLst/>
            </a:prstGeom>
            <a:noFill/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2301480" y="3727440"/>
              <a:ext cx="2844360" cy="336240"/>
              <a:chOff x="2301480" y="3727440"/>
              <a:chExt cx="2844360" cy="336240"/>
            </a:xfrm>
          </p:grpSpPr>
          <p:sp>
            <p:nvSpPr>
              <p:cNvPr id="186" name="Text Box 11"/>
              <p:cNvSpPr/>
              <p:nvPr/>
            </p:nvSpPr>
            <p:spPr>
              <a:xfrm>
                <a:off x="3101400" y="372744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H="1">
                <a:off x="2301480" y="391320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>
                <a:off x="3456720" y="391320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4"/>
            <p:cNvGrpSpPr/>
            <p:nvPr/>
          </p:nvGrpSpPr>
          <p:grpSpPr>
            <a:xfrm>
              <a:off x="3546360" y="3913560"/>
              <a:ext cx="2844360" cy="336240"/>
              <a:chOff x="3546360" y="3913560"/>
              <a:chExt cx="2844360" cy="336240"/>
            </a:xfrm>
          </p:grpSpPr>
          <p:sp>
            <p:nvSpPr>
              <p:cNvPr id="190" name="Text Box 15"/>
              <p:cNvSpPr/>
              <p:nvPr/>
            </p:nvSpPr>
            <p:spPr>
              <a:xfrm>
                <a:off x="4346280" y="391356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6"/>
              <p:cNvSpPr/>
              <p:nvPr/>
            </p:nvSpPr>
            <p:spPr>
              <a:xfrm flipH="1">
                <a:off x="3546360" y="4099320"/>
                <a:ext cx="88848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4701600" y="4099320"/>
                <a:ext cx="1689120" cy="0"/>
              </a:xfrm>
              <a:prstGeom prst="line">
                <a:avLst/>
              </a:prstGeom>
              <a:ln w="9360">
                <a:solidFill>
                  <a:srgbClr val="00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18"/>
          <p:cNvSpPr/>
          <p:nvPr/>
        </p:nvSpPr>
        <p:spPr>
          <a:xfrm>
            <a:off x="2581200" y="58118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Q(nΔ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5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6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213" name="Line 10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0000ff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4"/>
          <p:cNvSpPr/>
          <p:nvPr/>
        </p:nvSpPr>
        <p:spPr>
          <a:xfrm>
            <a:off x="3200400" y="3505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9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1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2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8" name="AutoShape 25"/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4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nΔt]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1)Δt]+...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Text Box 7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Arial"/>
              </a:rPr>
              <a:t>n-m+1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=h[(n-M+1)Δ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895480" y="3797280"/>
            <a:ext cx="3962520" cy="1536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1219320" y="4495680"/>
            <a:ext cx="3962160" cy="851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219320" y="784080"/>
            <a:ext cx="6553080" cy="4550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1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8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1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2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684360" y="836640"/>
            <a:ext cx="838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685800"/>
            <a:ext cx="731520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76520" y="4952880"/>
            <a:ext cx="2247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Obtención HU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2971800" y="914400"/>
            <a:ext cx="1905120" cy="88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0000ff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436920" y="4332240"/>
            <a:ext cx="4732200" cy="207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81360" y="33336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105520"/>
                <a:ext cx="4495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4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248520" y="6019920"/>
            <a:ext cx="914400" cy="6858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484360" y="404640"/>
            <a:ext cx="3886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94600" y="1166760"/>
                <a:ext cx="2171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468360" y="2276640"/>
            <a:ext cx="7696080" cy="36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0000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2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2771640" y="1484280"/>
            <a:ext cx="637236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80" name="Rectangle 6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8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83" name="Line 9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2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3"/>
          <p:cNvSpPr/>
          <p:nvPr/>
        </p:nvSpPr>
        <p:spPr>
          <a:xfrm>
            <a:off x="3886200" y="2362320"/>
            <a:ext cx="3657600" cy="15746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τ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1066680" y="4419720"/>
            <a:ext cx="3657600" cy="20574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1666800" y="4743360"/>
            <a:ext cx="3895920" cy="1758960"/>
          </a:xfrm>
          <a:prstGeom prst="pie">
            <a:avLst/>
          </a:pr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990720" y="2627280"/>
            <a:ext cx="4495680" cy="3875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219320" y="99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107" name="Oval 6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0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0"/>
          <p:cNvSpPr/>
          <p:nvPr/>
        </p:nvSpPr>
        <p:spPr>
          <a:xfrm>
            <a:off x="6012000" y="639144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879560"/>
            <a:ext cx="7632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1803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1200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1143000" y="2362320"/>
            <a:ext cx="3657600" cy="1574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62120" y="411480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762120" y="6477120"/>
            <a:ext cx="5410080" cy="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838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1"/>
          <p:cNvSpPr/>
          <p:nvPr/>
        </p:nvSpPr>
        <p:spPr>
          <a:xfrm>
            <a:off x="1143000" y="4419720"/>
            <a:ext cx="4740120" cy="2046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6324480" y="18288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)=1 para </a:t>
            </a:r>
            <a:r>
              <a:rPr b="0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0" lang="es-ES_tradnl" sz="2400" spc="-1" strike="noStrike">
                <a:solidFill>
                  <a:srgbClr val="0000ff"/>
                </a:solidFill>
                <a:latin typeface="Bookman Old Style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Text Box 32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0000ff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Line 34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762120" y="1574640"/>
            <a:ext cx="1440" cy="2362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762120" y="3936960"/>
            <a:ext cx="5410080" cy="1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127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,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019920" y="4089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53" name="Line 13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Freeform 17"/>
          <p:cNvSpPr/>
          <p:nvPr/>
        </p:nvSpPr>
        <p:spPr>
          <a:xfrm>
            <a:off x="1143000" y="1905120"/>
            <a:ext cx="4740120" cy="2046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0 respuesta es g(t)/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0" lang="es-ES_tradnl" sz="18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2209680" y="1582560"/>
            <a:ext cx="4756320" cy="236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1143000" y="4406760"/>
            <a:ext cx="3962520" cy="207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0064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Line 25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)=1/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 para 0≤</a:t>
            </a:r>
            <a:r>
              <a:rPr b="1" lang="es-ES_tradnl" sz="2400" spc="-1" strike="noStrike">
                <a:solidFill>
                  <a:srgbClr val="0000ff"/>
                </a:solidFill>
                <a:latin typeface="Lucida Grande"/>
                <a:ea typeface="Lucida Grande"/>
              </a:rPr>
              <a:t>τ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≤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0000ff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0:14Z</dcterms:created>
  <dc:creator>PUBLISIGA</dc:creator>
  <dc:description/>
  <dc:language>en-US</dc:language>
  <cp:lastModifiedBy>James McPhee</cp:lastModifiedBy>
  <dcterms:modified xsi:type="dcterms:W3CDTF">2008-11-10T14:55:34Z</dcterms:modified>
  <cp:revision>32</cp:revision>
  <dc:subject/>
  <dc:title>titulo</dc:title>
</cp:coreProperties>
</file>