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LATIGO.WAV" ContentType="audio/x-wav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85758C-748B-42BE-A192-795E6598514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4E94F9-B35D-497A-BCEF-1B3C47CF347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908492-C8A0-4B9D-96F8-1AEE2F664E0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4997CF-26CE-494A-AB66-C7DB19AF9C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C1524A-9F80-4A4E-8419-D45E36D193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124F8D-285C-44A6-870E-CDA9DCFC6E6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1EDFD5-1E3F-485C-AC6C-4779B95E565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672D97-F6DD-4DC1-ABF9-E06824F7A63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6418D1-8E31-4C17-93E2-1173E6D793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D4D725-482B-403C-AB9A-0B531A30BF0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E7512F-F268-4A54-886E-A98837944EB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1524BC-577D-498E-A876-BC47B12B596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5F8F9F-19B1-4CB3-AB38-8AB7E75AE22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CFB325-CA86-49C0-9E12-E6856E67E1A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BADB0A-142B-4503-8A10-436F29E3772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61CA14-7E0C-4AAF-BB10-59DA564788D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44993E-E227-4BEF-97A8-5E2C3527376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FF880D-D053-43DB-BD92-1D192014BA8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9A5159-F13A-4989-9F31-E5C74A6CB1A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26B140-82AF-4EC6-A40A-EF35DFBDE74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1D90DE-FB0E-4BD9-849F-AF4C4E4CB2A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DD9897-F468-4E6A-8A3E-99D2CE2A940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D920EA-A9A5-4B7C-B597-EAD3B810D5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232-7617-4C33-82B0-890C8077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0D8-3A5A-4972-A061-3157DB0D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959-1F8E-4474-96BD-1DEEFB8D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42D-C13A-4E96-8314-4A7D4F13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26E-1D5D-48BF-8589-356CF7BB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764-A74F-49D4-A127-1E4FE5AB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0DE-B0D0-4297-8BE8-2A168AF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C7C-AE2B-41C9-9BB6-0C57AC6A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7D1-C3BF-412E-A7C5-B7F20C58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A31-4B10-47A0-B7D9-B2F89EE2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9DB-3DA3-447F-AAEB-6A4D635B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CB8-F063-45B4-A82A-2C298F8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0EF1-33E3-4A49-82E3-8643E11D29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≤u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≤valor máximo&gt;0           si 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905120" y="2362320"/>
            <a:ext cx="647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r>
              <a:rPr b="1" i="1" lang="es-ES_trad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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                                si 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i="1" lang="es-ES_trad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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" name="Text Box 10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 rot="364200">
            <a:off x="838080" y="4571640"/>
            <a:ext cx="838440" cy="838080"/>
          </a:xfrm>
          <a:prstGeom prst="pi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71636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CN) de M pul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tiene escorrentía directa (separación de componentes de hidrograma) de N pul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 Unicode MS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 Unicode MS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146320" y="2273400"/>
                <a:ext cx="39322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º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116000" y="429264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96880" y="276876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82480" y="1397160"/>
            <a:ext cx="8229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ff0000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Line 5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7"/>
          <p:cNvSpPr/>
          <p:nvPr/>
        </p:nvSpPr>
        <p:spPr>
          <a:xfrm>
            <a:off x="5334120" y="4151160"/>
            <a:ext cx="3728880" cy="217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500"/>
                            </p:stCondLst>
                            <p:childTnLst>
                              <p:par>
                                <p:cTn id="8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000"/>
                            </p:stCondLst>
                            <p:childTnLst>
                              <p:par>
                                <p:cTn id="8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500"/>
                            </p:stCondLst>
                            <p:childTnLst>
                              <p:par>
                                <p:cTn id="81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500"/>
                            </p:stCondLst>
                            <p:childTnLst>
                              <p:par>
                                <p:cTn id="8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4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60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971800" y="404640"/>
            <a:ext cx="617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i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4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05120" y="33336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3"/>
          <p:cNvSpPr/>
          <p:nvPr/>
        </p:nvSpPr>
        <p:spPr>
          <a:xfrm>
            <a:off x="2057400" y="2120760"/>
            <a:ext cx="3657600" cy="2984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y 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35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40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5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9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5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Line 17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Text Box 21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 en Km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lood12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GRUPO1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6" name="Text Box 4"/>
          <p:cNvSpPr/>
          <p:nvPr/>
        </p:nvSpPr>
        <p:spPr>
          <a:xfrm>
            <a:off x="5076720" y="333360"/>
            <a:ext cx="313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rupo3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Arial"/>
              </a:rPr>
              <a:t>er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66" name="Freeform 4"/>
            <p:cNvSpPr/>
            <p:nvPr/>
          </p:nvSpPr>
          <p:spPr>
            <a:xfrm>
              <a:off x="641160" y="1498680"/>
              <a:ext cx="3591000" cy="3436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"/>
            <p:cNvSpPr/>
            <p:nvPr/>
          </p:nvSpPr>
          <p:spPr>
            <a:xfrm>
              <a:off x="628560" y="2065680"/>
              <a:ext cx="1569960" cy="249552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"/>
            <p:cNvSpPr/>
            <p:nvPr/>
          </p:nvSpPr>
          <p:spPr>
            <a:xfrm>
              <a:off x="1271520" y="3623040"/>
              <a:ext cx="2562120" cy="73332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"/>
            <p:cNvSpPr/>
            <p:nvPr/>
          </p:nvSpPr>
          <p:spPr>
            <a:xfrm>
              <a:off x="2597040" y="3275280"/>
              <a:ext cx="193680" cy="824040"/>
            </a:xfrm>
            <a:prstGeom prst="pie">
              <a:avLst/>
            </a:pr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"/>
            <p:cNvSpPr/>
            <p:nvPr/>
          </p:nvSpPr>
          <p:spPr>
            <a:xfrm>
              <a:off x="2044440" y="2646720"/>
              <a:ext cx="1084320" cy="525240"/>
            </a:xfrm>
            <a:prstGeom prst="pie">
              <a:avLst/>
            </a:pr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72" name="Group 10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73" name="Oval 11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2"/>
              <p:cNvSpPr/>
              <p:nvPr/>
            </p:nvSpPr>
            <p:spPr>
              <a:xfrm>
                <a:off x="1143000" y="2604960"/>
                <a:ext cx="685800" cy="124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"/>
              <p:cNvSpPr/>
              <p:nvPr/>
            </p:nvSpPr>
            <p:spPr>
              <a:xfrm>
                <a:off x="1825560" y="2438280"/>
                <a:ext cx="1879560" cy="14414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14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5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tiene isoyetas de P diari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edi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scretizar en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9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U(T,t)= H(t)/(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6"/>
          <p:cNvSpPr/>
          <p:nvPr/>
        </p:nvSpPr>
        <p:spPr>
          <a:xfrm>
            <a:off x="4038480" y="4267080"/>
            <a:ext cx="4737240" cy="2403720"/>
          </a:xfrm>
          <a:prstGeom prst="pie">
            <a:avLst/>
          </a:pr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"/>
          <p:cNvSpPr/>
          <p:nvPr/>
        </p:nvSpPr>
        <p:spPr>
          <a:xfrm>
            <a:off x="4114800" y="5410080"/>
            <a:ext cx="4726080" cy="1271880"/>
          </a:xfrm>
          <a:prstGeom prst="pie">
            <a:avLst/>
          </a:pr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505320" y="3352680"/>
            <a:ext cx="1440" cy="1084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504960" y="4114800"/>
            <a:ext cx="34596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7"/>
          <p:cNvSpPr/>
          <p:nvPr/>
        </p:nvSpPr>
        <p:spPr>
          <a:xfrm>
            <a:off x="6553080" y="5105520"/>
            <a:ext cx="914400" cy="3045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1771560" y="3348000"/>
            <a:ext cx="5570640" cy="170352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1957320" y="3454560"/>
            <a:ext cx="5622840" cy="1557000"/>
          </a:xfrm>
          <a:prstGeom prst="pie">
            <a:avLst/>
          </a:pr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1924200" y="3368520"/>
            <a:ext cx="5570280" cy="1675080"/>
          </a:xfrm>
          <a:prstGeom prst="pie">
            <a:avLst/>
          </a:pr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7"/>
          <p:cNvSpPr/>
          <p:nvPr/>
        </p:nvSpPr>
        <p:spPr>
          <a:xfrm>
            <a:off x="3957480" y="2992320"/>
            <a:ext cx="1335240" cy="174960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715040" y="3531960"/>
            <a:ext cx="91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181480" y="402552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D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2438280" y="3505320"/>
            <a:ext cx="728640" cy="387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00600" y="3962520"/>
            <a:ext cx="484200" cy="387360"/>
          </a:xfrm>
          <a:prstGeom prst="pie">
            <a:avLst/>
          </a:pr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676520" y="333360"/>
            <a:ext cx="7467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s múltiplo de D por ejemplo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2362320" y="458784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5"/>
          <p:cNvSpPr/>
          <p:nvPr/>
        </p:nvSpPr>
        <p:spPr>
          <a:xfrm>
            <a:off x="2819520" y="457200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9"/>
          <p:cNvSpPr/>
          <p:nvPr/>
        </p:nvSpPr>
        <p:spPr>
          <a:xfrm>
            <a:off x="2438280" y="3238560"/>
            <a:ext cx="3921120" cy="247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de lluvia de Pef=2mm y de Duración 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4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"/>
          <p:cNvSpPr/>
          <p:nvPr/>
        </p:nvSpPr>
        <p:spPr>
          <a:xfrm>
            <a:off x="2362320" y="458784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5"/>
          <p:cNvSpPr/>
          <p:nvPr/>
        </p:nvSpPr>
        <p:spPr>
          <a:xfrm>
            <a:off x="2819520" y="4572000"/>
            <a:ext cx="3546360" cy="11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9"/>
          <p:cNvSpPr/>
          <p:nvPr/>
        </p:nvSpPr>
        <p:spPr>
          <a:xfrm>
            <a:off x="2438280" y="3238560"/>
            <a:ext cx="3921120" cy="247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de lluvia de Pef=2mm y de Duración 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3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4"/>
          <p:cNvSpPr/>
          <p:nvPr/>
        </p:nvSpPr>
        <p:spPr>
          <a:xfrm>
            <a:off x="2590920" y="4406760"/>
            <a:ext cx="3733560" cy="1308240"/>
          </a:xfrm>
          <a:prstGeom prst="pie">
            <a:avLst/>
          </a:prstGeom>
          <a:solidFill>
            <a:srgbClr val="e1a3c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HU(D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no es múltiplo de D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30" name="Line 4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Freeform 8"/>
          <p:cNvSpPr/>
          <p:nvPr/>
        </p:nvSpPr>
        <p:spPr>
          <a:xfrm>
            <a:off x="1523880" y="3149640"/>
            <a:ext cx="4740480" cy="204624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3048120" y="312408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HS obtenido co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167652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>
            <a:off x="213372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3"/>
          <p:cNvSpPr/>
          <p:nvPr/>
        </p:nvSpPr>
        <p:spPr>
          <a:xfrm>
            <a:off x="2666880" y="4038480"/>
            <a:ext cx="354672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4"/>
          <p:cNvSpPr/>
          <p:nvPr/>
        </p:nvSpPr>
        <p:spPr>
          <a:xfrm>
            <a:off x="320040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5"/>
          <p:cNvSpPr/>
          <p:nvPr/>
        </p:nvSpPr>
        <p:spPr>
          <a:xfrm>
            <a:off x="373392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6"/>
          <p:cNvSpPr/>
          <p:nvPr/>
        </p:nvSpPr>
        <p:spPr>
          <a:xfrm>
            <a:off x="434340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7"/>
          <p:cNvSpPr/>
          <p:nvPr/>
        </p:nvSpPr>
        <p:spPr>
          <a:xfrm>
            <a:off x="5029200" y="4038480"/>
            <a:ext cx="3546360" cy="1127160"/>
          </a:xfrm>
          <a:prstGeom prst="pie">
            <a:avLst/>
          </a:pr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man Old Style"/>
              </a:rPr>
              <a:t>Suma se debe dividir por 1/D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La diferencia de ambos HS desfasados en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, corresponde al HED de lluvia de intensidad unitaria en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496960" y="4572000"/>
                <a:ext cx="35910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Caso Particular D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≈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4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22:59:39Z</dcterms:created>
  <dc:creator>PUBLISIGA</dc:creator>
  <dc:description/>
  <dc:language>en-US</dc:language>
  <cp:lastModifiedBy>James McPhee</cp:lastModifiedBy>
  <dcterms:modified xsi:type="dcterms:W3CDTF">2008-11-14T02:09:47Z</dcterms:modified>
  <cp:revision>30</cp:revision>
  <dc:subject/>
  <dc:title>titulo</dc:title>
</cp:coreProperties>
</file>