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178-1150-441A-AF77-EDE7D351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716-A994-48F8-9416-F1849391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563-57BC-4F61-851C-E7E1E793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EDD-3064-4710-A16D-D034CBF4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8E1-E1D3-4D06-9893-0310CD1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6EF2-301D-4AE7-8A54-93F5972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D25A-6FDB-454D-8CB5-B327476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83A5-47E5-4374-87A3-9362BBD7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FB6D-1D81-44D8-B31A-8692090B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F43A-B900-45B1-9B7B-C8AB5AEF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5A6-E285-46FC-931E-D18EE86C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1B2-A352-4524-B691-0D44ADDB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3BF-9343-404F-9964-CF3F79D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3B57-874C-4076-B666-A53E0C1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5900-E747-4706-A7EE-441D3EFB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690D-23B0-441B-B617-45BADDD4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815-A20E-479B-BA60-639D09B3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5A55-96CA-4886-9FB2-BE722E9F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4F68-F778-436E-8BC0-2C9FFAC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0319-B5C6-4CCC-9F62-FE1879E3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497B-3157-4BD9-BA12-442D3D2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A950-6369-45F6-BCD9-C7FCB98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12A-223F-41C6-96A0-A1EB34D8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4B8C-B03A-4C42-A56E-A426F5A3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EED8-E6FB-47A0-B82F-1D57A32E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190D-58D4-4AD3-A949-B74511F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3F60-6B9E-49A0-A519-DD298E8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3D706-8577-439F-9D17-B1552CE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DD0A-1400-42DD-BF71-7B2643E9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3C47-7177-40CC-B8E3-808D7417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C457-CBE8-4501-B74C-FF0E29D8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BA31-B8F0-4F33-A701-0E0437EC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CCE4-A248-4680-ACB4-1331FC37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221-3B9B-419C-B950-77288AA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8D66-9E94-452C-A1E3-334FC94F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CE8D-B3FE-4E6F-93CF-1389C284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866F-E2F2-48C6-9405-B7DD8CA6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C09B-B78E-4F58-8091-1129AD5D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1550-691C-44B4-A7F1-5DAB011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C888-1F7F-44BB-B77A-F87BD15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6C25-5B43-4006-A7E5-5480F66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BE3C-8DBB-43FE-99F2-7F9B714D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4391-7DED-4A9A-8A16-A9312EAA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C022-1CC3-4BA4-B972-27C979C4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C02-24F7-4A61-A1C0-6E81B70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91BE0-C742-4086-8917-06E7EA7A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81E3-1685-4F68-B22A-4C6D898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B774-55C8-474B-8234-3AF8F509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F272-1E7D-4E1A-954B-9D41BFFB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6A1F-84F2-49D3-917A-EB54FE58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7CEFD-E47C-4FDD-ADA1-A5CE573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BD12-15AA-4A33-AD87-0B76ECF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39F8-D28D-4E5A-ADBF-F568C73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511BF-72B7-4B71-B0D3-934C779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A2309-469F-480D-8F60-DE21F7DE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779-4E0E-44C2-BB64-994B4B1A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CF3B-0FD5-4451-96A2-1AD86E56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7B365-A043-46D1-8632-80E68FB4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D24C-0F63-4860-B358-7090DE7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672F-9DC0-4971-963E-A668CE0B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07B1E-B7BE-4D54-80A3-8CCF8BF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8DB6-E9CF-4720-A540-2EAC7F11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F959-EFA0-45A7-81B2-B468CF8A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211A9-DD88-49B5-AD3F-FC6E82D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AF4A-453B-4650-8436-7CC984F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C71F3-6BCC-4D4D-A224-95460FE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752-021D-4D00-9B14-39679F08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06525-C8B4-45D3-A8C4-7D13E75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D8C35-E0F3-47E1-AABA-675DECBC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6CED-073E-4B13-8E84-E6A2B77C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B591E-5858-4AAD-B89F-54EA91AA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BC2A-722F-45DE-A691-B08156C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C918-55DD-4EE4-B66B-835A24C9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3310B-60BD-44A7-89AC-B6083A06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E44B4-16F4-403A-B8B2-61380251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01C01-AADD-4B44-8039-6F363E0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5EA73-428D-4E48-A9A2-1EB0D12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F2C-C1BD-4C03-BD13-6F332CF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7E4DF-E3AD-4F7A-9CAE-7FD2AB6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4170-DC12-4BFF-9699-FBBFE3E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BD11-2899-4646-BAB8-424DFC66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7C1D0-249F-4780-8BAD-4BE48447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0905-78E9-49D5-8BCE-C88A26C8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EBB9-E0B4-4E72-9474-25F1CDBE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54E7-FE4C-48CC-A7B9-E8C0237C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9C57C-12C4-48EC-839B-2B9D7C33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480E1-6615-49CD-ABEF-6C63547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5A24-E244-451D-B482-EC3019F9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324-30AA-496B-A663-2DF1F5B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E4F9-E5DF-4F3B-9F2F-F667C764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C281-7C0D-4484-915E-C19BE69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E2AA4-3900-4012-AC0D-BB68879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565E-9A5F-42CD-89D9-E4EB42D1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F872-368D-4BAD-8E3B-6DB1BE1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4976D-460C-4FEA-B3E5-F9260270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14C3-2113-401C-858C-C8800607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A3B-E28B-446B-996D-A028B90FCA26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F2D-02F8-4514-A5A1-6BE4E5EF4F8F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D6D-1D59-41D0-970A-3A2E99C08BAD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89B6-FC0F-497B-881E-EC7A7C7F2CCB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391A-730D-49DB-825F-397522E079B5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D498-EC55-4725-B47F-3F35304AFDE8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390A-C333-4306-8AA4-C332D9E52EAE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432-9F6A-44E4-ACCC-9A2C21D26593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31 de Julio del 2008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960"/>
          </a:xfrm>
          <a:prstGeom prst="rect">
            <a:avLst/>
          </a:prstGeom>
          <a:ln w="0">
            <a:noFill/>
          </a:ln>
        </p:spPr>
      </p:pic>
      <p:pic>
        <p:nvPicPr>
          <p:cNvPr id="355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680"/>
            <a:ext cx="243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2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40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 U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esentación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8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5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Incentiv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6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Recordando la clase pas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ML es un lenguaje principalmente gráfic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esarrolla a través de diagramas y artefac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ermite modelar sistemas de software a todo nivel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9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7 Imagen" descr="duke_book.gif"/>
          <p:cNvPicPr/>
          <p:nvPr/>
        </p:nvPicPr>
        <p:blipFill>
          <a:blip r:embed="rId3"/>
          <a:stretch/>
        </p:blipFill>
        <p:spPr>
          <a:xfrm>
            <a:off x="7429680" y="4667400"/>
            <a:ext cx="1054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5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ectura Colaborati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 obtenida del libro 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ML DeMistifyed: A Self Teaching Guide” de Paul Kimme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rucciones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da asistente debe leer una parte de la lectura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uego se deben reunir en parejas para explicar lo leído al compañero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 un plenario, deberá explicar lo aprendido con su compañero ante el resto del curs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0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7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Complement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modelos consisten en diagramas y componentes gráficos, realizados en base a la comprensión del problema y no como resultado de la utilización de  herramient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diagramas entregan diferentes perspectiv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UML define diferentes diagram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 Casos de Uso, de Actividad, de Clases, de Interacción (Secuencia y Colaboración), de Estado, de Componentes, de Distribu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No es necesario desarrollar todos los diagramas, solo los que apoyan al entendimiento y resolución del problem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  <p:grpSp>
        <p:nvGrpSpPr>
          <p:cNvPr id="391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 el paso del tiempo, los sistemas se complej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especializan los requerimien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quiere de un modelamiento más acabad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tamaño de los diagramas podría variar, dependen del nivel de detal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alto nivel de detalle puede llevar a confus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bajo nivel de detalle puede tener escasez de informa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resultado de este proceso es proveer la mayor cantidad posible para mejorar la solución fin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" name="6 Imagen" descr="duke_pencil.gif"/>
          <p:cNvPicPr/>
          <p:nvPr/>
        </p:nvPicPr>
        <p:blipFill>
          <a:blip r:embed="rId3"/>
          <a:stretch/>
        </p:blipFill>
        <p:spPr>
          <a:xfrm>
            <a:off x="7215120" y="5165640"/>
            <a:ext cx="1241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1T23:38:52Z</dcterms:modified>
  <cp:revision>19</cp:revision>
  <dc:subject/>
  <dc:title>CC61J – Taller de UML</dc:title>
</cp:coreProperties>
</file>