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B2A-1401-4461-B81A-E834C297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BDA9-7D1A-4D4E-A979-85AF77D9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6F6-34EA-4F20-AA35-308BE71B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40E2-87CD-4D36-956A-971C8E69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E11E-AD4D-4DF1-B2E5-E09C5492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18EC-0459-44AB-B600-C0040911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3E30-B294-4EDF-98BA-BE538C28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92E5-AC3C-400A-84E1-5B1EFEE1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8B92-858E-4722-8A8C-964C6E8F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E258-728C-4707-A3AF-92E7FE40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49BD-A80E-4A48-8CBD-456AABA8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865-F037-486C-A108-6192227B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8533-435D-4BF4-9B08-7E8E061E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D62D-E028-48A6-A801-96E881FE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EA66-5592-417C-ACF4-140E9658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69B6-5D63-49F2-A256-8A0845E4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8BAA-240C-4E68-AB80-004DF8C9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6F213-A0F1-460B-8389-B7A3A53C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638AF-1822-4215-B9DD-F29410FE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2BFE3-47E6-493F-A99F-F27B1381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91756-5233-4DCF-A2F7-37A09BB0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DEC99-84F3-481E-B4AE-43E5AAD9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99CF-841F-4120-A10F-7C36C7A4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07F13-5C0C-4CEA-BF4B-E1BFE383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BB1BF-D521-4062-A12B-D45BBEF2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12615-4664-48AE-BD39-ECB7CE97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3B93C-A7DE-4C78-B619-60A18AF4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F8101-AE89-4FC0-B67E-11B03E23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D22E3-370E-4183-AD52-2C0597A6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3FC34-AAA5-4412-AF3A-D9E96CBD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199D8-03BA-4981-9926-0CDDA9EF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2DCB0-D511-4F2B-9E44-9EC0779A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F08B1-928B-4113-B84B-B241246C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665-8F4C-429C-9568-C5A938EE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EBD9C-9C2F-4476-A138-6807D856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93D4E-A045-42A5-9DBE-035BD631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3E8C8-30FC-4930-A904-969A3CFF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E2986-C829-481A-86EE-6FB06AB2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4D1AC-ECC6-4878-B98F-D049B1A1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4F80D-23C5-4021-8728-811AEAA3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F373B-BB07-432D-AB19-D8328A9A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F2625-B189-4F6B-B81A-DB7CA595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012F9-23AC-4AEB-B5F3-5BEEED2B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A4D2A-7A36-4CB8-971A-BD87006F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AC76-32A6-441D-B766-3A9EC0BD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E5941-AD9A-4E80-A3F0-36E8EA29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E2FF3-5E1A-45CC-91C9-5FB967E6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AE236-2FF6-42A2-B92F-9B33D1DF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49813-3A7D-4C45-BE7F-6ED87FA1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EEF75-0A67-495C-9E0D-D25DEA83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FF8F3-6DE2-4207-A50B-2A2E72BA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BE6F5-64EA-4FFE-BE2E-95414DCA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40BEC-1FD3-4890-96E9-26B88BB0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0CCEA-900F-4F30-BDB2-77D9E3B7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99DDE-E4A1-49E2-8DA0-56F6B71B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1A90-1D0F-474B-B87A-1BABCB14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FBADF-BF01-458A-84E5-F6159522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42C14-7685-4D86-B46C-024803D1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1AF29-9C54-4ED9-B9F2-E4C15D7E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744B8-5F5A-48EA-B90C-353B16B4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7BBA0-927A-402E-9D06-7C313857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778CA-0736-47AC-A3E7-2BA1BACB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D87EF-212D-4BC9-B4C9-EDC20EB0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ED113-745A-4FE5-AD2A-470422F9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8173A-499D-43FE-83FF-94FF1668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4E4CA-C9EC-4CC5-882D-FEB5ADF8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09FD-A09C-4787-9B60-718FE33D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634D6-A7F3-4330-A85B-9E200AAD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6928C-065F-4858-A408-71423A28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70F34-E6C7-4588-889C-7D47865F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4A3C4-4B8F-4D62-8512-298D1817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B8D26-6341-4359-A709-92A5A5F1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BDCC8-9B87-47BA-8A66-BF443A0A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DE203-9CE4-4480-A973-165377D3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EA22A-CD42-4525-A033-C0978067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9E0AE-FA9C-497D-AE29-DFDCFA6B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BA612-EE87-44CE-A009-AC2EC54D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8D1-0D55-4035-B7D4-9F2EC87E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FAF97-4118-400F-BF8D-7FD789B6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EE1AA-666B-4AC9-A154-5E8591FF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996B0-BBB5-4E28-9E25-C449235B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E3CC0-8C12-4A29-951F-DB3D57E8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DA9F1-B91A-4847-BF41-5C9154E5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3EC37-7641-42C3-AF49-3E4FB6A6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5F7A8-2C19-4D7E-BD58-BD62C894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60429-01D1-4EFB-92CB-F0C5FABA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B45EC-4283-4A34-BDD5-90CF6E4B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FCCA3-3A4D-483D-AB07-0EE647C8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E91C-392C-43CF-8C36-54BAB7E3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6D3E3-947C-40E9-873C-F3FA660E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FFF46-7A81-4227-B4AE-DEC4D89C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4DC37-4381-4893-951C-A10737C1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C4231-C264-4BAA-B958-DC97FE17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6AAD0-13B1-4612-9440-EEC70190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0EA97-2D4D-43EE-B8C5-84D96FAB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31839-5DAE-4866-8DC4-4E76E563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C6F5-4047-46B3-AE1F-A640D15EC370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1ED7-CF98-411D-9CBB-58D8E5EA30B6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370C-152C-4AD8-AFEF-2A805D5E3FFD}" type="slidenum">
              <a:rPr b="0" lang="es-E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CD20-F4E6-4DBD-A61C-FD9C690C41F2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64E9-34D4-4D54-8E6A-DCC4EA707252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2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4557-F3CD-461B-A3D3-604381A0F5E9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2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0238-1FBE-490A-A6D7-CEED507E7511}" type="slidenum">
              <a:rPr b="0" lang="es-E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2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BFBB-C873-4C56-8677-0BC8CBAB7D6E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CC61J – Taller de UM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464653"/>
                </a:solidFill>
                <a:latin typeface="Bookman Old Style"/>
              </a:rPr>
              <a:t>Profesor: Andrés Muñoz Ordenes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464653"/>
                </a:solidFill>
                <a:latin typeface="Bookman Old Style"/>
              </a:rPr>
              <a:t>31 de Julio del 2008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4 Imagen" descr="uml_logo_200x145.gif"/>
          <p:cNvPicPr/>
          <p:nvPr/>
        </p:nvPicPr>
        <p:blipFill>
          <a:blip r:embed="rId1"/>
          <a:stretch/>
        </p:blipFill>
        <p:spPr>
          <a:xfrm>
            <a:off x="6286680" y="1785960"/>
            <a:ext cx="1904760" cy="1380960"/>
          </a:xfrm>
          <a:prstGeom prst="rect">
            <a:avLst/>
          </a:prstGeom>
          <a:ln w="0">
            <a:noFill/>
          </a:ln>
        </p:spPr>
      </p:pic>
      <p:pic>
        <p:nvPicPr>
          <p:cNvPr id="355" name="5 Imagen" descr="logo_dcc.gif"/>
          <p:cNvPicPr/>
          <p:nvPr/>
        </p:nvPicPr>
        <p:blipFill>
          <a:blip r:embed="rId2"/>
          <a:stretch/>
        </p:blipFill>
        <p:spPr>
          <a:xfrm>
            <a:off x="928800" y="1714680"/>
            <a:ext cx="24336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Gracia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Hasta la Próxima Cl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2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403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Agend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Introducción a U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resentación de la Activida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sarrollo de la Activida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lenari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onclusion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58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59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1" name="6 Imagen" descr="duke_hello.gif"/>
          <p:cNvPicPr/>
          <p:nvPr/>
        </p:nvPicPr>
        <p:blipFill>
          <a:blip r:embed="rId3"/>
          <a:stretch/>
        </p:blipFill>
        <p:spPr>
          <a:xfrm>
            <a:off x="6143760" y="2571840"/>
            <a:ext cx="24289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Motivació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Incentivando el Aprendiza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4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65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Motivació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Recordando la clase pasad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UML es un lenguaje principalmente gráfico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 desarrolla a través de diagramas y artefacto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ermite modelar sistemas de software a todo nivel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egoci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ap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Arquitectu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Base de Dat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spliegu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9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70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2" name="7 Imagen" descr="duke_book.gif"/>
          <p:cNvPicPr/>
          <p:nvPr/>
        </p:nvPicPr>
        <p:blipFill>
          <a:blip r:embed="rId3"/>
          <a:stretch/>
        </p:blipFill>
        <p:spPr>
          <a:xfrm>
            <a:off x="7429680" y="4667400"/>
            <a:ext cx="105408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Introducción a UM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Actividad de Trabaj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75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76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Introducción a UM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Lectura Colaborati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Lectura obtenida del libro “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ML DeMistifyed: A Self Teaching Guide” de Paul Kimmel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Instrucciones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ada asistente debe leer una parte de la lectura (10 min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uego se deben reunir en parejas para explicar lo leído al compañero (10 min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n un plenario, deberá explicar lo aprendido con su compañero ante el resto del curs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80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81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3" name="6 Imagen" descr="duke_city.jpg"/>
          <p:cNvPicPr/>
          <p:nvPr/>
        </p:nvPicPr>
        <p:blipFill>
          <a:blip r:embed="rId3"/>
          <a:stretch/>
        </p:blipFill>
        <p:spPr>
          <a:xfrm>
            <a:off x="7000920" y="4500720"/>
            <a:ext cx="1357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Conclusion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Complementando el Aprendiza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86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87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Conclusion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Los modelos consisten en diagramas y componentes gráficos, realizados en base a la comprensión del problema y no como resultado de la utilización de  herramienta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Los diagramas entregan diferentes perspectiva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UML define diferentes diagrama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 Casos de Uso, de Actividad, de Clases, de Interacción (Secuencia y Colaboración), de Estado, de Componentes, de Distribución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No es necesario desarrollar todos los diagramas, solo los que apoyan al entendimiento y resolución del problem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  <p:grpSp>
        <p:nvGrpSpPr>
          <p:cNvPr id="391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92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Conclusion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on el paso del tiempo, los sistemas se complejiz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 especializan los requerimientos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Requiere de un modelamiento más acabado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El tamaño de los diagramas podría variar, dependen del nivel de detal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Un alto nivel de detalle puede llevar a confusión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Un bajo nivel de detalle puede tener escasez de información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El resultado de este proceso es proveer la mayor cantidad posible para mejorar la solución fina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96" name="5 Grupo"/>
          <p:cNvGrpSpPr/>
          <p:nvPr/>
        </p:nvGrpSpPr>
        <p:grpSpPr>
          <a:xfrm>
            <a:off x="6215040" y="214200"/>
            <a:ext cx="2468520" cy="785880"/>
            <a:chOff x="6215040" y="214200"/>
            <a:chExt cx="2468520" cy="785880"/>
          </a:xfrm>
        </p:grpSpPr>
        <p:pic>
          <p:nvPicPr>
            <p:cNvPr id="397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5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4560" cy="7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9" name="6 Imagen" descr="duke_pencil.gif"/>
          <p:cNvPicPr/>
          <p:nvPr/>
        </p:nvPicPr>
        <p:blipFill>
          <a:blip r:embed="rId3"/>
          <a:stretch/>
        </p:blipFill>
        <p:spPr>
          <a:xfrm>
            <a:off x="7215120" y="5165640"/>
            <a:ext cx="124164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és Muñoz O.</cp:lastModifiedBy>
  <dcterms:modified xsi:type="dcterms:W3CDTF">2008-07-31T23:38:52Z</dcterms:modified>
  <cp:revision>19</cp:revision>
  <dc:subject/>
  <dc:title>CC61J – Taller de UML</dc:title>
</cp:coreProperties>
</file>