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B79-6287-4256-B7C1-9D6BBBE3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512-6887-4E40-B45D-55B349BA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42A-C2DD-4B11-BD70-1B777C96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5E9-0295-4D2D-9AEE-E4BD6955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20B0-22D6-41EC-8D71-C510D787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88C0-C8ED-4F5B-ABB7-0AD998D8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D08B-9FB0-446E-8A78-5D95810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1110-BD89-4CAC-AA27-E78458C7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5043-D991-4394-AD63-A305F61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88F0-2067-4ADE-BB86-666917E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1091-5330-47F5-B31A-717FF5F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8BF-428F-4CBF-9BCB-3FC0B6B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45A6-1C7C-45A4-AA1B-BB5A756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C755-60C5-4E58-9EAB-E9A89B9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299-2E30-4A67-8A19-36566BD8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C449-839B-4250-B5B9-789F8107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C8C-50AA-403E-A9FB-494DA0E2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DC55-FEF4-459D-9B69-372012DD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C3D5-AF75-4CF5-A6C6-B5C38C6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9263-4DDC-40B0-8A49-4EBFFA4A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FB93-A8BC-475A-91CF-3256BA94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D9BF-4DCC-4AB7-AFA3-F0A3AFD9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A42-609B-4B07-BC70-3C0545D2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6A87-1C9B-49D3-B110-6A5D35BC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9089-B379-416B-86A7-598056B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D94E-91FB-4612-9D76-4E73305A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8678-C969-4EE9-8126-48F08B1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F20D-3268-4B15-A4A7-4054C528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4929-EAAD-4995-BD5F-3DC0325E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A46F-40CD-4253-93F7-C74507C3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C92B-BF4C-4B25-978F-C52FB4FF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2CF8-598C-4701-A907-057435C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3F76-2EC6-4A5F-9441-E428131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871-13C7-47B9-9B59-0B5AA97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EDC2-ECFC-4417-99F6-1AD0A60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ACE9-91BF-4564-B84B-12B303F5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47FF-FEF0-4CC0-813F-F702A5D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3D1B-AB59-487F-9B82-3E1D35C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54E8-B3F7-4C6D-A4BD-4592A8A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A81C-E918-4A67-9774-F0D6F48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B704-9177-40E5-9031-87AABB8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9AD3-C83F-42D1-806D-0FCD2EA3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63B0-264A-4B54-BDB9-32F6143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E088-894D-42D3-AFB2-4C26EC45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29E-5A9B-4BCE-8443-162AAC6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14DA-CE85-41DF-882F-05E4C0E4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AFAB-AD4E-4EF4-B051-1804181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EF33-DD19-48B8-8EEB-AA61E31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F8129-9B1E-4A78-BF05-72B61DE0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2095-CEC8-4663-AEFA-91E6FD03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E505-1F14-4F40-9955-897B675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232E-4626-4C24-806B-B1CDD88B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805E0-4135-4F10-B489-F3E489E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50A3-760D-4844-BB2F-1DEA90B6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95E1D-3B30-4AB9-BA04-3CC92725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285-5009-420F-A547-C098B35D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2FD1-F666-4237-9739-237C86F4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ED52-FA69-4693-8D47-3846BD5B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83E5-4968-441F-A319-53C73BF6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F6781-F4F2-450C-89E4-454F3F4F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1B13E-ECF3-4B94-8A0D-674CED9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D8AF-0EF9-41F8-877B-6F94F03B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63D44-7B12-4431-8A31-A7517D7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A5EA-12BC-4D64-B8CB-149C7ECA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68AA-8683-4AF5-8785-9C987C1A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6E7C-F1EE-4151-84BB-6802D17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648-203B-441F-B6C9-0D77A42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A7CD-2A2F-496B-8BA3-25D585F0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AAB1B-7BCC-438E-8414-D3D5D10E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3FB98-11A0-49F8-A7B6-09D3BF4E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57F1B-4B63-47AF-9273-EE5BE7F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430C-B018-49C1-94A8-F47034AB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488A-988F-4EA1-BB25-D3D9A6CD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DCA7-5208-4E46-B0FD-CAA29D3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F4027-6865-469E-ACF1-21B654B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567D-03C5-43AC-9CE1-93BCF0E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9BB6-63C2-47F3-9D0D-EC04B98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0F0-6806-4E35-9F22-A626778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AF1E6-5564-4231-B4F1-D15973B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D2C4C-AB64-48B0-A4C7-B1B4D92D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E400-0233-4C9A-BA71-2A4284D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2A1EF-BB09-41AE-8C27-4079F905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E374-BC00-46E0-9172-2182ADCD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61F63-F049-446B-8E6B-5D187C64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AC61-FB9E-4F08-9989-8BD76F5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5F631-EF71-44C7-B05F-ACB9BC3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6A54-7BC0-4420-86B0-973D6E5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20DD5-2372-40BC-B439-6F69CD9F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20D-A5F8-4A74-AC5E-714C3466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0B287-8ECC-4A88-850B-E5F6D874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824B-5AA0-4FB8-80A9-A71D444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CDE24-478D-4887-8D7C-12BFAA0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C3FF2-B9C2-4626-B21C-7660AB0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3187-5012-4111-AC43-C555C25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7AE75-E91A-4C5E-8CED-F8ABB6FA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E20FD-C6AB-4523-A25F-F2BDFEE7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B76D-9EA2-46C0-8B75-7DFA1A18C9F6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D9D-89E2-44ED-9414-D753140B9AC6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4395-5F5D-402B-A68E-7740CD66D3DF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0EDA-14AC-49E9-8D91-17FA77D9293C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869-6F74-4841-A1ED-AD7C3AFD8247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C18-B5D0-46EA-8D6B-435879740A92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6A94-E77B-4A7C-A1C4-E039111833FD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2BAA-A69A-4774-AB38-C01D0B93FD07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31 de Julio del 2008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960"/>
          </a:xfrm>
          <a:prstGeom prst="rect">
            <a:avLst/>
          </a:prstGeom>
          <a:ln w="0">
            <a:noFill/>
          </a:ln>
        </p:spPr>
      </p:pic>
      <p:pic>
        <p:nvPicPr>
          <p:cNvPr id="355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680"/>
            <a:ext cx="243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2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40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 U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esentación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8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5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Incentiv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6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Recordando la clase pas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ML es un lenguaje principalmente gráfic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esarrolla a través de diagramas y artefac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ermite modelar sistemas de software a todo nivel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9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7 Imagen" descr="duke_book.gif"/>
          <p:cNvPicPr/>
          <p:nvPr/>
        </p:nvPicPr>
        <p:blipFill>
          <a:blip r:embed="rId3"/>
          <a:stretch/>
        </p:blipFill>
        <p:spPr>
          <a:xfrm>
            <a:off x="7429680" y="4667400"/>
            <a:ext cx="1054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5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ectura Colaborati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 obtenida del libro 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ML DeMistifyed: A Self Teaching Guide” de Paul Kimme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rucciones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da asistente debe leer una parte de la lectura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uego se deben reunir en parejas para explicar lo leído al compañero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 un plenario, deberá explicar lo aprendido con su compañero ante el resto del curs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0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7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Complement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modelos consisten en diagramas y componentes gráficos, realizados en base a la comprensión del problema y no como resultado de la utilización de  herramient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diagramas entregan diferentes perspectiv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UML define diferentes diagram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 Casos de Uso, de Actividad, de Clases, de Interacción (Secuencia y Colaboración), de Estado, de Componentes, de Distribu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No es necesario desarrollar todos los diagramas, solo los que apoyan al entendimiento y resolución del problem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  <p:grpSp>
        <p:nvGrpSpPr>
          <p:cNvPr id="391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 el paso del tiempo, los sistemas se complej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especializan los requerimien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quiere de un modelamiento más acabad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tamaño de los diagramas podría variar, dependen del nivel de detal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alto nivel de detalle puede llevar a confus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bajo nivel de detalle puede tener escasez de informa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resultado de este proceso es proveer la mayor cantidad posible para mejorar la solución fin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" name="6 Imagen" descr="duke_pencil.gif"/>
          <p:cNvPicPr/>
          <p:nvPr/>
        </p:nvPicPr>
        <p:blipFill>
          <a:blip r:embed="rId3"/>
          <a:stretch/>
        </p:blipFill>
        <p:spPr>
          <a:xfrm>
            <a:off x="7215120" y="5165640"/>
            <a:ext cx="1241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1T23:38:52Z</dcterms:modified>
  <cp:revision>19</cp:revision>
  <dc:subject/>
  <dc:title>CC61J – Taller de UML</dc:title>
</cp:coreProperties>
</file>