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4247-9E1E-45A0-8EDE-83B6EA516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A531-96E2-45AD-AB34-A2B6934F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BAC0-398F-48FB-95FC-2BC4E5588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08C5-6E3B-4EA1-9837-00DC5E102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6FC8-78FD-4536-9295-1039859FA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9FED-22B4-4371-A5B7-C8EA29BC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E909-CBAC-4F07-B5AA-6A0A90EF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BC11-C6D7-4739-AC66-88B14E39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82E9-F678-4164-A698-42063868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4A7A-BA19-4226-9DE6-FFE5CC6F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CA8D-9514-42C9-B804-59725F80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D9DD-EFCF-40F0-BC98-11518760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9258-1921-4684-8FCD-AC45CA0F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7AAB-6588-45F1-B539-8BF3D295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DD91-1C22-49BE-AA43-9907B81B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693D-7CF0-45F1-A7B8-CD54091E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B9CD-2D1F-45B6-9880-14AEDBC52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A3DBC-03A6-4032-95C5-538E4E03B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0DA3E-5EE8-4009-BC1B-A956F84B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41D90-CE9A-4532-8532-AE7B09AD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4C074-781E-4163-9DD8-B83BBFFF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21BD4-51AF-4F60-BEF0-C0252914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A59F-F18A-4EF8-88FE-23C736DE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57282-0D10-476D-97DA-D3C5ED49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DCC0D-9707-4BBE-A338-D515EF90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6C2D2-A4F5-4C67-A0F2-D3EE383E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5944B-FB2E-4725-B488-45FFF894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0E06E-BED1-42F0-BF41-4B7151B1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1BBD9-99B5-429A-BDA3-A027808C5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CAE71-56B6-4C91-BCE9-6BCC4817C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CF8A4-F41C-4A31-B79C-0FB776D21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1A2DB-3F66-4E1F-A4BB-7573D6F1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82AD6-1A32-4904-942F-B99EA22B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48A8-6ACF-4AE4-9A6C-09E33A85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F6A83-C60E-4C5D-ABED-D8E99CA0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978F2-1E1C-4839-A15C-93A92802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8A359-E2B1-46E5-AC13-87A5D49C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9D1D2-FBA1-4202-B25B-F90AF7D2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CC3C0-520D-4504-9A46-8C62EF81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BED6D-CD66-4A6D-97D4-6A317AEB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9057F-D1C6-40D6-A3C5-0CD143E6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E0955-104E-4C2B-BD35-E4C620E11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6D2F1-1211-41EA-AF1E-07EF69403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9E5A2-0A8B-4D54-A43B-55D183172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0C24-5E9B-45B3-8231-F585F4DA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24064-FEC0-43E0-BD75-1C96BC13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4BE8F-6C99-4912-A9E6-48995225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FA004-190D-4376-B4F9-B66472AD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2D73C-42AA-4B47-A06B-58EAB0F7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8F714-31B5-4BB7-B346-F75DDA76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A1E2B-BEE5-4A12-9D62-DB70D30E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24DC7-F072-4D33-B2D9-AE93C915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DFB6F-74D8-4F44-AE5C-70AFA975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ECEC5-4694-484B-A912-2BD6F388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440A2-6335-4CC7-9857-FFFC120DF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028A-C219-4FDD-9B55-49F71525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E746B-35CA-41F0-8AE3-2EE3586FE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126FE-4BB7-47E8-A24D-1256BFE96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747B9-845F-4B5D-B53E-D5F83036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100D8-7ED0-48E8-BE9B-3AB288D5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50F29-F358-4A29-8F95-AF795D88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F229A-4664-49F3-BF3F-3ED20494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770A8-24ED-4E2F-AB57-245D8B13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B6184-E67A-4200-B3DF-8EC9B3CA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CBD1D-E3D8-4AF3-B20F-5646EE17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6B930-7258-4C7F-AFA2-9744D837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7E3B-193B-4404-B42B-E9D02C86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D61DB-6BE4-44DA-8DBB-BCB7E441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65125-764B-41AA-8DD4-BFCA992A2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FAA79-AD70-45D5-A7C1-B22121726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91666-8C2A-4CBC-89F9-5014F1E92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DC11D-8836-4780-BF22-CD847D64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07E4C-D0F8-45C5-9E27-E4473C3E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FB7F4-C88C-4D11-8781-B28902E2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1F441-1F72-4F4E-BA7C-EF08A244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4657D-1CF5-47D3-9048-6EB6344B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6415E-4A91-4AC3-8B8B-D7EB2E0F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D3EC-3F2B-4BDB-AFA1-5340B93F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941B9-B1A4-4FF6-BD93-91E9A0D8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A3504-240D-431C-8C94-5FD4F833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1539D-2D6B-43EB-A4B7-B274B207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03920-F939-47E1-9C22-6CA5BA06C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13EDC-9454-4067-A262-086B2D53F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D89DC-315B-4903-BE8E-486A4DD0C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8D944-9791-4EEF-AE37-15096073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10789-D382-455D-B822-A858AF8C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05417-ADD0-485E-B6F9-5642AB31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56433-6B9B-4DC2-A8DD-8428FADF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BE20-65C4-41A0-BE4C-F0EE7F10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0E85F-374B-44AE-85F5-30ED7863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56C7A-E2BC-4803-9A46-4A49F68B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8F351-C435-4A7C-9139-15DC04DA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1F074-06B2-4FD2-8984-622195A9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75617-2F41-45B8-A2AA-6EB8C620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1BDBA-10C2-4169-AB6C-DD251C437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8D8AE-35D4-405B-A1AB-5C5B0538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73E0-10F1-4FC9-B839-AACFDAC3BA56}" type="slidenum"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Rectángulo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1 Rectángulo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2 Rectángulo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14 Rectángulo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35AE-4502-48BC-8CCC-066250A27F9E}" type="slidenum"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Rectángulo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1 Rectángulo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D67C-67C0-4D7B-9E44-AFC8F50CBE45}" type="slidenum">
              <a:rPr b="0" lang="es-E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10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E43A-B147-4732-B577-89BEB7E04C29}" type="slidenum"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38AD-17C5-49E1-9777-A84ACC09C647}" type="slidenum"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11 Conector recto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12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87E8-3243-413F-B0EE-064ABEB5C6AA}" type="slidenum"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12 Rectángulo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BBA6-008D-409F-B7A1-7CCA31AE820D}" type="slidenum">
              <a:rPr b="0" lang="es-E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12 Conector recto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9A40-4A78-433F-9E03-0A70D9090319}" type="slidenum"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man Old Style"/>
              </a:rPr>
              <a:t>CC61J – Taller de UM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464653"/>
                </a:solidFill>
                <a:latin typeface="Bookman Old Style"/>
              </a:rPr>
              <a:t>Profesor: Andrés Muñoz Ordenes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464653"/>
                </a:solidFill>
                <a:latin typeface="Bookman Old Style"/>
              </a:rPr>
              <a:t>31 de Julio del 2008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4 Imagen" descr="uml_logo_200x145.gif"/>
          <p:cNvPicPr/>
          <p:nvPr/>
        </p:nvPicPr>
        <p:blipFill>
          <a:blip r:embed="rId1"/>
          <a:stretch/>
        </p:blipFill>
        <p:spPr>
          <a:xfrm>
            <a:off x="6286680" y="1785960"/>
            <a:ext cx="1904760" cy="1380960"/>
          </a:xfrm>
          <a:prstGeom prst="rect">
            <a:avLst/>
          </a:prstGeom>
          <a:ln w="0">
            <a:noFill/>
          </a:ln>
        </p:spPr>
      </p:pic>
      <p:pic>
        <p:nvPicPr>
          <p:cNvPr id="355" name="5 Imagen" descr="logo_dcc.gif"/>
          <p:cNvPicPr/>
          <p:nvPr/>
        </p:nvPicPr>
        <p:blipFill>
          <a:blip r:embed="rId2"/>
          <a:stretch/>
        </p:blipFill>
        <p:spPr>
          <a:xfrm>
            <a:off x="928800" y="1714680"/>
            <a:ext cx="24336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man Old Style"/>
              </a:rPr>
              <a:t>Gracia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4653"/>
                </a:solidFill>
                <a:latin typeface="Bookman Old Style"/>
              </a:rPr>
              <a:t>Hasta la Próxima Clas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02" name="5 Grupo"/>
          <p:cNvGrpSpPr/>
          <p:nvPr/>
        </p:nvGrpSpPr>
        <p:grpSpPr>
          <a:xfrm>
            <a:off x="6215040" y="214200"/>
            <a:ext cx="2468520" cy="785880"/>
            <a:chOff x="6215040" y="214200"/>
            <a:chExt cx="2468520" cy="785880"/>
          </a:xfrm>
        </p:grpSpPr>
        <p:pic>
          <p:nvPicPr>
            <p:cNvPr id="403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52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4560" cy="78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Agend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Motivació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Introducción a U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Presentación de la Actividad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Desarrollo de la Actividad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Plenario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onclusion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58" name="5 Grupo"/>
          <p:cNvGrpSpPr/>
          <p:nvPr/>
        </p:nvGrpSpPr>
        <p:grpSpPr>
          <a:xfrm>
            <a:off x="6215040" y="214200"/>
            <a:ext cx="2468520" cy="785880"/>
            <a:chOff x="6215040" y="214200"/>
            <a:chExt cx="2468520" cy="785880"/>
          </a:xfrm>
        </p:grpSpPr>
        <p:pic>
          <p:nvPicPr>
            <p:cNvPr id="359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52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4560" cy="78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1" name="6 Imagen" descr="duke_hello.gif"/>
          <p:cNvPicPr/>
          <p:nvPr/>
        </p:nvPicPr>
        <p:blipFill>
          <a:blip r:embed="rId3"/>
          <a:stretch/>
        </p:blipFill>
        <p:spPr>
          <a:xfrm>
            <a:off x="6143760" y="2571840"/>
            <a:ext cx="24289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man Old Style"/>
              </a:rPr>
              <a:t>Motivació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4653"/>
                </a:solidFill>
                <a:latin typeface="Bookman Old Style"/>
              </a:rPr>
              <a:t>Incentivando el Aprendiza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4" name="5 Grupo"/>
          <p:cNvGrpSpPr/>
          <p:nvPr/>
        </p:nvGrpSpPr>
        <p:grpSpPr>
          <a:xfrm>
            <a:off x="6215040" y="214200"/>
            <a:ext cx="2468520" cy="785880"/>
            <a:chOff x="6215040" y="214200"/>
            <a:chExt cx="2468520" cy="785880"/>
          </a:xfrm>
        </p:grpSpPr>
        <p:pic>
          <p:nvPicPr>
            <p:cNvPr id="365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52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4560" cy="78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Motivació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Recordando la clase pasad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UML es un lenguaje principalmente gráfico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Se desarrolla a través de diagramas y artefactos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Permite modelar sistemas de software a todo nivel: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egoci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omportamient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ap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Arquitectur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Base de Dato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Despliegu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9" name="5 Grupo"/>
          <p:cNvGrpSpPr/>
          <p:nvPr/>
        </p:nvGrpSpPr>
        <p:grpSpPr>
          <a:xfrm>
            <a:off x="6215040" y="214200"/>
            <a:ext cx="2468520" cy="785880"/>
            <a:chOff x="6215040" y="214200"/>
            <a:chExt cx="2468520" cy="785880"/>
          </a:xfrm>
        </p:grpSpPr>
        <p:pic>
          <p:nvPicPr>
            <p:cNvPr id="370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52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4560" cy="78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2" name="7 Imagen" descr="duke_book.gif"/>
          <p:cNvPicPr/>
          <p:nvPr/>
        </p:nvPicPr>
        <p:blipFill>
          <a:blip r:embed="rId3"/>
          <a:stretch/>
        </p:blipFill>
        <p:spPr>
          <a:xfrm>
            <a:off x="7429680" y="4667400"/>
            <a:ext cx="1054080" cy="14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man Old Style"/>
              </a:rPr>
              <a:t>Introducción a UM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4653"/>
                </a:solidFill>
                <a:latin typeface="Bookman Old Style"/>
              </a:rPr>
              <a:t>Actividad de Trabaj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75" name="5 Grupo"/>
          <p:cNvGrpSpPr/>
          <p:nvPr/>
        </p:nvGrpSpPr>
        <p:grpSpPr>
          <a:xfrm>
            <a:off x="6215040" y="214200"/>
            <a:ext cx="2468520" cy="785880"/>
            <a:chOff x="6215040" y="214200"/>
            <a:chExt cx="2468520" cy="785880"/>
          </a:xfrm>
        </p:grpSpPr>
        <p:pic>
          <p:nvPicPr>
            <p:cNvPr id="376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52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4560" cy="78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Introducción a UM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Lectura Colaborativ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Lectura obtenida del libro “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UML DeMistifyed: A Self Teaching Guide” de Paul Kimmel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Instrucciones: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ada asistente debe leer una parte de la lectura (10 min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uego se deben reunir en parejas para explicar lo leído al compañero (10 min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n un plenario, deberá explicar lo aprendido con su compañero ante el resto del curso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80" name="5 Grupo"/>
          <p:cNvGrpSpPr/>
          <p:nvPr/>
        </p:nvGrpSpPr>
        <p:grpSpPr>
          <a:xfrm>
            <a:off x="6215040" y="214200"/>
            <a:ext cx="2468520" cy="785880"/>
            <a:chOff x="6215040" y="214200"/>
            <a:chExt cx="2468520" cy="785880"/>
          </a:xfrm>
        </p:grpSpPr>
        <p:pic>
          <p:nvPicPr>
            <p:cNvPr id="381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52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4560" cy="78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3" name="6 Imagen" descr="duke_city.jpg"/>
          <p:cNvPicPr/>
          <p:nvPr/>
        </p:nvPicPr>
        <p:blipFill>
          <a:blip r:embed="rId3"/>
          <a:stretch/>
        </p:blipFill>
        <p:spPr>
          <a:xfrm>
            <a:off x="7000920" y="4500720"/>
            <a:ext cx="1357200" cy="14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man Old Style"/>
              </a:rPr>
              <a:t>Conclusion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4653"/>
                </a:solidFill>
                <a:latin typeface="Bookman Old Style"/>
              </a:rPr>
              <a:t>Complementando el Aprendiza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86" name="5 Grupo"/>
          <p:cNvGrpSpPr/>
          <p:nvPr/>
        </p:nvGrpSpPr>
        <p:grpSpPr>
          <a:xfrm>
            <a:off x="6215040" y="214200"/>
            <a:ext cx="2468520" cy="785880"/>
            <a:chOff x="6215040" y="214200"/>
            <a:chExt cx="2468520" cy="785880"/>
          </a:xfrm>
        </p:grpSpPr>
        <p:pic>
          <p:nvPicPr>
            <p:cNvPr id="387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52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4560" cy="78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Conclusion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Los modelos consisten en diagramas y componentes gráficos, realizados en base a la comprensión del problema y no como resultado de la utilización de  herramienta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Los diagramas entregan diferentes perspectiva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UML define diferentes diagrama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36400" indent="-2671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De Casos de Uso, de Actividad, de Clases, de Interacción (Secuencia y Colaboración), de Estado, de Componentes, de Distribución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No es necesario desarrollar todos los diagramas, solo los que apoyan al entendimiento y resolución del problema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36400" indent="-26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</p:txBody>
      </p:sp>
      <p:grpSp>
        <p:nvGrpSpPr>
          <p:cNvPr id="391" name="5 Grupo"/>
          <p:cNvGrpSpPr/>
          <p:nvPr/>
        </p:nvGrpSpPr>
        <p:grpSpPr>
          <a:xfrm>
            <a:off x="6215040" y="214200"/>
            <a:ext cx="2468520" cy="785880"/>
            <a:chOff x="6215040" y="214200"/>
            <a:chExt cx="2468520" cy="785880"/>
          </a:xfrm>
        </p:grpSpPr>
        <p:pic>
          <p:nvPicPr>
            <p:cNvPr id="392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52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4560" cy="78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Conclusion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on el paso del tiempo, los sistemas se complejiz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Se especializan los requerimientos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Requiere de un modelamiento más acabado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El tamaño de los diagramas podría variar, dependen del nivel de detall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Un alto nivel de detalle puede llevar a confusión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Un bajo nivel de detalle puede tener escasez de información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El resultado de este proceso es proveer la mayor cantidad posible para mejorar la solución final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96" name="5 Grupo"/>
          <p:cNvGrpSpPr/>
          <p:nvPr/>
        </p:nvGrpSpPr>
        <p:grpSpPr>
          <a:xfrm>
            <a:off x="6215040" y="214200"/>
            <a:ext cx="2468520" cy="785880"/>
            <a:chOff x="6215040" y="214200"/>
            <a:chExt cx="2468520" cy="785880"/>
          </a:xfrm>
        </p:grpSpPr>
        <p:pic>
          <p:nvPicPr>
            <p:cNvPr id="397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52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4560" cy="78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9" name="6 Imagen" descr="duke_pencil.gif"/>
          <p:cNvPicPr/>
          <p:nvPr/>
        </p:nvPicPr>
        <p:blipFill>
          <a:blip r:embed="rId3"/>
          <a:stretch/>
        </p:blipFill>
        <p:spPr>
          <a:xfrm>
            <a:off x="7215120" y="5165640"/>
            <a:ext cx="124164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és Muñoz O.</cp:lastModifiedBy>
  <dcterms:modified xsi:type="dcterms:W3CDTF">2008-07-31T23:38:52Z</dcterms:modified>
  <cp:revision>19</cp:revision>
  <dc:subject/>
  <dc:title>CC61J – Taller de UML</dc:title>
</cp:coreProperties>
</file>