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ECA-2984-4DB1-B586-2E4773A2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945-CFEA-4593-A6D2-7BA172C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09A-8F56-43D9-9D59-6D3B01BD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D68-278D-453B-9A8F-D6769A3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C12-589F-4E41-B6BB-AEA722E7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F2C-5CA6-4959-BFB5-3F01433E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5CF-89B2-4C88-8455-9BDF73A3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428-632A-4460-B235-A76CDC7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BB73-A6F8-4862-83B7-C599784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3AE4-C1E9-4D60-93AB-07BD4BC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E466-BDE9-446C-AD47-6B0C5B6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063-ED21-46B3-AE50-AC438034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64CD-A7CA-4258-80BC-98B965E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CB6D-0C3F-4E83-AFD0-0D1FFC9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BD8-D3AA-419A-AD6D-530FC55B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66E8-28B6-438F-BCA5-9F3362D7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776F-61B8-48E7-B653-0CE911C0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A91C-1A8F-4DBB-BA5C-6534F381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407E-DE9E-4A24-BB11-8BA02C2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E6B8-708D-4619-A959-6C052075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CA33-F9A1-4D67-8AFD-D345A5C7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0E07-7F47-496A-BC6C-ED4D03F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010-B2DB-4782-BD70-5FDFC22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318C-F847-4DF1-8860-D64CCAF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E9DE-20E6-441D-9458-DB33B64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05FF-9496-4A79-95A3-C4DBDE4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BE1E-B518-4B20-9BA8-8308BA0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EAEF-7F59-489E-B297-44C3D32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FC00-18FF-4E6E-B47F-4DC10757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2D51-A7BB-4D0D-AEA1-FF2C66C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2D4-68A5-4750-BB1E-3DFF1BD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537-912F-4D03-9BA3-59E4C0E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D1D-92B8-4687-9ECC-D968C29E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56D-1917-40AD-982A-DFFE4AC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9B4-9D9B-4CC4-B462-C078C3B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09B-54BB-47D8-A411-1CCC7A3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9 Triángulo isósceles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A03531-1853-4EFA-A69A-95DF3996E82C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20 Rectángulo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32 Rectángulo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21 Rectángulo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31 Rectángulo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045C320-E107-4BEA-BF90-BC629E81E6C3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C15A433-0382-434F-9EC2-E3212B0068E1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29 de Juli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600"/>
          </a:xfrm>
          <a:prstGeom prst="rect">
            <a:avLst/>
          </a:prstGeom>
          <a:ln w="0">
            <a:noFill/>
          </a:ln>
        </p:spPr>
      </p:pic>
      <p:pic>
        <p:nvPicPr>
          <p:cNvPr id="140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320"/>
            <a:ext cx="243288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n 1994 Rumbaugh se unió a Rational (donde se desempeñaba Booch), y comenzaron a trabajar en la unificación de sus métod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 1995 Booch y Rumbaugh presentaron el “método unificado”, basado en la unión de sus méto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osteriormente Jacobson se unió a Rational, y en 1997 Rational entregó una definición de Unified Modeling Language a OMG (Object Management Group, http://www.omg.or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7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8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6 Imagen" descr="duke_guide.gif"/>
          <p:cNvPicPr/>
          <p:nvPr/>
        </p:nvPicPr>
        <p:blipFill>
          <a:blip r:embed="rId3"/>
          <a:stretch/>
        </p:blipFill>
        <p:spPr>
          <a:xfrm>
            <a:off x="6786720" y="4786200"/>
            <a:ext cx="1456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ML (Unified Modeling Language) es hoy la notación estándar para el modelamiento de aplicaciones con tecnologías orientadas a objetos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ctualmente se encuentra en su versión 2.0 (aparecida en octubre del año 2004), y es mantenido por OMG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isten diversas herramientas (CASE) que soportan UML, entre las que se cuentan: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Rational Rose, WebSphere Application Developer Studio, Rational Software Architect, etc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Borland Togeth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Enterprise Architect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Sybase PowerDesign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Poseidon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ArgoUM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Descripción del Curso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19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Objetivos y Metodolog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Objetiv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render los conceptos más importantes del modelamiento orientado a objeto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tener la experiencia de utilizar una herramienta CASE para el modelamiento d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so intensivo del lenguaje de modelamiento UML notación 2.0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ejercicios prácticos que serán modelados usando este lenguaje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utoaprendizaje durante cada sesión del curs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tenido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l UML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Gestión de Requerimient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asos de U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eriotip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Proceso Unificado Rational (RUP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agramas y Model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 y 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anci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ad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nen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stribu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Evaluaci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oyecto del Curso (7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rá entregado al principio del curso (segunda semana)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ivide en 4 entregas, cada una vale el 25% de la nota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a pauta será entregada junto al enunciad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jercicios (3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s en 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1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6840" cy="14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Bibliograf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The Unified Modeling Language Reference Manua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uía del Usuario del Lenguaje Unificado de Modelado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Craig Larma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y Patron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rtin Fowler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Gota a G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DeMistifyed: A Self Teaching Gui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05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erdita Steven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tilización de UML en Ingeniería de Softwa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Kim Hamilton, Russell Mil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earning UML 2.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’Reall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nual de UML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ike O’Dochert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bject Oriented Analysis and Desig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aúl Alarc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Diseño Orientado a Objetos con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rupo Eidos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0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¿Qué es UML?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alizar Actividad de Trabaj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 del Cur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finición Forma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seña Históric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escripción del Curso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jetivos y Metodolog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eni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valuaci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Bibliograf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4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Presentacion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ón del Profes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ofesor Part-Tim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Trabaja en el Ministerio de Salu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acto: andmunoz@dcc.uchile.c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 de Alumn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Quiénes son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Por qué inscribieron el curso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strucciones (15 min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ar mapa de ideas con lo que sabe sobr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apa de Ideas: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iagrama en donde el concepto principal es el centro del diagrama y se descompone en los diferentes conceptos relacionados que lo rodean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1714320" y="3501000"/>
            <a:ext cx="6071760" cy="279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deas de Concep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nguaj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odel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 y Obje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labor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atr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rtefac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Factor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intaxi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read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ot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Pl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efinición Forma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1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nified Modeling Language (UML) is a graphical language for visualizing, specifying, constructing, and documenting the artifacts of a software-intensive system. The UML offers a standard way to write a system's blueprints, including conceptual things such as business processes and system functions as well as concrete things such as programming language statements, database schemas, and reusable software components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ML represents the culmination of best practices in practical object-oriented modeling. The UML is the product of several years of hard work, in which we focused on bringing about a unification of the methods most used around the world, the adoption of good ideas from many quarters of the industry, and, above all, a concentrated effort to make things simple.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ficación de UML 1.5, Foreword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ch, Jacobson, Rumbaugh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6 Imagen" descr="duke_thinking.gif"/>
          <p:cNvPicPr/>
          <p:nvPr/>
        </p:nvPicPr>
        <p:blipFill>
          <a:blip r:embed="rId3"/>
          <a:stretch/>
        </p:blipFill>
        <p:spPr>
          <a:xfrm flipH="1">
            <a:off x="857520" y="5072040"/>
            <a:ext cx="975960" cy="96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A comienzos de los años '90 aparecieron múltiples metodologías y notaciones gráficas para análisis y diseño orientados a obje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Grady Booch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James Rumbaugh: OMT (Object Modeling Technique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var Jacobson: OOSE (Object-Oriented Software </a:t>
            </a: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gineerin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ter Coad y Edward Yourd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lly Shlaer y Stephen Mell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2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8</TotalTime>
  <Application>LibreOffice/7.4.7.2$Linux_X86_64 LibreOffice_project/40$Build-2</Application>
  <AppVersion>15.0000</AppVersion>
  <Words>522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0T03:03:39Z</dcterms:modified>
  <cp:revision>11</cp:revision>
  <dc:subject/>
  <dc:title>CC61J – Taller de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7</vt:r8>
  </property>
</Properties>
</file>