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media/image2.gif" ContentType="image/gif"/>
  <Override PartName="/ppt/media/image7.jpeg" ContentType="image/jpeg"/>
  <Override PartName="/ppt/media/image3.gif" ContentType="image/gif"/>
  <Override PartName="/ppt/media/image4.png" ContentType="image/png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6374-1A59-45D0-940D-7F9C80769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D950-9492-4546-97C7-72F50806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9243-558E-44F3-A89C-4A0E8FA55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16AE-8DDA-4783-B38C-7906486C8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8A763-0C98-40B9-A77F-E51B43DBD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1E5D-6EDD-4F26-AAA0-9C9394E3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5C65-ABA7-4703-B035-54B3689C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07C5-D41C-47C2-AB41-D7E03EE6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E4F3-7378-4524-8CE6-0327FC84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8576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BDF7-CB69-4B4F-8CA5-814F1B91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F30A-C33D-4A9C-8ED7-A9C1534C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1D35-C915-4A12-B3D1-0762C243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E3F54-CBCC-4D49-94A9-E2516145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2157-7514-4D8A-BE5E-40C72DDF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5685-C8F0-42B6-BE9A-BF3D9A4B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09986-96ED-4D1F-9676-F82476D06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811D-E501-4C3F-A486-299102771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35AF7-148C-4451-AB1C-E6BC59A62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7E051-9DE5-4F0E-B979-CE4F5D09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7469A-C437-44D4-AB02-4352AA7F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01437-C92F-4488-B7DB-71282C45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ACFE1-16BF-43AB-8BA5-66DDEFAE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4C83-0AED-42E5-8D2C-38CCD7EA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8576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45EF6-BF65-416F-8BEB-69269F6B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1A7B6-6BAC-4DD2-8014-7FA51E23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37542-ADF9-4DAC-B135-0BBECA5B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C75F4-82B1-418D-A828-E1E6A7BE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4C5E9-E1E3-4C3B-B46D-0217B264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21ED7-550C-455C-A869-CD776BEB9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B9757-6A08-4F71-9428-4E9F36287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6E74-DD7F-4672-9AB3-3330AECA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401B-45F3-433F-83D8-DA164A5F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8576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09C8-CFBA-4CCF-BB4D-9541ADE5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4BD2-1FE4-4F54-A851-8B02D176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3B93-B1A1-4687-9B5A-4BC22F08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9932-65BA-4E4B-B372-9C8FBA80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27 Conector recto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28 Conector recto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9 Triángulo isósceles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000000"/>
                </a:solidFill>
                <a:latin typeface="Bookman Old Style"/>
              </a:rPr>
              <a:t>Haga clic para modificar el estilo de título del patrón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D7E881C-1EDF-4306-A93C-537EC0C59FC9}" type="slidenum"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20 Rectángulo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32 Rectángulo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21 Rectángulo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31 Rectángulo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s-E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27 Conector recto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28 Conector recto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9 Triángulo isósceles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Haga clic para modificar el estilo de título del patrón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C0897CD-C3F7-4479-89FD-DCCE97AD9C29}" type="slidenum"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Haga clic para modificar el estilo de texto del patrón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Segundo nivel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Tercer ni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Cuarto nivel</a:t>
            </a: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Quinto nivel</a:t>
            </a:r>
            <a:endParaRPr b="0" lang="es-E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27 Conector recto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28 Conector recto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9 Triángulo isósceles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Haga clic para modificar el estilo de título del patrón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99CA67B-54E7-4F30-B7A3-2D5F17491B23}" type="slidenum"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Haga clic para modificar el estilo de texto del patrón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Segundo nivel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Tercer ni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Cuarto nivel</a:t>
            </a: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Quinto nivel</a:t>
            </a:r>
            <a:endParaRPr b="0" lang="es-E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body"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Haga clic para modificar el estilo de texto del patrón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Segundo nivel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Tercer ni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Cuarto nivel</a:t>
            </a: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Quinto nivel</a:t>
            </a:r>
            <a:endParaRPr b="0" lang="es-E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000000"/>
                </a:solidFill>
                <a:latin typeface="Bookman Old Style"/>
              </a:rPr>
              <a:t>CC61J – Taller de UML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5000"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s-ES" sz="2400" spc="-1" strike="noStrike">
                <a:solidFill>
                  <a:srgbClr val="464653"/>
                </a:solidFill>
                <a:latin typeface="Bookman Old Style"/>
              </a:rPr>
              <a:t>Profesor: Andrés Muñoz Ord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s-ES" sz="2400" spc="-1" strike="noStrike">
                <a:solidFill>
                  <a:srgbClr val="464653"/>
                </a:solidFill>
                <a:latin typeface="Bookman Old Style"/>
              </a:rPr>
              <a:t>29 de Julio del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4 Imagen" descr="uml_logo_200x145.gif"/>
          <p:cNvPicPr/>
          <p:nvPr/>
        </p:nvPicPr>
        <p:blipFill>
          <a:blip r:embed="rId1"/>
          <a:stretch/>
        </p:blipFill>
        <p:spPr>
          <a:xfrm>
            <a:off x="6286680" y="1785960"/>
            <a:ext cx="1904760" cy="1380600"/>
          </a:xfrm>
          <a:prstGeom prst="rect">
            <a:avLst/>
          </a:prstGeom>
          <a:ln w="0">
            <a:noFill/>
          </a:ln>
        </p:spPr>
      </p:pic>
      <p:pic>
        <p:nvPicPr>
          <p:cNvPr id="140" name="5 Imagen" descr="logo_dcc.gif"/>
          <p:cNvPicPr/>
          <p:nvPr/>
        </p:nvPicPr>
        <p:blipFill>
          <a:blip r:embed="rId2"/>
          <a:stretch/>
        </p:blipFill>
        <p:spPr>
          <a:xfrm>
            <a:off x="928800" y="1714320"/>
            <a:ext cx="2432880" cy="135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Reseña Histórica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En 1994 Rumbaugh se unió a Rational (donde se desempeñaba Booch), y comenzaron a trabajar en la unificación de sus métodos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En 1995 Booch y Rumbaugh presentaron el “método unificado”, basado en la unión de sus método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Posteriormente Jacobson se unió a Rational, y en 1997 Rational entregó una definición de Unified Modeling Language a OMG (Object Management Group, http://www.omg.org)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87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188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0" name="6 Imagen" descr="duke_guide.gif"/>
          <p:cNvPicPr/>
          <p:nvPr/>
        </p:nvPicPr>
        <p:blipFill>
          <a:blip r:embed="rId3"/>
          <a:stretch/>
        </p:blipFill>
        <p:spPr>
          <a:xfrm>
            <a:off x="6786720" y="4786200"/>
            <a:ext cx="1456920" cy="10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Reseña Histórica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UML (Unified Modeling Language) es hoy la notación estándar para el modelamiento de aplicaciones con tecnologías orientadas a objetos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Actualmente se encuentra en su versión 2.0 (aparecida en octubre del año 2004), y es mantenido por OMG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xisten diversas herramientas (CASE) que soportan UML, entre las que se cuentan: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000" spc="-1" strike="noStrike">
                <a:solidFill>
                  <a:srgbClr val="464653"/>
                </a:solidFill>
                <a:latin typeface="Gill Sans MT"/>
              </a:rPr>
              <a:t>Rational Rose, WebSphere Application Developer Studio, Rational Software Architect, etc.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000" spc="-1" strike="noStrike">
                <a:solidFill>
                  <a:srgbClr val="464653"/>
                </a:solidFill>
                <a:latin typeface="Gill Sans MT"/>
              </a:rPr>
              <a:t>Borland Together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000" spc="-1" strike="noStrike">
                <a:solidFill>
                  <a:srgbClr val="464653"/>
                </a:solidFill>
                <a:latin typeface="Gill Sans MT"/>
              </a:rPr>
              <a:t>Enterprise Architect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000" spc="-1" strike="noStrike">
                <a:solidFill>
                  <a:srgbClr val="464653"/>
                </a:solidFill>
                <a:latin typeface="Gill Sans MT"/>
              </a:rPr>
              <a:t>Sybase PowerDesigner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000" spc="-1" strike="noStrike">
                <a:solidFill>
                  <a:srgbClr val="464653"/>
                </a:solidFill>
                <a:latin typeface="Gill Sans MT"/>
              </a:rPr>
              <a:t>Poseidon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000" spc="-1" strike="noStrike">
                <a:solidFill>
                  <a:srgbClr val="464653"/>
                </a:solidFill>
                <a:latin typeface="Gill Sans MT"/>
              </a:rPr>
              <a:t>ArgoUM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93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194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000000"/>
                </a:solidFill>
                <a:latin typeface="Bookman Old Style"/>
              </a:rPr>
              <a:t>Descripción del Curso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198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199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Objetivos y Metodología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Objetivos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omprender los conceptos más importantes del modelamiento orientado a objetos. 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Obtener la experiencia de utilizar una herramienta CASE para el modelamiento de UML.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Metodología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Uso intensivo del lenguaje de modelamiento UML notación 2.0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Desarrollo de ejercicios prácticos que serán modelados usando este lenguaje. 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Autoaprendizaje durante cada sesión del curso.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03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204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Contenidos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Introducción al UML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Gestión de Requerimientos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5520" indent="-257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asos de Uso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5520" indent="-257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Esteriotipo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El Proceso Unificado Rational (RUP)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Diagramas y Modelos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5520" indent="-257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lase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5520" indent="-257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Secuencia y Comportamiento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5520" indent="-257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Instancia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5520" indent="-257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Estado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5520" indent="-257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omponente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5520" indent="-257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Distribución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08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209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Evaluación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royecto del Curso (70%)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Será entregado al principio del curso (segunda semana).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Se divide en 4 entregas, cada una vale el 25% de la nota.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La pauta será entregada junto al enunciado.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Ejercicios (30%)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Desarrollos en clase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Lectura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13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214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6" name="6 Imagen" descr="duke_city.jpg"/>
          <p:cNvPicPr/>
          <p:nvPr/>
        </p:nvPicPr>
        <p:blipFill>
          <a:blip r:embed="rId3"/>
          <a:stretch/>
        </p:blipFill>
        <p:spPr>
          <a:xfrm>
            <a:off x="7000920" y="4500720"/>
            <a:ext cx="1356840" cy="14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Bibliografía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G. Booch, J. Rumbaugh, I. Jacobson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The Unified Modeling Language Reference Manual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Addison Wesley</a:t>
            </a:r>
            <a:endParaRPr b="0" lang="es-E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1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G. Booch, J. Rumbaugh, I. Jacobson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Guía del Usuario del Lenguaje Unificado de Modelado UML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Addison Wesley</a:t>
            </a:r>
            <a:endParaRPr b="0" lang="es-E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1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Craig Larman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UML y Patrones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Prentice Hall</a:t>
            </a:r>
            <a:endParaRPr b="0" lang="es-E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1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Martin Fowler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UML Gota a Gota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Prentice Hall</a:t>
            </a:r>
            <a:endParaRPr b="0" lang="es-E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1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Paul Kimmel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UML DeMistifyed: A Self Teaching Guide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Mc Graw Hill</a:t>
            </a:r>
            <a:endParaRPr b="0" lang="es-E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s-ES" sz="105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Perdita Stevens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Utilización de UML en Ingeniería de Software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Prentice Hall</a:t>
            </a:r>
            <a:endParaRPr b="0" lang="es-E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1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Kim Hamilton, Russell Miles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Learning UML 2.0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O’Really</a:t>
            </a:r>
            <a:endParaRPr b="0" lang="es-E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Paul Kimmel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Manual de UML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Mc Graw Hill</a:t>
            </a:r>
            <a:endParaRPr b="0" lang="es-E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1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Mike O’Docherty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Object Oriented Analysis and Design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Prentice Hall</a:t>
            </a:r>
            <a:endParaRPr b="0" lang="es-E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1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Raúl Alarcón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Diseño Orientado a Objetos con UML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Grupo Eidos</a:t>
            </a:r>
            <a:endParaRPr b="0" lang="es-ES" sz="1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20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221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000000"/>
                </a:solidFill>
                <a:latin typeface="Bookman Old Style"/>
              </a:rPr>
              <a:t>Gracias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s-ES" sz="2000" spc="-1" strike="noStrike">
                <a:solidFill>
                  <a:srgbClr val="464653"/>
                </a:solidFill>
                <a:latin typeface="Bookman Old Style"/>
              </a:rPr>
              <a:t>Hasta la Próxima Cl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226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Agenda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marL="254880" indent="-254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resentaciones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1200" spc="-1" strike="noStrike">
              <a:solidFill>
                <a:srgbClr val="000000"/>
              </a:solidFill>
              <a:latin typeface="Gill Sans MT"/>
            </a:endParaRPr>
          </a:p>
          <a:p>
            <a:pPr marL="254880" indent="-254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¿Qué es UML?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0120" indent="-254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Realizar Actividad de Trabajo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0120" indent="-254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Plenario del Curso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0120" indent="-254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Definición Formal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0120" indent="-254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Reseña Histórica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1200" spc="-1" strike="noStrike">
              <a:solidFill>
                <a:srgbClr val="000000"/>
              </a:solidFill>
              <a:latin typeface="Gill Sans MT"/>
            </a:endParaRPr>
          </a:p>
          <a:p>
            <a:pPr marL="254880" indent="-254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Descripción del Curso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0120" indent="-254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Objetivos y Metodología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0120" indent="-254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ontenido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0120" indent="-254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Evaluacione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0120" indent="-254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Bibliografía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43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144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6" name="6 Imagen" descr="duke_hello.gif"/>
          <p:cNvPicPr/>
          <p:nvPr/>
        </p:nvPicPr>
        <p:blipFill>
          <a:blip r:embed="rId3"/>
          <a:stretch/>
        </p:blipFill>
        <p:spPr>
          <a:xfrm>
            <a:off x="6143760" y="2571840"/>
            <a:ext cx="24285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Presentaciones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resentación del Profesor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Profesor Part-Time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Trabaja en el Ministerio de Salud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ontacto: andmunoz@dcc.uchile.cl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1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resentaciones de Alumnos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¿Quiénes son?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¿Por qué inscribieron el curso?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49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150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000000"/>
                </a:solidFill>
                <a:latin typeface="Bookman Old Style"/>
              </a:rPr>
              <a:t>¿Qué es UML?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s-ES" sz="2000" spc="-1" strike="noStrike">
                <a:solidFill>
                  <a:srgbClr val="464653"/>
                </a:solidFill>
                <a:latin typeface="Bookman Old Style"/>
              </a:rPr>
              <a:t>Actividad de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155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¿Qué es UML?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Instrucciones (15 min)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Desarrollar mapa de ideas con lo que sabe sobre UML.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Mapa de Ideas: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Diagrama en donde el concepto principal es el centro del diagrama y se descompone en los diferentes conceptos relacionados que lo rodean.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59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160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2" name="Picture 2" descr=""/>
          <p:cNvPicPr/>
          <p:nvPr/>
        </p:nvPicPr>
        <p:blipFill>
          <a:blip r:embed="rId3"/>
          <a:stretch/>
        </p:blipFill>
        <p:spPr>
          <a:xfrm>
            <a:off x="1714320" y="3501000"/>
            <a:ext cx="6071760" cy="2790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¿Qué es UML?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Ideas de Conceptos: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Lenguaje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Modelamiento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Diagrama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omportamiento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lases y Objeto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Secuencia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olaboración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Patrone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Artefacto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Factoría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Sintaxi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reador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Diagrama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Notación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66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167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000000"/>
                </a:solidFill>
                <a:latin typeface="Bookman Old Style"/>
              </a:rPr>
              <a:t>¿Qué es UML?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s-ES" sz="2000" spc="-1" strike="noStrike">
                <a:solidFill>
                  <a:srgbClr val="464653"/>
                </a:solidFill>
                <a:latin typeface="Bookman Old Style"/>
              </a:rPr>
              <a:t>Pl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172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Definición Formal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0000"/>
          </a:bodyPr>
          <a:p>
            <a:pPr marL="24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s-ES" sz="1100" spc="-1" strike="noStrike">
              <a:solidFill>
                <a:srgbClr val="000000"/>
              </a:solidFill>
              <a:latin typeface="Gill Sans MT"/>
            </a:endParaRPr>
          </a:p>
          <a:p>
            <a:pPr marL="24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The Unified Modeling Language (UML) is a graphical language for visualizing, specifying, constructing, and documenting the artifacts of a software-intensive system. The UML offers a standard way to write a system's blueprints, including conceptual things such as business processes and system functions as well as concrete things such as programming language statements, database schemas, and reusable software components.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marL="24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s-ES" sz="1000" spc="-1" strike="noStrike">
              <a:solidFill>
                <a:srgbClr val="000000"/>
              </a:solidFill>
              <a:latin typeface="Gill Sans MT"/>
            </a:endParaRPr>
          </a:p>
          <a:p>
            <a:pPr marL="24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The UML represents the culmination of best practices in practical object-oriented modeling. The UML is the product of several years of hard work, in which we focused on bringing about a unification of the methods most used around the world, the adoption of good ideas from many quarters of the industry, and, above all, a concentrated effort to make things simple.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marL="24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s-ES" sz="1600" spc="-1" strike="noStrike">
              <a:solidFill>
                <a:srgbClr val="000000"/>
              </a:solidFill>
              <a:latin typeface="Gill Sans MT"/>
            </a:endParaRPr>
          </a:p>
          <a:p>
            <a:pPr marL="2466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specificación de UML 1.5, Foreword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marL="2466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ooch, Jacobson, Rumbaugh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76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177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9" name="6 Imagen" descr="duke_thinking.gif"/>
          <p:cNvPicPr/>
          <p:nvPr/>
        </p:nvPicPr>
        <p:blipFill>
          <a:blip r:embed="rId3"/>
          <a:stretch/>
        </p:blipFill>
        <p:spPr>
          <a:xfrm flipH="1">
            <a:off x="857520" y="5072040"/>
            <a:ext cx="975960" cy="96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Reseña Histórica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A comienzos de los años '90 aparecieron múltiples metodologías y notaciones gráficas para análisis y diseño orientados a objetos: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Grady Booch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James Rumbaugh: OMT (Object Modeling Technique)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var Jacobson: OOSE (Object-Oriented Software </a:t>
            </a: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Engineering)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Peter Coad y Edward Yourdon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ally Shlaer y Stephen Mellor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82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183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rigen">
  <a:themeElements>
    <a:clrScheme name="Orige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gen">
  <a:themeElements>
    <a:clrScheme name="Orige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rigen">
  <a:themeElements>
    <a:clrScheme name="Orige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gin</Template>
  <TotalTime>148</TotalTime>
  <Application>LibreOffice/7.4.7.2$Linux_X86_64 LibreOffice_project/40$Build-2</Application>
  <AppVersion>15.0000</AppVersion>
  <Words>522</Words>
  <Paragraphs>13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és Muñoz O.</cp:lastModifiedBy>
  <dcterms:modified xsi:type="dcterms:W3CDTF">2008-07-30T03:03:39Z</dcterms:modified>
  <cp:revision>11</cp:revision>
  <dc:subject/>
  <dc:title>CC61J – Taller de UM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Presentación en pantalla (4:3)</vt:lpwstr>
  </property>
  <property fmtid="{D5CDD505-2E9C-101B-9397-08002B2CF9AE}" pid="3" name="Slides">
    <vt:r8>17</vt:r8>
  </property>
</Properties>
</file>