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gif" ContentType="image/gif"/>
  <Override PartName="/ppt/media/image2.gif" ContentType="image/gif"/>
  <Override PartName="/ppt/media/image7.jpeg" ContentType="image/jpeg"/>
  <Override PartName="/ppt/media/image3.gif" ContentType="image/gif"/>
  <Override PartName="/ppt/media/image4.png" ContentType="image/png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E921-7235-42B8-BEDD-085728142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A183-F471-4D40-9949-94685EFB6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1814-E6F8-4A78-979C-B26E98C1E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E160-DEC5-4B17-8156-4404079F6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943C7-0D84-4C3E-906D-9A6FD7970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68F07-FDF1-4A4A-95D6-D812524B2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048C2-7C20-4B81-A952-23539A451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87AE0-20ED-4894-9EF7-035266FC2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54D6F-8ECA-4BCD-8827-C8F6F5158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8576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3061A-7748-472E-A000-96B44F6D5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195AB-BABC-44BF-B46B-51B77137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009C-5DE2-46FA-8F09-34B7D1E33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13E5D-9A5A-4AE2-9D50-99150EB7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8F99F-95C6-4B97-AE57-565825A1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8358A-ADE7-4C18-ABD4-845B7587D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B2D54-5891-4E1E-9F51-AAFB290B1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D2CC5-0165-4702-A05D-D5102455F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A8A50-F5F1-4548-90D0-93CEB82DF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EE474-BD43-43B4-949E-82DFBC572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938FC-03DE-403F-8608-515D005AC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DEFAC-E273-4E8F-8AAA-64FA0D05D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C7326-18C6-4151-83A0-C6343494B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9A4E-E25E-4B4A-B32F-BD5305810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8576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E9344-08D8-4387-945B-284C48311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77D5B-7779-4A80-9F8B-AE98140B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26CAB-5CEA-46DC-8216-6064FC9D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26B86-49AA-48EC-9C7B-99FCE9CE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AAE08-8A34-4E68-BADC-6E455329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DF8FF-C2B6-4B11-A787-408138E8A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1B5AC-1916-40BE-A8B1-38889B99E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042D-CB2A-4FD8-ADBA-8DE454C3F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F683-F6A3-4777-AECA-427358288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8576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0496-81DD-4020-9E9F-3BDD09210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53FC-E028-4639-9DE1-EA5D53AF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B986-8C36-4DAF-8EFA-A21313D0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CA44-1BC6-4627-9DB4-B2CB6A57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27 Conector recto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28 Conector recto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9 Triángulo isósceles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000000"/>
                </a:solidFill>
                <a:latin typeface="Bookman Old Style"/>
              </a:rPr>
              <a:t>Haga clic para modificar el estilo de título del patrón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00800" y="6355080"/>
            <a:ext cx="2285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s-E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s-E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98720" y="6355080"/>
            <a:ext cx="347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216080" y="635508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s-E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4E02D8B2-F916-4D3E-8149-F23FD8B19455}" type="slidenum">
              <a:rPr b="0" lang="es-E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20 Rectángulo"/>
          <p:cNvSpPr/>
          <p:nvPr/>
        </p:nvSpPr>
        <p:spPr>
          <a:xfrm>
            <a:off x="905040" y="3648240"/>
            <a:ext cx="7314840" cy="1279800"/>
          </a:xfrm>
          <a:prstGeom prst="rect">
            <a:avLst/>
          </a:prstGeom>
          <a:noFill/>
          <a:ln cap="rnd" w="6350">
            <a:solidFill>
              <a:srgbClr val="727ca3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8" name="32 Rectángulo"/>
          <p:cNvSpPr/>
          <p:nvPr/>
        </p:nvSpPr>
        <p:spPr>
          <a:xfrm>
            <a:off x="914400" y="5048280"/>
            <a:ext cx="7314840" cy="685440"/>
          </a:xfrm>
          <a:prstGeom prst="rect">
            <a:avLst/>
          </a:prstGeom>
          <a:noFill/>
          <a:ln cap="rnd" w="6350">
            <a:solidFill>
              <a:srgbClr val="9fb8c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" name="21 Rectángulo"/>
          <p:cNvSpPr/>
          <p:nvPr/>
        </p:nvSpPr>
        <p:spPr>
          <a:xfrm>
            <a:off x="905040" y="3648240"/>
            <a:ext cx="228240" cy="1279800"/>
          </a:xfrm>
          <a:prstGeom prst="rect">
            <a:avLst/>
          </a:prstGeom>
          <a:solidFill>
            <a:schemeClr val="accent1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" name="31 Rectángulo"/>
          <p:cNvSpPr/>
          <p:nvPr/>
        </p:nvSpPr>
        <p:spPr>
          <a:xfrm>
            <a:off x="914400" y="5048280"/>
            <a:ext cx="228240" cy="685440"/>
          </a:xfrm>
          <a:prstGeom prst="rect">
            <a:avLst/>
          </a:prstGeom>
          <a:solidFill>
            <a:schemeClr val="accent2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s-E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27 Conector recto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28 Conector recto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9 Triángulo isósceles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464653"/>
                </a:solidFill>
                <a:latin typeface="Bookman Old Style"/>
              </a:rPr>
              <a:t>Haga clic para modificar el estilo de título del patrón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s-E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s-E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s-E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08C556D5-74CD-4ACE-9A70-72428F419992}" type="slidenum">
              <a:rPr b="0" lang="es-E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Haga clic para modificar el estilo de texto del patrón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Segundo nivel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Tercer nivel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Cuarto nivel</a:t>
            </a: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Quinto nivel</a:t>
            </a:r>
            <a:endParaRPr b="0" lang="es-E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27 Conector recto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28 Conector recto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9 Triángulo isósceles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464653"/>
                </a:solidFill>
                <a:latin typeface="Bookman Old Style"/>
              </a:rPr>
              <a:t>Haga clic para modificar el estilo de título del patrón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s-E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s-E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8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9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s-E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E6B9E24A-C942-4D27-8956-F0459D7EFF05}" type="slidenum">
              <a:rPr b="0" lang="es-E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Haga clic para modificar el estilo de texto del patrón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Segundo nivel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Tercer nivel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Cuarto nivel</a:t>
            </a: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Quinto nivel</a:t>
            </a:r>
            <a:endParaRPr b="0" lang="es-E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body"/>
          </p:nvPr>
        </p:nvSpPr>
        <p:spPr>
          <a:xfrm>
            <a:off x="4632120" y="121608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Haga clic para modificar el estilo de texto del patrón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Segundo nivel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Tercer nivel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Cuarto nivel</a:t>
            </a:r>
            <a:endParaRPr b="0" lang="es-E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Quinto nivel</a:t>
            </a:r>
            <a:endParaRPr b="0" lang="es-E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000000"/>
                </a:solidFill>
                <a:latin typeface="Bookman Old Style"/>
              </a:rPr>
              <a:t>CC61J – Taller de UML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219320" y="5124600"/>
            <a:ext cx="6857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5000"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s-ES" sz="2400" spc="-1" strike="noStrike">
                <a:solidFill>
                  <a:srgbClr val="464653"/>
                </a:solidFill>
                <a:latin typeface="Bookman Old Style"/>
              </a:rPr>
              <a:t>Profesor: Andrés Muñoz Ord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s-ES" sz="2400" spc="-1" strike="noStrike">
                <a:solidFill>
                  <a:srgbClr val="464653"/>
                </a:solidFill>
                <a:latin typeface="Bookman Old Style"/>
              </a:rPr>
              <a:t>29 de Julio del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4 Imagen" descr="uml_logo_200x145.gif"/>
          <p:cNvPicPr/>
          <p:nvPr/>
        </p:nvPicPr>
        <p:blipFill>
          <a:blip r:embed="rId1"/>
          <a:stretch/>
        </p:blipFill>
        <p:spPr>
          <a:xfrm>
            <a:off x="6286680" y="1785960"/>
            <a:ext cx="1904760" cy="1380600"/>
          </a:xfrm>
          <a:prstGeom prst="rect">
            <a:avLst/>
          </a:prstGeom>
          <a:ln w="0">
            <a:noFill/>
          </a:ln>
        </p:spPr>
      </p:pic>
      <p:pic>
        <p:nvPicPr>
          <p:cNvPr id="140" name="5 Imagen" descr="logo_dcc.gif"/>
          <p:cNvPicPr/>
          <p:nvPr/>
        </p:nvPicPr>
        <p:blipFill>
          <a:blip r:embed="rId2"/>
          <a:stretch/>
        </p:blipFill>
        <p:spPr>
          <a:xfrm>
            <a:off x="928800" y="1714320"/>
            <a:ext cx="2432880" cy="135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464653"/>
                </a:solidFill>
                <a:latin typeface="Bookman Old Style"/>
              </a:rPr>
              <a:t>Reseña Histórica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En 1994 Rumbaugh se unió a Rational (donde se desempeñaba Booch), y comenzaron a trabajar en la unificación de sus métodos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En 1995 Booch y Rumbaugh presentaron el “método unificado”, basado en la unión de sus métodos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Posteriormente Jacobson se unió a Rational, y en 1997 Rational entregó una definición de Unified Modeling Language a OMG (Object Management Group, http://www.omg.org)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87" name="5 Grupo"/>
          <p:cNvGrpSpPr/>
          <p:nvPr/>
        </p:nvGrpSpPr>
        <p:grpSpPr>
          <a:xfrm>
            <a:off x="6215040" y="214200"/>
            <a:ext cx="2468160" cy="785520"/>
            <a:chOff x="6215040" y="214200"/>
            <a:chExt cx="2468160" cy="785520"/>
          </a:xfrm>
        </p:grpSpPr>
        <p:pic>
          <p:nvPicPr>
            <p:cNvPr id="188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4880" cy="78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3840" cy="785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0" name="6 Imagen" descr="duke_guide.gif"/>
          <p:cNvPicPr/>
          <p:nvPr/>
        </p:nvPicPr>
        <p:blipFill>
          <a:blip r:embed="rId3"/>
          <a:stretch/>
        </p:blipFill>
        <p:spPr>
          <a:xfrm>
            <a:off x="6786720" y="4786200"/>
            <a:ext cx="1456920" cy="10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464653"/>
                </a:solidFill>
                <a:latin typeface="Bookman Old Style"/>
              </a:rPr>
              <a:t>Reseña Histórica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UML (Unified Modeling Language) es hoy la notación estándar para el modelamiento de aplicaciones con tecnologías orientadas a objetos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Actualmente se encuentra en su versión 2.0 (aparecida en octubre del año 2004), y es mantenido por OMG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xisten diversas herramientas (CASE) que soportan UML, entre las que se cuentan: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000" spc="-1" strike="noStrike">
                <a:solidFill>
                  <a:srgbClr val="464653"/>
                </a:solidFill>
                <a:latin typeface="Gill Sans MT"/>
              </a:rPr>
              <a:t>Rational Rose, WebSphere Application Developer Studio, Rational Software Architect, etc.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000" spc="-1" strike="noStrike">
                <a:solidFill>
                  <a:srgbClr val="464653"/>
                </a:solidFill>
                <a:latin typeface="Gill Sans MT"/>
              </a:rPr>
              <a:t>Borland Together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000" spc="-1" strike="noStrike">
                <a:solidFill>
                  <a:srgbClr val="464653"/>
                </a:solidFill>
                <a:latin typeface="Gill Sans MT"/>
              </a:rPr>
              <a:t>Enterprise Architect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000" spc="-1" strike="noStrike">
                <a:solidFill>
                  <a:srgbClr val="464653"/>
                </a:solidFill>
                <a:latin typeface="Gill Sans MT"/>
              </a:rPr>
              <a:t>Sybase PowerDesigner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000" spc="-1" strike="noStrike">
                <a:solidFill>
                  <a:srgbClr val="464653"/>
                </a:solidFill>
                <a:latin typeface="Gill Sans MT"/>
              </a:rPr>
              <a:t>Poseidon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000" spc="-1" strike="noStrike">
                <a:solidFill>
                  <a:srgbClr val="464653"/>
                </a:solidFill>
                <a:latin typeface="Gill Sans MT"/>
              </a:rPr>
              <a:t>ArgoUML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93" name="5 Grupo"/>
          <p:cNvGrpSpPr/>
          <p:nvPr/>
        </p:nvGrpSpPr>
        <p:grpSpPr>
          <a:xfrm>
            <a:off x="6215040" y="214200"/>
            <a:ext cx="2468160" cy="785520"/>
            <a:chOff x="6215040" y="214200"/>
            <a:chExt cx="2468160" cy="785520"/>
          </a:xfrm>
        </p:grpSpPr>
        <p:pic>
          <p:nvPicPr>
            <p:cNvPr id="194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4880" cy="78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3840" cy="785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000000"/>
                </a:solidFill>
                <a:latin typeface="Bookman Old Style"/>
              </a:rPr>
              <a:t>Descripción del Curso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219320" y="5124600"/>
            <a:ext cx="6857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198" name="5 Grupo"/>
          <p:cNvGrpSpPr/>
          <p:nvPr/>
        </p:nvGrpSpPr>
        <p:grpSpPr>
          <a:xfrm>
            <a:off x="6215040" y="214200"/>
            <a:ext cx="2468160" cy="785520"/>
            <a:chOff x="6215040" y="214200"/>
            <a:chExt cx="2468160" cy="785520"/>
          </a:xfrm>
        </p:grpSpPr>
        <p:pic>
          <p:nvPicPr>
            <p:cNvPr id="199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4880" cy="78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3840" cy="785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464653"/>
                </a:solidFill>
                <a:latin typeface="Bookman Old Style"/>
              </a:rPr>
              <a:t>Objetivos y Metodología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Objetivos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Comprender los conceptos más importantes del modelamiento orientado a objetos. 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Obtener la experiencia de utilizar una herramienta CASE para el modelamiento de UML.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Metodología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Uso intensivo del lenguaje de modelamiento UML notación 2.0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Desarrollo de ejercicios prácticos que serán modelados usando este lenguaje. 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Autoaprendizaje durante cada sesión del curso.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03" name="5 Grupo"/>
          <p:cNvGrpSpPr/>
          <p:nvPr/>
        </p:nvGrpSpPr>
        <p:grpSpPr>
          <a:xfrm>
            <a:off x="6215040" y="214200"/>
            <a:ext cx="2468160" cy="785520"/>
            <a:chOff x="6215040" y="214200"/>
            <a:chExt cx="2468160" cy="785520"/>
          </a:xfrm>
        </p:grpSpPr>
        <p:pic>
          <p:nvPicPr>
            <p:cNvPr id="204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4880" cy="78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3840" cy="785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464653"/>
                </a:solidFill>
                <a:latin typeface="Bookman Old Style"/>
              </a:rPr>
              <a:t>Contenidos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4000"/>
          </a:bodyPr>
          <a:p>
            <a:pPr marL="257760" indent="-257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Introducción al UML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marL="257760" indent="-257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Gestión de Requerimientos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15520" indent="-25776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Casos de Uso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15520" indent="-25776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Esteriotipos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marL="257760" indent="-257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El Proceso Unificado Rational (RUP)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marL="257760" indent="-2577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Diagramas y Modelos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15520" indent="-25776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Clases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15520" indent="-25776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Secuencia y Comportamiento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15520" indent="-25776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Instancias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15520" indent="-25776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Estado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15520" indent="-25776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Componentes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15520" indent="-25776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Distribución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08" name="5 Grupo"/>
          <p:cNvGrpSpPr/>
          <p:nvPr/>
        </p:nvGrpSpPr>
        <p:grpSpPr>
          <a:xfrm>
            <a:off x="6215040" y="214200"/>
            <a:ext cx="2468160" cy="785520"/>
            <a:chOff x="6215040" y="214200"/>
            <a:chExt cx="2468160" cy="785520"/>
          </a:xfrm>
        </p:grpSpPr>
        <p:pic>
          <p:nvPicPr>
            <p:cNvPr id="209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4880" cy="78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3840" cy="785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464653"/>
                </a:solidFill>
                <a:latin typeface="Bookman Old Style"/>
              </a:rPr>
              <a:t>Evaluación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Proyecto del Curso (70%)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Será entregado al principio del curso (segunda semana).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Se divide en 4 entregas, cada una vale el 25% de la nota.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La pauta será entregada junto al enunciado.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Ejercicios (30%)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Desarrollos en clases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Lecturas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13" name="5 Grupo"/>
          <p:cNvGrpSpPr/>
          <p:nvPr/>
        </p:nvGrpSpPr>
        <p:grpSpPr>
          <a:xfrm>
            <a:off x="6215040" y="214200"/>
            <a:ext cx="2468160" cy="785520"/>
            <a:chOff x="6215040" y="214200"/>
            <a:chExt cx="2468160" cy="785520"/>
          </a:xfrm>
        </p:grpSpPr>
        <p:pic>
          <p:nvPicPr>
            <p:cNvPr id="214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4880" cy="78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3840" cy="785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6" name="6 Imagen" descr="duke_city.jpg"/>
          <p:cNvPicPr/>
          <p:nvPr/>
        </p:nvPicPr>
        <p:blipFill>
          <a:blip r:embed="rId3"/>
          <a:stretch/>
        </p:blipFill>
        <p:spPr>
          <a:xfrm>
            <a:off x="7000920" y="4500720"/>
            <a:ext cx="1356840" cy="14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464653"/>
                </a:solidFill>
                <a:latin typeface="Bookman Old Style"/>
              </a:rPr>
              <a:t>Bibliografía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G. Booch, J. Rumbaugh, I. Jacobson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The Unified Modeling Language Reference Manual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Addison Wesley</a:t>
            </a:r>
            <a:endParaRPr b="0" lang="es-ES" sz="1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s-ES" sz="1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G. Booch, J. Rumbaugh, I. Jacobson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Guía del Usuario del Lenguaje Unificado de Modelado UML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Addison Wesley</a:t>
            </a:r>
            <a:endParaRPr b="0" lang="es-ES" sz="1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s-ES" sz="1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Craig Larman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UML y Patrones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Prentice Hall</a:t>
            </a:r>
            <a:endParaRPr b="0" lang="es-ES" sz="1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s-ES" sz="1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Martin Fowler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UML Gota a Gota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Prentice Hall</a:t>
            </a:r>
            <a:endParaRPr b="0" lang="es-ES" sz="1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s-ES" sz="1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Paul Kimmel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UML DeMistifyed: A Self Teaching Guide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Mc Graw Hill</a:t>
            </a:r>
            <a:endParaRPr b="0" lang="es-ES" sz="1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s-ES" sz="105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32120" y="121608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Perdita Stevens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Utilización de UML en Ingeniería de Software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Prentice Hall</a:t>
            </a:r>
            <a:endParaRPr b="0" lang="es-ES" sz="1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s-ES" sz="1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Kim Hamilton, Russell Miles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Learning UML 2.0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O’Really</a:t>
            </a:r>
            <a:endParaRPr b="0" lang="es-ES" sz="1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s-ES" sz="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Paul Kimmel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Manual de UML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Mc Graw Hill</a:t>
            </a:r>
            <a:endParaRPr b="0" lang="es-ES" sz="1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s-ES" sz="1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Mike O’Docherty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Object Oriented Analysis and Design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Prentice Hall</a:t>
            </a:r>
            <a:endParaRPr b="0" lang="es-ES" sz="1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s-ES" sz="1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Raúl Alarcón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Diseño Orientado a Objetos con UML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Grupo Eidos</a:t>
            </a:r>
            <a:endParaRPr b="0" lang="es-ES" sz="1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20" name="5 Grupo"/>
          <p:cNvGrpSpPr/>
          <p:nvPr/>
        </p:nvGrpSpPr>
        <p:grpSpPr>
          <a:xfrm>
            <a:off x="6215040" y="214200"/>
            <a:ext cx="2468160" cy="785520"/>
            <a:chOff x="6215040" y="214200"/>
            <a:chExt cx="2468160" cy="785520"/>
          </a:xfrm>
        </p:grpSpPr>
        <p:pic>
          <p:nvPicPr>
            <p:cNvPr id="221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4880" cy="78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3840" cy="785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000000"/>
                </a:solidFill>
                <a:latin typeface="Bookman Old Style"/>
              </a:rPr>
              <a:t>Gracias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219320" y="5124600"/>
            <a:ext cx="6857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s-ES" sz="2000" spc="-1" strike="noStrike">
                <a:solidFill>
                  <a:srgbClr val="464653"/>
                </a:solidFill>
                <a:latin typeface="Bookman Old Style"/>
              </a:rPr>
              <a:t>Hasta la Próxima Cl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5 Grupo"/>
          <p:cNvGrpSpPr/>
          <p:nvPr/>
        </p:nvGrpSpPr>
        <p:grpSpPr>
          <a:xfrm>
            <a:off x="6215040" y="214200"/>
            <a:ext cx="2468160" cy="785520"/>
            <a:chOff x="6215040" y="214200"/>
            <a:chExt cx="2468160" cy="785520"/>
          </a:xfrm>
        </p:grpSpPr>
        <p:pic>
          <p:nvPicPr>
            <p:cNvPr id="226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4880" cy="78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3840" cy="785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464653"/>
                </a:solidFill>
                <a:latin typeface="Bookman Old Style"/>
              </a:rPr>
              <a:t>Agenda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3000"/>
          </a:bodyPr>
          <a:p>
            <a:pPr marL="254880" indent="-254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Presentaciones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s-ES" sz="1200" spc="-1" strike="noStrike">
              <a:solidFill>
                <a:srgbClr val="000000"/>
              </a:solidFill>
              <a:latin typeface="Gill Sans MT"/>
            </a:endParaRPr>
          </a:p>
          <a:p>
            <a:pPr marL="254880" indent="-254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¿Qué es UML?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10120" indent="-254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Realizar Actividad de Trabajo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10120" indent="-254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Plenario del Curso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10120" indent="-254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Definición Formal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10120" indent="-254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Reseña Histórica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s-ES" sz="1200" spc="-1" strike="noStrike">
              <a:solidFill>
                <a:srgbClr val="000000"/>
              </a:solidFill>
              <a:latin typeface="Gill Sans MT"/>
            </a:endParaRPr>
          </a:p>
          <a:p>
            <a:pPr marL="254880" indent="-254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Descripción del Curso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10120" indent="-254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Objetivos y Metodología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10120" indent="-254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Contenidos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10120" indent="-254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Evaluaciones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10120" indent="-254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Bibliografía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43" name="5 Grupo"/>
          <p:cNvGrpSpPr/>
          <p:nvPr/>
        </p:nvGrpSpPr>
        <p:grpSpPr>
          <a:xfrm>
            <a:off x="6215040" y="214200"/>
            <a:ext cx="2468160" cy="785520"/>
            <a:chOff x="6215040" y="214200"/>
            <a:chExt cx="2468160" cy="785520"/>
          </a:xfrm>
        </p:grpSpPr>
        <p:pic>
          <p:nvPicPr>
            <p:cNvPr id="144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4880" cy="78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3840" cy="785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6" name="6 Imagen" descr="duke_hello.gif"/>
          <p:cNvPicPr/>
          <p:nvPr/>
        </p:nvPicPr>
        <p:blipFill>
          <a:blip r:embed="rId3"/>
          <a:stretch/>
        </p:blipFill>
        <p:spPr>
          <a:xfrm>
            <a:off x="6143760" y="2571840"/>
            <a:ext cx="24285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464653"/>
                </a:solidFill>
                <a:latin typeface="Bookman Old Style"/>
              </a:rPr>
              <a:t>Presentaciones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Presentación del Profesor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Profesor Part-Time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Trabaja en el Ministerio de Salud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Contacto: andmunoz@dcc.uchile.cl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s-ES" sz="1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Presentaciones de Alumnos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¿Quiénes son?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¿Por qué inscribieron el curso?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49" name="5 Grupo"/>
          <p:cNvGrpSpPr/>
          <p:nvPr/>
        </p:nvGrpSpPr>
        <p:grpSpPr>
          <a:xfrm>
            <a:off x="6215040" y="214200"/>
            <a:ext cx="2468160" cy="785520"/>
            <a:chOff x="6215040" y="214200"/>
            <a:chExt cx="2468160" cy="785520"/>
          </a:xfrm>
        </p:grpSpPr>
        <p:pic>
          <p:nvPicPr>
            <p:cNvPr id="150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4880" cy="78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3840" cy="785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000000"/>
                </a:solidFill>
                <a:latin typeface="Bookman Old Style"/>
              </a:rPr>
              <a:t>¿Qué es UML?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219320" y="5124600"/>
            <a:ext cx="6857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s-ES" sz="2000" spc="-1" strike="noStrike">
                <a:solidFill>
                  <a:srgbClr val="464653"/>
                </a:solidFill>
                <a:latin typeface="Bookman Old Style"/>
              </a:rPr>
              <a:t>Actividad de Tra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5 Grupo"/>
          <p:cNvGrpSpPr/>
          <p:nvPr/>
        </p:nvGrpSpPr>
        <p:grpSpPr>
          <a:xfrm>
            <a:off x="6215040" y="214200"/>
            <a:ext cx="2468160" cy="785520"/>
            <a:chOff x="6215040" y="214200"/>
            <a:chExt cx="2468160" cy="785520"/>
          </a:xfrm>
        </p:grpSpPr>
        <p:pic>
          <p:nvPicPr>
            <p:cNvPr id="155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4880" cy="78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3840" cy="785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464653"/>
                </a:solidFill>
                <a:latin typeface="Bookman Old Style"/>
              </a:rPr>
              <a:t>¿Qué es UML?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Instrucciones (15 min)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Desarrollar mapa de ideas con lo que sabe sobre UML.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Mapa de Ideas: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Diagrama en donde el concepto principal es el centro del diagrama y se descompone en los diferentes conceptos relacionados que lo rodean.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59" name="5 Grupo"/>
          <p:cNvGrpSpPr/>
          <p:nvPr/>
        </p:nvGrpSpPr>
        <p:grpSpPr>
          <a:xfrm>
            <a:off x="6215040" y="214200"/>
            <a:ext cx="2468160" cy="785520"/>
            <a:chOff x="6215040" y="214200"/>
            <a:chExt cx="2468160" cy="785520"/>
          </a:xfrm>
        </p:grpSpPr>
        <p:pic>
          <p:nvPicPr>
            <p:cNvPr id="160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4880" cy="78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3840" cy="785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2" name="Picture 2" descr=""/>
          <p:cNvPicPr/>
          <p:nvPr/>
        </p:nvPicPr>
        <p:blipFill>
          <a:blip r:embed="rId3"/>
          <a:stretch/>
        </p:blipFill>
        <p:spPr>
          <a:xfrm>
            <a:off x="1714320" y="3501000"/>
            <a:ext cx="6071760" cy="27907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464653"/>
                </a:solidFill>
                <a:latin typeface="Bookman Old Style"/>
              </a:rPr>
              <a:t>¿Qué es UML?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Ideas de Conceptos: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Lenguaje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Modelamiento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Diagramas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Comportamiento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Clases y Objetos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Secuencia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Colaboración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32120" y="1216080"/>
            <a:ext cx="40413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Patrones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Artefactos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Factoría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Sintaxis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Creador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Diagrama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Notación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66" name="5 Grupo"/>
          <p:cNvGrpSpPr/>
          <p:nvPr/>
        </p:nvGrpSpPr>
        <p:grpSpPr>
          <a:xfrm>
            <a:off x="6215040" y="214200"/>
            <a:ext cx="2468160" cy="785520"/>
            <a:chOff x="6215040" y="214200"/>
            <a:chExt cx="2468160" cy="785520"/>
          </a:xfrm>
        </p:grpSpPr>
        <p:pic>
          <p:nvPicPr>
            <p:cNvPr id="167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4880" cy="78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3840" cy="785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000000"/>
                </a:solidFill>
                <a:latin typeface="Bookman Old Style"/>
              </a:rPr>
              <a:t>¿Qué es UML?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219320" y="5124600"/>
            <a:ext cx="6857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s-ES" sz="2000" spc="-1" strike="noStrike">
                <a:solidFill>
                  <a:srgbClr val="464653"/>
                </a:solidFill>
                <a:latin typeface="Bookman Old Style"/>
              </a:rPr>
              <a:t>Pl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5 Grupo"/>
          <p:cNvGrpSpPr/>
          <p:nvPr/>
        </p:nvGrpSpPr>
        <p:grpSpPr>
          <a:xfrm>
            <a:off x="6215040" y="214200"/>
            <a:ext cx="2468160" cy="785520"/>
            <a:chOff x="6215040" y="214200"/>
            <a:chExt cx="2468160" cy="785520"/>
          </a:xfrm>
        </p:grpSpPr>
        <p:pic>
          <p:nvPicPr>
            <p:cNvPr id="172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4880" cy="78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3840" cy="785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464653"/>
                </a:solidFill>
                <a:latin typeface="Bookman Old Style"/>
              </a:rPr>
              <a:t>Definición Formal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0000"/>
          </a:bodyPr>
          <a:p>
            <a:pPr marL="24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s-ES" sz="1100" spc="-1" strike="noStrike">
              <a:solidFill>
                <a:srgbClr val="000000"/>
              </a:solidFill>
              <a:latin typeface="Gill Sans MT"/>
            </a:endParaRPr>
          </a:p>
          <a:p>
            <a:pPr marL="24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The Unified Modeling Language (UML) is a graphical language for visualizing, specifying, constructing, and documenting the artifacts of a software-intensive system. The UML offers a standard way to write a system's blueprints, including conceptual things such as business processes and system functions as well as concrete things such as programming language statements, database schemas, and reusable software components.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marL="24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s-ES" sz="1000" spc="-1" strike="noStrike">
              <a:solidFill>
                <a:srgbClr val="000000"/>
              </a:solidFill>
              <a:latin typeface="Gill Sans MT"/>
            </a:endParaRPr>
          </a:p>
          <a:p>
            <a:pPr marL="24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The UML represents the culmination of best practices in practical object-oriented modeling. The UML is the product of several years of hard work, in which we focused on bringing about a unification of the methods most used around the world, the adoption of good ideas from many quarters of the industry, and, above all, a concentrated effort to make things simple.”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marL="246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s-ES" sz="1600" spc="-1" strike="noStrike">
              <a:solidFill>
                <a:srgbClr val="000000"/>
              </a:solidFill>
              <a:latin typeface="Gill Sans MT"/>
            </a:endParaRPr>
          </a:p>
          <a:p>
            <a:pPr marL="2466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specificación de UML 1.5, Foreword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  <a:p>
            <a:pPr marL="2466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ooch, Jacobson, Rumbaugh</a:t>
            </a:r>
            <a:endParaRPr b="0" lang="es-ES" sz="20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76" name="5 Grupo"/>
          <p:cNvGrpSpPr/>
          <p:nvPr/>
        </p:nvGrpSpPr>
        <p:grpSpPr>
          <a:xfrm>
            <a:off x="6215040" y="214200"/>
            <a:ext cx="2468160" cy="785520"/>
            <a:chOff x="6215040" y="214200"/>
            <a:chExt cx="2468160" cy="785520"/>
          </a:xfrm>
        </p:grpSpPr>
        <p:pic>
          <p:nvPicPr>
            <p:cNvPr id="177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4880" cy="78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3840" cy="785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9" name="6 Imagen" descr="duke_thinking.gif"/>
          <p:cNvPicPr/>
          <p:nvPr/>
        </p:nvPicPr>
        <p:blipFill>
          <a:blip r:embed="rId3"/>
          <a:stretch/>
        </p:blipFill>
        <p:spPr>
          <a:xfrm flipH="1">
            <a:off x="857520" y="5072040"/>
            <a:ext cx="975960" cy="96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ES" sz="3200" spc="-1" strike="noStrike">
                <a:solidFill>
                  <a:srgbClr val="464653"/>
                </a:solidFill>
                <a:latin typeface="Bookman Old Style"/>
              </a:rPr>
              <a:t>Reseña Histórica</a:t>
            </a:r>
            <a:endParaRPr b="0" lang="es-E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A comienzos de los años '90 aparecieron múltiples metodologías y notaciones gráficas para análisis y diseño orientados a objetos:</a:t>
            </a:r>
            <a:endParaRPr b="0" lang="es-E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Grady Booch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James Rumbaugh: OMT (Object Modeling Technique)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var Jacobson: OOSE (Object-Oriented Software </a:t>
            </a:r>
            <a:r>
              <a:rPr b="0" lang="es-ES" sz="2300" spc="-1" strike="noStrike">
                <a:solidFill>
                  <a:srgbClr val="464653"/>
                </a:solidFill>
                <a:latin typeface="Gill Sans MT"/>
              </a:rPr>
              <a:t>Engineering)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Peter Coad y Edward Yourdon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ally Shlaer y Stephen Mellor</a:t>
            </a:r>
            <a:endParaRPr b="0" lang="es-ES" sz="23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82" name="5 Grupo"/>
          <p:cNvGrpSpPr/>
          <p:nvPr/>
        </p:nvGrpSpPr>
        <p:grpSpPr>
          <a:xfrm>
            <a:off x="6215040" y="214200"/>
            <a:ext cx="2468160" cy="785520"/>
            <a:chOff x="6215040" y="214200"/>
            <a:chExt cx="2468160" cy="785520"/>
          </a:xfrm>
        </p:grpSpPr>
        <p:pic>
          <p:nvPicPr>
            <p:cNvPr id="183" name="3 Imagen" descr="uml_logo_200x145.gif"/>
            <p:cNvPicPr/>
            <p:nvPr/>
          </p:nvPicPr>
          <p:blipFill>
            <a:blip r:embed="rId1"/>
            <a:stretch/>
          </p:blipFill>
          <p:spPr>
            <a:xfrm>
              <a:off x="7618320" y="214200"/>
              <a:ext cx="1064880" cy="78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4 Imagen" descr="logo_dcc.gif"/>
            <p:cNvPicPr/>
            <p:nvPr/>
          </p:nvPicPr>
          <p:blipFill>
            <a:blip r:embed="rId2"/>
            <a:stretch/>
          </p:blipFill>
          <p:spPr>
            <a:xfrm>
              <a:off x="6215040" y="214200"/>
              <a:ext cx="1383840" cy="785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rigen">
  <a:themeElements>
    <a:clrScheme name="Orige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rigen">
  <a:themeElements>
    <a:clrScheme name="Orige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rigen">
  <a:themeElements>
    <a:clrScheme name="Orige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rigin</Template>
  <TotalTime>148</TotalTime>
  <Application>LibreOffice/7.4.7.2$Linux_X86_64 LibreOffice_project/40$Build-2</Application>
  <AppVersion>15.0000</AppVersion>
  <Words>522</Words>
  <Paragraphs>13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és Muñoz O.</cp:lastModifiedBy>
  <dcterms:modified xsi:type="dcterms:W3CDTF">2008-07-30T03:03:39Z</dcterms:modified>
  <cp:revision>11</cp:revision>
  <dc:subject/>
  <dc:title>CC61J – Taller de UM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Presentación en pantalla (4:3)</vt:lpwstr>
  </property>
  <property fmtid="{D5CDD505-2E9C-101B-9397-08002B2CF9AE}" pid="3" name="Slides">
    <vt:r8>17</vt:r8>
  </property>
</Properties>
</file>