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8F4-67D3-4F8D-A195-5F9FAE34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21D-58FD-4B43-9655-72A0E0CD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710-DDF4-4EA9-B74E-03CA97B2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177-F2F7-45F0-8265-A0BCB774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BD32-2B4F-4074-8A10-5303BFAF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E879-4794-4A38-B540-8AC45969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E386-1344-45E1-85B6-6DB237EA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5981-BFDD-4959-8602-860EF124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F373-A158-4E43-9CE4-74A6B5B2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A06F-B9A8-4A25-BCBB-16CEC45E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3717-5D91-4DAA-BD96-6D55237E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F3F-7129-4372-972D-2C4DA28F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93BB-417C-4A29-BF1E-211105FE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0662-7011-46A2-A1DE-F176A648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3B8E-96D8-417B-8B6F-A5A9BE11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F228-557C-4789-9099-5A82F061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B663-8A73-4817-89FF-F6A758BA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66C0-F5E7-49C4-A62B-A38E9BF3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6985B-C19E-4CC9-B4F4-B35B9DAA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279A-B973-415F-9ABB-E75118EE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25326-F5F5-495C-904A-645C7C70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C6F2-E599-4B1A-9EC8-095F000A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5D5-9044-4F07-AEEC-B7A75428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7A8A-F883-4AF1-A048-06B4CEA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C057-8459-4D6A-ADEC-A8F10D4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7C6FD-8704-407F-AD7D-65B774C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0AB3-F2BF-4CC0-BAA4-FB2AE85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8174-03FA-4CA5-A7D5-53FAA79A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C588-8297-4C23-88EC-6A2116E4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E7A3-932A-4485-9B91-D3A7E250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BA4-4576-44A9-897B-E36A69CC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404-1631-4250-8908-287CD8FF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A84-546D-4036-9748-B64D7B9C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B42-DE25-41A6-B11C-739999DA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71C-99BA-4784-9FDB-5333C05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03D-AE96-43C1-9A5C-B96E07EE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9 Triángulo isósceles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A721B8A-F51A-44E6-9CE8-516B27D36098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20 Rectángulo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32 Rectángulo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21 Rectángulo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31 Rectángulo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9 Triángulo isósceles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1088E92-C102-4526-9681-34A5E8EEA852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9 Triángulo isósceles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651C64A-ACA7-4271-A4A8-6A34FC14D664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C61J – Taller de UML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Profesor: Andrés Muñoz Ord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29 de Julio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4 Imagen" descr="uml_logo_200x145.gif"/>
          <p:cNvPicPr/>
          <p:nvPr/>
        </p:nvPicPr>
        <p:blipFill>
          <a:blip r:embed="rId1"/>
          <a:stretch/>
        </p:blipFill>
        <p:spPr>
          <a:xfrm>
            <a:off x="6286680" y="1785960"/>
            <a:ext cx="1904760" cy="1380600"/>
          </a:xfrm>
          <a:prstGeom prst="rect">
            <a:avLst/>
          </a:prstGeom>
          <a:ln w="0">
            <a:noFill/>
          </a:ln>
        </p:spPr>
      </p:pic>
      <p:pic>
        <p:nvPicPr>
          <p:cNvPr id="140" name="5 Imagen" descr="logo_dcc.gif"/>
          <p:cNvPicPr/>
          <p:nvPr/>
        </p:nvPicPr>
        <p:blipFill>
          <a:blip r:embed="rId2"/>
          <a:stretch/>
        </p:blipFill>
        <p:spPr>
          <a:xfrm>
            <a:off x="928800" y="1714320"/>
            <a:ext cx="2432880" cy="135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n 1994 Rumbaugh se unió a Rational (donde se desempeñaba Booch), y comenzaron a trabajar en la unificación de sus métod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n 1995 Booch y Rumbaugh presentaron el “método unificado”, basado en la unión de sus métod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osteriormente Jacobson se unió a Rational, y en 1997 Rational entregó una definición de Unified Modeling Language a OMG (Object Management Group, http://www.omg.org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7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88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6 Imagen" descr="duke_guide.gif"/>
          <p:cNvPicPr/>
          <p:nvPr/>
        </p:nvPicPr>
        <p:blipFill>
          <a:blip r:embed="rId3"/>
          <a:stretch/>
        </p:blipFill>
        <p:spPr>
          <a:xfrm>
            <a:off x="6786720" y="4786200"/>
            <a:ext cx="14569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ML (Unified Modeling Language) es hoy la notación estándar para el modelamiento de aplicaciones con tecnologías orientadas a objetos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ctualmente se encuentra en su versión 2.0 (aparecida en octubre del año 2004), y es mantenido por OMG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isten diversas herramientas (CASE) que soportan UML, entre las que se cuentan: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Rational Rose, WebSphere Application Developer Studio, Rational Software Architect, etc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Borland Together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Enterprise Architect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Sybase PowerDesigner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Poseidon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ArgoUM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9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Descripción del Curso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198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9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Objetivos y Metodologí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Objetiv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render los conceptos más importantes del modelamiento orientado a objetos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Obtener la experiencia de utilizar una herramienta CASE para el modelamiento de UML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Metodología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so intensivo del lenguaje de modelamiento UML notación 2.0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 de ejercicios prácticos que serán modelados usando este lenguaje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utoaprendizaje durante cada sesión del curso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0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tenido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troducción al UML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Gestión de Requerimient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asos de Us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steriotip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Proceso Unificado Rational (RUP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iagramas y Model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la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cuencia y Comport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Instanci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stad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onent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stribu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8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0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Evaluaci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oyecto del Curso (70%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rá entregado al principio del curso (segunda semana)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divide en 4 entregas, cada una vale el 25% de la nota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a pauta será entregada junto al enunciado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jercicios (30%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s en cla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ctur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1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6 Imagen" descr="duke_city.jpg"/>
          <p:cNvPicPr/>
          <p:nvPr/>
        </p:nvPicPr>
        <p:blipFill>
          <a:blip r:embed="rId3"/>
          <a:stretch/>
        </p:blipFill>
        <p:spPr>
          <a:xfrm>
            <a:off x="7000920" y="4500720"/>
            <a:ext cx="1356840" cy="14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Bibliografí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. Booch, J. Rumbaugh, I. Jacobso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The Unified Modeling Language Reference Manua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Addison Wesle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. Booch, J. Rumbaugh, I. Jacobso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uía del Usuario del Lenguaje Unificado de Modelado UM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Addison Wesle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Craig Larma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y Patron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rtin Fowler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Gota a Got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ul Kimme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DeMistifyed: A Self Teaching Gui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c Graw Hi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05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erdita Steven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tilización de UML en Ingeniería de Software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Kim Hamilton, Russell Mil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Learning UML 2.0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’Reall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ul Kimme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nual de UML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c Graw Hi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ike O’Docherty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bject Oriented Analysis and Desig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Raúl Alarcó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Diseño Orientado a Objetos con UM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rupo Eidos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20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21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Gracia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Hasta la Próxim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26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on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¿Qué es UML?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alizar Actividad de Trabaj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lenario del Curs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finición Forma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seña Históric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escripción del Curso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Objetivos y Metodolog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ntenid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valuacion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Bibliograf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4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6 Imagen" descr="duke_hello.gif"/>
          <p:cNvPicPr/>
          <p:nvPr/>
        </p:nvPicPr>
        <p:blipFill>
          <a:blip r:embed="rId3"/>
          <a:stretch/>
        </p:blipFill>
        <p:spPr>
          <a:xfrm>
            <a:off x="6143760" y="2571840"/>
            <a:ext cx="2428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Presentacione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ón del Profesor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rofesor Part-Tim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Trabaja en el Ministerio de Salud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ntacto: andmunoz@dcc.uchile.c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ones de Alumn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¿Quiénes son?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¿Por qué inscribieron el curso?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9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5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Actividad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55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strucciones (15 min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ar mapa de ideas con lo que sabe sobre UML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Mapa de Ideas: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iagrama en donde el concepto principal es el centro del diagrama y se descompone en los diferentes conceptos relacionados que lo rodean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9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6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Picture 2" descr=""/>
          <p:cNvPicPr/>
          <p:nvPr/>
        </p:nvPicPr>
        <p:blipFill>
          <a:blip r:embed="rId3"/>
          <a:stretch/>
        </p:blipFill>
        <p:spPr>
          <a:xfrm>
            <a:off x="1714320" y="3501000"/>
            <a:ext cx="6071760" cy="2790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deas de Concepto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nguaj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Model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agram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ort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lases y Objet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cuenci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labora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atron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rtefact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Factor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intaxi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reado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agram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ota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6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6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Pl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72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Definición Formal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1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e Unified Modeling Language (UML) is a graphical language for visualizing, specifying, constructing, and documenting the artifacts of a software-intensive system. The UML offers a standard way to write a system's blueprints, including conceptual things such as business processes and system functions as well as concrete things such as programming language statements, database schemas, and reusable software components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e UML represents the culmination of best practices in practical object-oriented modeling. The UML is the product of several years of hard work, in which we focused on bringing about a unification of the methods most used around the world, the adoption of good ideas from many quarters of the industry, and, above all, a concentrated effort to make things simple.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pecificación de UML 1.5, Foreword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och, Jacobson, Rumbaugh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6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7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6 Imagen" descr="duke_thinking.gif"/>
          <p:cNvPicPr/>
          <p:nvPr/>
        </p:nvPicPr>
        <p:blipFill>
          <a:blip r:embed="rId3"/>
          <a:stretch/>
        </p:blipFill>
        <p:spPr>
          <a:xfrm flipH="1">
            <a:off x="857520" y="5072040"/>
            <a:ext cx="975960" cy="96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A comienzos de los años '90 aparecieron múltiples metodologías y notaciones gráficas para análisis y diseño orientados a objeto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Grady Booch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James Rumbaugh: OMT (Object Modeling Technique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var Jacobson: OOSE (Object-Oriented Software </a:t>
            </a: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ngineering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eter Coad y Edward Yourdo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ally Shlaer y Stephen Mello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2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83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48</TotalTime>
  <Application>LibreOffice/7.4.7.2$Linux_X86_64 LibreOffice_project/40$Build-2</Application>
  <AppVersion>15.0000</AppVersion>
  <Words>522</Words>
  <Paragraphs>1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és Muñoz O.</cp:lastModifiedBy>
  <dcterms:modified xsi:type="dcterms:W3CDTF">2008-07-30T03:03:39Z</dcterms:modified>
  <cp:revision>11</cp:revision>
  <dc:subject/>
  <dc:title>CC61J – Taller de U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17</vt:r8>
  </property>
</Properties>
</file>