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C48-46CC-4962-BFC9-C6B41119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FBC-BDAA-4196-92E2-B0F51928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D92-D5FA-4EE0-829B-29FEF2BC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7B6-7936-4E01-92C7-D91BCE1C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CF47-56DF-4FC2-808F-D2BCA035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EDA1-506B-46A3-8950-175502A9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EAF9-8C7D-4292-B913-DCA3AF48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C83F-8B6F-4B8B-99FB-21305608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C297-D980-44E1-BBC2-B8A219C1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5586-8D00-41FF-B648-AB33AF34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0D64-9873-4B16-8FD9-E7C0C9E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5F5-F05A-4255-99F9-40140585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D19F-E398-46E8-9F0C-9DC2A46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E3A7-0677-4137-A2F3-CEDBB7A8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3DAC-EAB6-4FD3-B311-4C4E2FE3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7EEF-7C04-4D1D-A8F0-9A6CFAB6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502A-0A83-4319-8585-A8804AE2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F449-7342-40F7-8DB0-59A7468D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3446-8854-4F7B-9EEA-4476747C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829C-1184-4891-99C8-5CBF0DC4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9993-CDA7-4F79-AEAF-0E2D178C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9A20-E5DB-4B30-AB40-045306FB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919-1757-4AA1-B5C0-5754EC4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71C9-E656-4416-9E59-54B607EC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08ED-451F-4ABE-B105-B5F99229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85888-A768-498F-AAAA-3857A229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4221-684E-4438-AF79-FB091619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2029-DAB4-46FF-BEE8-58477CE5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D32E-E405-4200-BAD5-8BE8FAFF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300D-356A-4451-A8B6-03199C59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1CB-2972-4F95-B7EE-BA4E6049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CD6-177E-4496-934F-5A736B98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17C-BE3E-4F5F-952E-F1F33DB5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2ED-4A36-41EB-807F-2B68B095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129-9D79-4F0C-9156-582EECB2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3EF-1F14-4D19-B668-119679C8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9 Triángulo isósceles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CA50A7B-22C6-4BB0-95ED-13C5F7D29C33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20 Rectángulo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32 Rectángulo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21 Rectángulo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31 Rectángulo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A35588F-E6B6-451A-9CD2-4B411126C17E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DD924F2-0F72-40D8-9568-21DF5CD1A053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C61J – Taller de UM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Profesor: Andrés Muñoz Ord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29 de Julio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4 Imagen" descr="uml_logo_200x145.gif"/>
          <p:cNvPicPr/>
          <p:nvPr/>
        </p:nvPicPr>
        <p:blipFill>
          <a:blip r:embed="rId1"/>
          <a:stretch/>
        </p:blipFill>
        <p:spPr>
          <a:xfrm>
            <a:off x="6286680" y="1785960"/>
            <a:ext cx="1904760" cy="1380600"/>
          </a:xfrm>
          <a:prstGeom prst="rect">
            <a:avLst/>
          </a:prstGeom>
          <a:ln w="0">
            <a:noFill/>
          </a:ln>
        </p:spPr>
      </p:pic>
      <p:pic>
        <p:nvPicPr>
          <p:cNvPr id="140" name="5 Imagen" descr="logo_dcc.gif"/>
          <p:cNvPicPr/>
          <p:nvPr/>
        </p:nvPicPr>
        <p:blipFill>
          <a:blip r:embed="rId2"/>
          <a:stretch/>
        </p:blipFill>
        <p:spPr>
          <a:xfrm>
            <a:off x="928800" y="1714320"/>
            <a:ext cx="2432880" cy="13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n 1994 Rumbaugh se unió a Rational (donde se desempeñaba Booch), y comenzaron a trabajar en la unificación de sus métod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 1995 Booch y Rumbaugh presentaron el “método unificado”, basado en la unión de sus méto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osteriormente Jacobson se unió a Rational, y en 1997 Rational entregó una definición de Unified Modeling Language a OMG (Object Management Group, http://www.omg.or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7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8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6 Imagen" descr="duke_guide.gif"/>
          <p:cNvPicPr/>
          <p:nvPr/>
        </p:nvPicPr>
        <p:blipFill>
          <a:blip r:embed="rId3"/>
          <a:stretch/>
        </p:blipFill>
        <p:spPr>
          <a:xfrm>
            <a:off x="6786720" y="4786200"/>
            <a:ext cx="14569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ML (Unified Modeling Language) es hoy la notación estándar para el modelamiento de aplicaciones con tecnologías orientadas a objetos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ctualmente se encuentra en su versión 2.0 (aparecida en octubre del año 2004), y es mantenido por OMG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isten diversas herramientas (CASE) que soportan UML, entre las que se cuentan: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Rational Rose, WebSphere Application Developer Studio, Rational Software Architect, etc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Borland Togeth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Enterprise Architect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Sybase PowerDesign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Poseidon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ArgoUM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Descripción del Curso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19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Objetivos y Metodolog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Objetiv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render los conceptos más importantes del modelamiento orientado a objetos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tener la experiencia de utilizar una herramienta CASE para el modelamiento d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so intensivo del lenguaje de modelamiento UML notación 2.0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 de ejercicios prácticos que serán modelados usando este lenguaje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utoaprendizaje durante cada sesión del curs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tenido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troducción al UML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Gestión de Requerimient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asos de U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eriotip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Proceso Unificado Rational (RUP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iagramas y Model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 y 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Instanci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ad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nent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stribu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Evaluaci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oyecto del Curso (7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rá entregado al principio del curso (segunda semana)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divide en 4 entregas, cada una vale el 25% de la nota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a pauta será entregada junto al enunciad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jercicios (3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s en 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ctur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1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6 Imagen" descr="duke_city.jpg"/>
          <p:cNvPicPr/>
          <p:nvPr/>
        </p:nvPicPr>
        <p:blipFill>
          <a:blip r:embed="rId3"/>
          <a:stretch/>
        </p:blipFill>
        <p:spPr>
          <a:xfrm>
            <a:off x="7000920" y="4500720"/>
            <a:ext cx="1356840" cy="14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Bibliograf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The Unified Modeling Language Reference Manua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uía del Usuario del Lenguaje Unificado de Modelado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Craig Larma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y Patron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rtin Fowler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Gota a Got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DeMistifyed: A Self Teaching Gui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05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erdita Steven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tilización de UML en Ingeniería de Software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Kim Hamilton, Russell Mil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earning UML 2.0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’Reall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nual de UML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ike O’Docherty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bject Oriented Analysis and Desig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Raúl Alarcó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Diseño Orientado a Objetos con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rupo Eidos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20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1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Gracia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Hasta la Próxim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6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¿Qué es UML?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alizar Actividad de Trabaj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lenario del Cur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finición Forma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seña Históric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escripción del Curso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jetivos y Metodolog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eni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valuaci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Bibliograf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4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6 Imagen" descr="duke_hello.gif"/>
          <p:cNvPicPr/>
          <p:nvPr/>
        </p:nvPicPr>
        <p:blipFill>
          <a:blip r:embed="rId3"/>
          <a:stretch/>
        </p:blipFill>
        <p:spPr>
          <a:xfrm>
            <a:off x="6143760" y="2571840"/>
            <a:ext cx="2428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Presentacione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ón del Profesor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rofesor Part-Tim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Trabaja en el Ministerio de Salud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acto: andmunoz@dcc.uchile.c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 de Alumn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Quiénes son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Por qué inscribieron el curso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Actividad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5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strucciones (15 min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ar mapa de ideas con lo que sabe sobr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apa de Ideas: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iagrama en donde el concepto principal es el centro del diagrama y se descompone en los diferentes conceptos relacionados que lo rodean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1714320" y="3501000"/>
            <a:ext cx="6071760" cy="2790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deas de Concep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nguaj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odel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 y Obje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labor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atr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rtefac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Factor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intaxi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read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ot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Pl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2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Definición Forma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1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nified Modeling Language (UML) is a graphical language for visualizing, specifying, constructing, and documenting the artifacts of a software-intensive system. The UML offers a standard way to write a system's blueprints, including conceptual things such as business processes and system functions as well as concrete things such as programming language statements, database schemas, and reusable software components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ML represents the culmination of best practices in practical object-oriented modeling. The UML is the product of several years of hard work, in which we focused on bringing about a unification of the methods most used around the world, the adoption of good ideas from many quarters of the industry, and, above all, a concentrated effort to make things simple.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pecificación de UML 1.5, Foreword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och, Jacobson, Rumbaugh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6 Imagen" descr="duke_thinking.gif"/>
          <p:cNvPicPr/>
          <p:nvPr/>
        </p:nvPicPr>
        <p:blipFill>
          <a:blip r:embed="rId3"/>
          <a:stretch/>
        </p:blipFill>
        <p:spPr>
          <a:xfrm flipH="1">
            <a:off x="857520" y="5072040"/>
            <a:ext cx="975960" cy="96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A comienzos de los años '90 aparecieron múltiples metodologías y notaciones gráficas para análisis y diseño orientados a obje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Grady Booch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James Rumbaugh: OMT (Object Modeling Technique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var Jacobson: OOSE (Object-Oriented Software </a:t>
            </a: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gineerin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ter Coad y Edward Yourdo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ally Shlaer y Stephen Mell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2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3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48</TotalTime>
  <Application>LibreOffice/7.4.7.2$Linux_X86_64 LibreOffice_project/40$Build-2</Application>
  <AppVersion>15.0000</AppVersion>
  <Words>522</Words>
  <Paragraphs>1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s Muñoz O.</cp:lastModifiedBy>
  <dcterms:modified xsi:type="dcterms:W3CDTF">2008-07-30T03:03:39Z</dcterms:modified>
  <cp:revision>11</cp:revision>
  <dc:subject/>
  <dc:title>CC61J – Taller de U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17</vt:r8>
  </property>
</Properties>
</file>