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4E0-DEA3-4978-9535-03B8FD7F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D7C-3AD0-4757-9C5A-734A84A3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539-7D28-450E-8C23-7B35F1CA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8CD-04F4-48AA-A686-A2E8D144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5F31-27E2-4AC8-8667-16F23BF2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6132-2442-4184-874C-3BEB357E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8B39-5BA3-450E-A31C-744B7D6B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85AA-E9A6-4467-8180-F7A99E76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38E1-1A9E-430D-B812-12CE5D06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4E5B-C81C-4839-9220-94FB9C56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06AC-8A2E-4D8C-94FA-94669277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24F-5323-4284-A846-2EC20056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AAD4-0DF8-45C3-A54B-2E2DD59E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A88E-F385-4AC0-BC55-D10CECC0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C76C-A4A3-45C9-ABB5-3ABDDA86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55B4-B4B1-48D1-A8CA-A63BC6FA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8D64-0808-464C-96FD-B785910B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4A8-7B2A-4B17-A33A-0E8C201C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510-415F-4ECF-8D1B-2B5754BE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C60-BF3E-4E6E-B282-8A8F9C00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2D3-D661-4374-BAF8-2DBB87B8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648-607F-45E6-82DB-9E7AAAF2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4BF-9076-4BE8-ADC1-161F61AA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095-8FF0-41E7-A2DB-140FAAB5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568A-3028-4E89-89E3-F56CBDAD8A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0611-1861-462D-B015-D9329158C80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8/UDP_encapsulation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.bustos@inf.udp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gramación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istribuidos típ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es de sen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5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76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epaso de re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98" name="" descr="The OSI Mod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6385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14800" cy="233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684400" y="306216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el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 de Red: Internet Protocol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816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Transmission Control Protocol (TC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293840" y="2602080"/>
            <a:ext cx="7316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User Datagram Protocol (U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257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odelos de 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nto a punto (un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ltipunto (mult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inter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/servid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ódigo móv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cnologías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so de mensajes: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lamada a procedimientos remotos (RP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ocación de métodos remotos (RM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cnologías de objetos distribuidos: CORBA, DCOM, EJ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rvicios web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8-07-30T13:13:51Z</dcterms:modified>
  <cp:revision>125</cp:revision>
  <dc:subject/>
  <dc:title>Sistemas Distribuídos</dc:title>
</cp:coreProperties>
</file>