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316-6D52-4410-A723-C85767C1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608-2626-436A-A44D-3916C4BE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C11-6FCF-42E5-B9C0-DA9F4719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38B-CC40-4C0A-8D9C-3DF7FCF4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1CDE-434B-4A98-AB79-C94E73D2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103A-6629-4DE7-866D-374A3A27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58AE-7C70-42B0-A6D1-A4ADEDFF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8FBE-98C4-4D49-993F-D81C621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EC5B-337A-408D-ACCE-E6FBA08B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F2EA-3265-4E12-88B2-102C29E6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052F-BBCA-4133-AE2B-9F60648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B01-C34D-416C-A70D-7CF95ECD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37DB-9D18-49DE-B1DC-E96AAC9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83A2-3E9F-4547-9053-CE783315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866D-D5FF-4537-B326-EED8DB90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4D83-1D88-4408-BCE9-15E85EBD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B02A-9E22-42A3-90B7-A2966143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C2E-4A66-4BEC-99A6-0FE85CEA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318-00BB-4E87-939D-188B5938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01B-87EE-4F9D-BC16-61860E55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EE2-D613-4BD0-8719-72AA4948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44F-08DB-4198-AC50-FD2257D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536-F64E-4F48-8341-D8D53D4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14B-472F-4F9E-8E74-964CD62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26FE-1884-4A17-B644-5B6138DCD5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F0F2-6C66-48A8-8538-08FE4005D5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5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76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98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684400" y="30621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ata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7-30T13:13:51Z</dcterms:modified>
  <cp:revision>125</cp:revision>
  <dc:subject/>
  <dc:title>Sistemas Distribuídos</dc:title>
</cp:coreProperties>
</file>