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C1F4-1BA4-4549-9612-25927200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B9F6-0999-4AF1-8F17-0EA21784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8CFE-9BD9-42FD-B305-17E4AF82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6EAA-ECD5-493C-8230-06951B8D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C452-D9E6-4E24-B4E0-BEADFD58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1C07-97C0-4488-92B2-5DAA0B15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7ED5-7BDB-469E-A91C-AF42E9DC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527D-A4B9-4AFB-97F2-D5448930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3C94-2057-48E2-BA5B-B5765D7F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49E1-023B-491B-9D3E-0149F1CD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1427-5946-47E4-9629-8F553E9E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766-A56E-4E3F-B25F-0E4CC3ED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AD68-7501-4743-A959-73219A0B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55CC-7F9D-4ACE-8B35-98635D15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F50A-985A-4F9E-A9A7-8D243D1A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151F-4E5C-496B-A733-F6FD5E88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15E5-DC8E-4F37-ABFB-0850970C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8004-929F-4869-8099-E1CAF1B7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AAEA-344B-4A15-AAC0-8789F7A5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9A12-AE78-4CB1-ABB6-218FA68C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8F08-EB6D-408E-A2ED-D2298D73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742D-3CB5-4841-9238-40C1EB98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30A4-B097-478D-9A8F-1BEA9A27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38C-2AC6-42C8-AD31-5A0D2A87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69B1-3E84-4EC3-9F2D-975C0C99BF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EA60-30C7-4D13-9E53-07FF881D0A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stributed Fil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3792600"/>
            <a:ext cx="858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C6B9-C089-4B93-AF3F-8CF322341C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ntents of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Edla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1/mail@elux3.cs.umass.edu:/var/spool/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ers/users1@elsrv1:/users/users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courses/cs300@elsrv3:/courses/cs3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rcf/common@elsrv1:/exp/rcf/comm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F959-5BD0-4CA5-AD3A-EC35EC6121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71840" y="1959120"/>
            <a:ext cx="516420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90E0-7A89-4E04-A37E-F0600E21E96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name sp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S (CMU’s Andrew Fil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te (Berkel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atter which node you are 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names remain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: gets filename structure from server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users access files, server sends copies to workstation, where they are c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58C0-8635-4388-A534-4221463CD18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ing – 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ll files are same regardless of where you 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 bi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nam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ving them is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for OS to keep files consistent (cac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name space may limit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3F9C-B87A-42D4-BF53-2D7E5331C9B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043-2AED-4126-B337-631C345A6D6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Access &amp;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ccess f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ly: returns results using RPC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mot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part of file, perform local access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ing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&amp; when are file blocks cach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re modifications propagated back to remot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multiple clients cache sam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7D02-E1F8-401F-98CF-AFAA162539B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access time (compared to remo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 if node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client to have disk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memo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acces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ithout di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cach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3BD-0F18-44CD-B827-14AB102BB3A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Update Poli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throu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to remote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performance = remote service for all w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b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only 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to disk on evictions, periodic sy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network traffic (repeated writes to same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achine crash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D472-672E-4761-8AF1-BDCBA6BC48B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ent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contacts server and checks consis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eck every acces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upon open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er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detects potential conflicts, invalidates c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needs to know which clients have cached which parts of which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clients are readers &amp; which are wri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92A-CB85-4FC2-AA31-898AAAD6C72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sistency Maintenance in Various Storag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4040" y="2232000"/>
            <a:ext cx="7911360" cy="4076640"/>
            <a:chOff x="554040" y="2232000"/>
            <a:chExt cx="7911360" cy="4076640"/>
          </a:xfrm>
        </p:grpSpPr>
        <p:sp>
          <p:nvSpPr>
            <p:cNvPr id="178" name=""/>
            <p:cNvSpPr/>
            <p:nvPr/>
          </p:nvSpPr>
          <p:spPr>
            <a:xfrm>
              <a:off x="3115080" y="2346120"/>
              <a:ext cx="646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2600" y="23461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Persi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1880" y="2558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88560" y="234612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88920" y="2558880"/>
              <a:ext cx="118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ache/rep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26240" y="2346120"/>
              <a:ext cx="98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onsis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6240" y="255888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34612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4440" y="2984400"/>
              <a:ext cx="115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in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24600" y="30477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4080" y="343044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27840" y="3430440"/>
              <a:ext cx="144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NIX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6240" y="3792240"/>
              <a:ext cx="184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880" y="3792240"/>
              <a:ext cx="73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un 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560" y="41954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26040" y="411120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6240" y="4600440"/>
              <a:ext cx="222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shared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24960" y="460044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vy (Ch. 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520" y="5003640"/>
              <a:ext cx="229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te objects (RMI/OR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23160" y="50036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5880" y="540828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sistent object 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56000" y="5406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25320" y="5408280"/>
              <a:ext cx="154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 Persis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26760" y="562104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000" y="5981400"/>
              <a:ext cx="254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Persistent distributed object st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6400" y="5981400"/>
              <a:ext cx="139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DiS, Khaz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429000" y="3105000"/>
              <a:ext cx="117360" cy="126360"/>
              <a:chOff x="3429000" y="3105000"/>
              <a:chExt cx="117360" cy="126360"/>
            </a:xfrm>
          </p:grpSpPr>
          <p:sp>
            <p:nvSpPr>
              <p:cNvPr id="205" name=""/>
              <p:cNvSpPr/>
              <p:nvPr/>
            </p:nvSpPr>
            <p:spPr>
              <a:xfrm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052880" y="3095280"/>
              <a:ext cx="115920" cy="126720"/>
              <a:chOff x="4052880" y="3095280"/>
              <a:chExt cx="115920" cy="126720"/>
            </a:xfrm>
          </p:grpSpPr>
          <p:sp>
            <p:nvSpPr>
              <p:cNvPr id="208" name=""/>
              <p:cNvSpPr/>
              <p:nvPr/>
            </p:nvSpPr>
            <p:spPr>
              <a:xfrm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915080" y="3085920"/>
              <a:ext cx="117360" cy="126720"/>
              <a:chOff x="4915080" y="3085920"/>
              <a:chExt cx="117360" cy="126720"/>
            </a:xfrm>
          </p:grpSpPr>
          <p:sp>
            <p:nvSpPr>
              <p:cNvPr id="211" name=""/>
              <p:cNvSpPr/>
              <p:nvPr/>
            </p:nvSpPr>
            <p:spPr>
              <a:xfrm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441240" y="3479400"/>
              <a:ext cx="118080" cy="126720"/>
              <a:chOff x="3441240" y="3479400"/>
              <a:chExt cx="118080" cy="126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44160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44124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046400" y="3463560"/>
              <a:ext cx="117000" cy="133200"/>
              <a:chOff x="4046400" y="3463560"/>
              <a:chExt cx="117000" cy="133200"/>
            </a:xfrm>
          </p:grpSpPr>
          <p:sp>
            <p:nvSpPr>
              <p:cNvPr id="217" name=""/>
              <p:cNvSpPr/>
              <p:nvPr/>
            </p:nvSpPr>
            <p:spPr>
              <a:xfrm>
                <a:off x="4046400" y="35456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063680" y="346356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927680" y="3460320"/>
              <a:ext cx="117360" cy="126720"/>
              <a:chOff x="4927680" y="3460320"/>
              <a:chExt cx="117360" cy="126720"/>
            </a:xfrm>
          </p:grpSpPr>
          <p:sp>
            <p:nvSpPr>
              <p:cNvPr id="220" name=""/>
              <p:cNvSpPr/>
              <p:nvPr/>
            </p:nvSpPr>
            <p:spPr>
              <a:xfrm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052880" y="3838320"/>
              <a:ext cx="115200" cy="132840"/>
              <a:chOff x="4052880" y="3838320"/>
              <a:chExt cx="115200" cy="132840"/>
            </a:xfrm>
          </p:grpSpPr>
          <p:sp>
            <p:nvSpPr>
              <p:cNvPr id="223" name=""/>
              <p:cNvSpPr/>
              <p:nvPr/>
            </p:nvSpPr>
            <p:spPr>
              <a:xfrm>
                <a:off x="4052880" y="39200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069800" y="383832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440160" y="3844800"/>
              <a:ext cx="117000" cy="132840"/>
              <a:chOff x="3440160" y="3844800"/>
              <a:chExt cx="117000" cy="1328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40160" y="39265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457800" y="38448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911840" y="3850920"/>
              <a:ext cx="115200" cy="133200"/>
              <a:chOff x="4911840" y="3850920"/>
              <a:chExt cx="115200" cy="133200"/>
            </a:xfrm>
          </p:grpSpPr>
          <p:sp>
            <p:nvSpPr>
              <p:cNvPr id="229" name=""/>
              <p:cNvSpPr/>
              <p:nvPr/>
            </p:nvSpPr>
            <p:spPr>
              <a:xfrm>
                <a:off x="4911840" y="3933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928760" y="3850920"/>
                <a:ext cx="9828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145200" y="3857400"/>
              <a:ext cx="117000" cy="132840"/>
              <a:chOff x="6145200" y="3857400"/>
              <a:chExt cx="117000" cy="132840"/>
            </a:xfrm>
          </p:grpSpPr>
          <p:sp>
            <p:nvSpPr>
              <p:cNvPr id="232" name=""/>
              <p:cNvSpPr/>
              <p:nvPr/>
            </p:nvSpPr>
            <p:spPr>
              <a:xfrm>
                <a:off x="6145200" y="3939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162840" y="38574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057560" y="4238280"/>
              <a:ext cx="117000" cy="133200"/>
              <a:chOff x="4057560" y="4238280"/>
              <a:chExt cx="117000" cy="133200"/>
            </a:xfrm>
          </p:grpSpPr>
          <p:sp>
            <p:nvSpPr>
              <p:cNvPr id="235" name=""/>
              <p:cNvSpPr/>
              <p:nvPr/>
            </p:nvSpPr>
            <p:spPr>
              <a:xfrm>
                <a:off x="4057560" y="43203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074840" y="42382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444840" y="4244760"/>
              <a:ext cx="117000" cy="132840"/>
              <a:chOff x="3444840" y="4244760"/>
              <a:chExt cx="117000" cy="13284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4840" y="43264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3462120" y="424476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916520" y="4251240"/>
              <a:ext cx="117000" cy="132840"/>
              <a:chOff x="4916520" y="4251240"/>
              <a:chExt cx="117000" cy="132840"/>
            </a:xfrm>
          </p:grpSpPr>
          <p:sp>
            <p:nvSpPr>
              <p:cNvPr id="241" name=""/>
              <p:cNvSpPr/>
              <p:nvPr/>
            </p:nvSpPr>
            <p:spPr>
              <a:xfrm>
                <a:off x="4916520" y="43329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934160" y="425124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451320" y="4644720"/>
              <a:ext cx="117000" cy="133200"/>
              <a:chOff x="3451320" y="4644720"/>
              <a:chExt cx="117000" cy="133200"/>
            </a:xfrm>
          </p:grpSpPr>
          <p:sp>
            <p:nvSpPr>
              <p:cNvPr id="244" name=""/>
              <p:cNvSpPr/>
              <p:nvPr/>
            </p:nvSpPr>
            <p:spPr>
              <a:xfrm>
                <a:off x="3451320" y="47268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3468960" y="46447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23000" y="4651200"/>
              <a:ext cx="117000" cy="132840"/>
              <a:chOff x="4923000" y="4651200"/>
              <a:chExt cx="117000" cy="132840"/>
            </a:xfrm>
          </p:grpSpPr>
          <p:sp>
            <p:nvSpPr>
              <p:cNvPr id="247" name=""/>
              <p:cNvSpPr/>
              <p:nvPr/>
            </p:nvSpPr>
            <p:spPr>
              <a:xfrm>
                <a:off x="4923000" y="47329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940640" y="46512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6145200" y="4657320"/>
              <a:ext cx="117000" cy="133200"/>
              <a:chOff x="6145200" y="4657320"/>
              <a:chExt cx="117000" cy="133200"/>
            </a:xfrm>
          </p:grpSpPr>
          <p:sp>
            <p:nvSpPr>
              <p:cNvPr id="250" name=""/>
              <p:cNvSpPr/>
              <p:nvPr/>
            </p:nvSpPr>
            <p:spPr>
              <a:xfrm>
                <a:off x="6145200" y="47394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162840" y="46573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457440" y="5044680"/>
              <a:ext cx="117000" cy="133200"/>
              <a:chOff x="3457440" y="5044680"/>
              <a:chExt cx="117000" cy="133200"/>
            </a:xfrm>
          </p:grpSpPr>
          <p:sp>
            <p:nvSpPr>
              <p:cNvPr id="253" name=""/>
              <p:cNvSpPr/>
              <p:nvPr/>
            </p:nvSpPr>
            <p:spPr>
              <a:xfrm>
                <a:off x="3457440" y="51267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474720" y="50446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075200" y="5438520"/>
              <a:ext cx="117000" cy="132840"/>
              <a:chOff x="4075200" y="5438520"/>
              <a:chExt cx="117000" cy="132840"/>
            </a:xfrm>
          </p:grpSpPr>
          <p:sp>
            <p:nvSpPr>
              <p:cNvPr id="256" name=""/>
              <p:cNvSpPr/>
              <p:nvPr/>
            </p:nvSpPr>
            <p:spPr>
              <a:xfrm>
                <a:off x="4075200" y="55202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092840" y="543852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463920" y="5445000"/>
              <a:ext cx="115200" cy="132840"/>
              <a:chOff x="3463920" y="5445000"/>
              <a:chExt cx="115200" cy="132840"/>
            </a:xfrm>
          </p:grpSpPr>
          <p:sp>
            <p:nvSpPr>
              <p:cNvPr id="259" name=""/>
              <p:cNvSpPr/>
              <p:nvPr/>
            </p:nvSpPr>
            <p:spPr>
              <a:xfrm>
                <a:off x="3463920" y="55267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480840" y="544500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081680" y="6028920"/>
              <a:ext cx="117000" cy="133200"/>
              <a:chOff x="4081680" y="6028920"/>
              <a:chExt cx="117000" cy="133200"/>
            </a:xfrm>
          </p:grpSpPr>
          <p:sp>
            <p:nvSpPr>
              <p:cNvPr id="262" name=""/>
              <p:cNvSpPr/>
              <p:nvPr/>
            </p:nvSpPr>
            <p:spPr>
              <a:xfrm>
                <a:off x="4081680" y="6111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099320" y="60289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68600" y="6035400"/>
              <a:ext cx="117000" cy="132840"/>
              <a:chOff x="3468600" y="6035400"/>
              <a:chExt cx="117000" cy="132840"/>
            </a:xfrm>
          </p:grpSpPr>
          <p:sp>
            <p:nvSpPr>
              <p:cNvPr id="265" name=""/>
              <p:cNvSpPr/>
              <p:nvPr/>
            </p:nvSpPr>
            <p:spPr>
              <a:xfrm>
                <a:off x="3468600" y="6117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485880" y="603540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940280" y="6041880"/>
              <a:ext cx="117000" cy="132840"/>
              <a:chOff x="4940280" y="6041880"/>
              <a:chExt cx="117000" cy="132840"/>
            </a:xfrm>
          </p:grpSpPr>
          <p:sp>
            <p:nvSpPr>
              <p:cNvPr id="268" name=""/>
              <p:cNvSpPr/>
              <p:nvPr/>
            </p:nvSpPr>
            <p:spPr>
              <a:xfrm>
                <a:off x="4940280" y="61236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957920" y="604188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145200" y="6048000"/>
              <a:ext cx="117000" cy="133200"/>
              <a:chOff x="6145200" y="6048000"/>
              <a:chExt cx="117000" cy="133200"/>
            </a:xfrm>
          </p:grpSpPr>
          <p:sp>
            <p:nvSpPr>
              <p:cNvPr id="271" name=""/>
              <p:cNvSpPr/>
              <p:nvPr/>
            </p:nvSpPr>
            <p:spPr>
              <a:xfrm>
                <a:off x="6145200" y="61300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162840" y="604800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915080" y="5460840"/>
              <a:ext cx="117360" cy="126720"/>
              <a:chOff x="4915080" y="5460840"/>
              <a:chExt cx="117360" cy="126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044960" y="4647960"/>
              <a:ext cx="117360" cy="126720"/>
              <a:chOff x="4044960" y="4647960"/>
              <a:chExt cx="117360" cy="126720"/>
            </a:xfrm>
          </p:grpSpPr>
          <p:sp>
            <p:nvSpPr>
              <p:cNvPr id="277" name=""/>
              <p:cNvSpPr/>
              <p:nvPr/>
            </p:nvSpPr>
            <p:spPr>
              <a:xfrm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051440" y="5047920"/>
              <a:ext cx="117360" cy="126720"/>
              <a:chOff x="4051440" y="5047920"/>
              <a:chExt cx="117360" cy="126720"/>
            </a:xfrm>
          </p:grpSpPr>
          <p:sp>
            <p:nvSpPr>
              <p:cNvPr id="280" name=""/>
              <p:cNvSpPr/>
              <p:nvPr/>
            </p:nvSpPr>
            <p:spPr>
              <a:xfrm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915080" y="5060520"/>
              <a:ext cx="117360" cy="126720"/>
              <a:chOff x="4915080" y="5060520"/>
              <a:chExt cx="117360" cy="126720"/>
            </a:xfrm>
          </p:grpSpPr>
          <p:sp>
            <p:nvSpPr>
              <p:cNvPr id="283" name=""/>
              <p:cNvSpPr/>
              <p:nvPr/>
            </p:nvSpPr>
            <p:spPr>
              <a:xfrm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145200" y="4248000"/>
              <a:ext cx="117360" cy="126360"/>
              <a:chOff x="6145200" y="4248000"/>
              <a:chExt cx="117360" cy="126360"/>
            </a:xfrm>
          </p:grpSpPr>
          <p:sp>
            <p:nvSpPr>
              <p:cNvPr id="286" name=""/>
              <p:cNvSpPr/>
              <p:nvPr/>
            </p:nvSpPr>
            <p:spPr>
              <a:xfrm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156000" y="5022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6000" y="3420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6000" y="304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4040" y="630864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4040" y="223200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4040" y="286668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297B-F332-4F10-A191-9E88F89BD7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ile Servic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60400" y="2279520"/>
            <a:ext cx="7432200" cy="3725640"/>
            <a:chOff x="860400" y="2279520"/>
            <a:chExt cx="7432200" cy="3725640"/>
          </a:xfrm>
        </p:grpSpPr>
        <p:sp>
          <p:nvSpPr>
            <p:cNvPr id="102" name=""/>
            <p:cNvSpPr/>
            <p:nvPr/>
          </p:nvSpPr>
          <p:spPr>
            <a:xfrm>
              <a:off x="5628600" y="2562120"/>
              <a:ext cx="264060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286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0400" y="2562120"/>
              <a:ext cx="264204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4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5040" y="3749400"/>
              <a:ext cx="239400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10640" y="2279520"/>
              <a:ext cx="142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9560" y="2279520"/>
              <a:ext cx="150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960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960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960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960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6584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51520" y="2634840"/>
              <a:ext cx="849960" cy="324972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5040" y="2658960"/>
              <a:ext cx="9846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64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5560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9280" y="2658960"/>
              <a:ext cx="10080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020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4172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4920" y="463356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600" y="3338280"/>
              <a:ext cx="239436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10960" y="4222440"/>
              <a:ext cx="135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lat fi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3600" y="2658960"/>
              <a:ext cx="2394360" cy="6062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9640" y="29127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irector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120" y="4138200"/>
              <a:ext cx="2282760" cy="243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892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5892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892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892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516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96800" y="578772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96800" y="5738400"/>
              <a:ext cx="60516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6800" y="5689440"/>
              <a:ext cx="60516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96800" y="561780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6680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42880" y="51865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48690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/repl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0000" y="604980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onsistency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00880" y="5295600"/>
            <a:ext cx="30456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238200" y="5346720"/>
            <a:ext cx="4446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31E6-DE4C-4354-9C35-5AD1F46AFA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8760" y="2017800"/>
            <a:ext cx="870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Flat fil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accessing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ing a place to manage remote file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unit to transfer data (at server o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? file, block or byt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sharing semantics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ing similar to Unix but weaker file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seman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caching mechanism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sca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replication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avai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Directo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ing between text file names and reference to files, (i.e. file I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CFF-899C-4EE2-93CE-06B1F27C7F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lat File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20640" y="2766960"/>
            <a:ext cx="8265960" cy="2910600"/>
            <a:chOff x="620640" y="2766960"/>
            <a:chExt cx="8265960" cy="2910600"/>
          </a:xfrm>
        </p:grpSpPr>
        <p:sp>
          <p:nvSpPr>
            <p:cNvPr id="298" name=""/>
            <p:cNvSpPr/>
            <p:nvPr/>
          </p:nvSpPr>
          <p:spPr>
            <a:xfrm>
              <a:off x="649080" y="2892240"/>
              <a:ext cx="252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ead(FileId, i, n) -&gt;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13240" y="28922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0520" y="314604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0240" y="314604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4080" y="314604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48000" y="2892240"/>
              <a:ext cx="553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Reads a sequence of up to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item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6640" y="3146040"/>
              <a:ext cx="484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rom a file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and returns it in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0640" y="276696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29640" y="276696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1600" y="276696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9640" y="2788920"/>
              <a:ext cx="2160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9440" y="3493800"/>
              <a:ext cx="207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Write(FileId, i, Dat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41880" y="349380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0520" y="37479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30240" y="374796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3720" y="374796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000" y="3493800"/>
              <a:ext cx="552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+1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Writes a sequence o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55560" y="3747960"/>
              <a:ext cx="509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ile,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, extending the file if necessar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29640" y="3390840"/>
              <a:ext cx="2160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520" y="409392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reate() -&gt; FileI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8800" y="4093920"/>
              <a:ext cx="5461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reates a new file of length 0 and delivers a UFID for it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81720" y="40939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29640" y="399060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800" y="4439880"/>
              <a:ext cx="137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elete(FileI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360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6588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8800" y="4439880"/>
              <a:ext cx="349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moves the file from the file stor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29640" y="4336920"/>
              <a:ext cx="2160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800" y="478764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GetAttributes(FileId) -&gt; Att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152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524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8440" y="4787640"/>
              <a:ext cx="35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turns the file attributes for the fil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9200" y="47876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29640" y="468432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8720" y="5133600"/>
              <a:ext cx="24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SetAttributes(FileId, Attr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70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7720" y="5133600"/>
              <a:ext cx="533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ets the file attributes (only those attributes that are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61320" y="5387760"/>
              <a:ext cx="111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haded in )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640" y="566892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29640" y="5030640"/>
              <a:ext cx="21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29640" y="566892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1600" y="566892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ED5-21DF-4415-B5ED-217B296144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rectory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2098800"/>
            <a:ext cx="8177040" cy="2995560"/>
            <a:chOff x="539640" y="2098800"/>
            <a:chExt cx="8177040" cy="2995560"/>
          </a:xfrm>
        </p:grpSpPr>
        <p:sp>
          <p:nvSpPr>
            <p:cNvPr id="343" name=""/>
            <p:cNvSpPr/>
            <p:nvPr/>
          </p:nvSpPr>
          <p:spPr>
            <a:xfrm>
              <a:off x="562680" y="2214720"/>
              <a:ext cx="256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ookup(Dir, Name) -&gt; File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7000" y="24498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4280" y="2449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3320" y="244980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52160" y="244980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00320" y="24498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88640" y="2214720"/>
              <a:ext cx="460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Locates the text name in the directory and return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86120" y="2449800"/>
              <a:ext cx="493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levant UFID. 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throws 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93680" y="268452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02600" y="26845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9640" y="2098800"/>
              <a:ext cx="3207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66680" y="2121120"/>
              <a:ext cx="205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6680" y="2098800"/>
              <a:ext cx="1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7200" y="2098800"/>
              <a:ext cx="4664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66680" y="2121120"/>
              <a:ext cx="20520" cy="7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960" y="3003840"/>
              <a:ext cx="237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ddName(Dir, Name, Fil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92800" y="30038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6640" y="32385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3320" y="32385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51800" y="3238560"/>
              <a:ext cx="1413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Duplic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2880" y="32385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7200" y="3003840"/>
              <a:ext cx="481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adds (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) to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90800" y="3238560"/>
              <a:ext cx="411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directory and updates the file’s attribute recor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7920" y="3473640"/>
              <a:ext cx="48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already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04760" y="34736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66680" y="2910240"/>
              <a:ext cx="2052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680" y="3792600"/>
              <a:ext cx="183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nName(Dir, 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00320" y="37926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6640" y="4027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3320" y="402768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52160" y="402768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0032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9360" y="3792600"/>
              <a:ext cx="487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in the directory: the entry containing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1880" y="4027680"/>
              <a:ext cx="243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moved from the director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6124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89000" y="4262760"/>
              <a:ext cx="45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9360" y="42627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66680" y="3697560"/>
              <a:ext cx="20520" cy="7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240" y="4581720"/>
              <a:ext cx="324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Names(Dir, Pattern) -&gt; NameSeq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40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316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1160" y="4581720"/>
              <a:ext cx="489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turns all the text names in the directory that match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92960" y="4816800"/>
              <a:ext cx="234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gular expression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9640" y="5092920"/>
              <a:ext cx="3207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66680" y="4486320"/>
              <a:ext cx="205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66680" y="5092920"/>
              <a:ext cx="1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7200" y="5092920"/>
              <a:ext cx="4664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625760" y="52196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5994360"/>
            <a:ext cx="3073320" cy="520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6058080"/>
            <a:ext cx="393840" cy="368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2480" y="61261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65640" y="52070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63960" y="5194440"/>
            <a:ext cx="584280" cy="355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4040" y="5587920"/>
            <a:ext cx="14857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08360" y="55627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822480" y="5549760"/>
            <a:ext cx="13208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280" y="57196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ddName( Dir, Name, 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84120" y="545472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560" y="558180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2080" y="555624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16000" y="6087960"/>
            <a:ext cx="41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Ref count=3    if ref_count = 0, file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3834-45AF-4282-B928-B1538E21A8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Access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76400" y="1875960"/>
            <a:ext cx="77724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ing Remote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675000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che consistency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35440" y="3119400"/>
            <a:ext cx="2014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ducing network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1764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client that cached a file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0200" y="3119400"/>
            <a:ext cx="2017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caching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5000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35440" y="2557440"/>
            <a:ext cx="2014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imple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1764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0200" y="2557440"/>
            <a:ext cx="201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te servic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000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35440" y="2259000"/>
            <a:ext cx="2014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1764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0200" y="2259000"/>
            <a:ext cx="2017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0200" y="255744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0200" y="311940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0200" y="3625920"/>
            <a:ext cx="8067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0200" y="2259000"/>
            <a:ext cx="0" cy="1366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176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354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5000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767800" y="225900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50000" y="2259000"/>
            <a:ext cx="201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200" y="2259000"/>
            <a:ext cx="6049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67800" y="2557440"/>
            <a:ext cx="0" cy="106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71680" y="3967200"/>
          <a:ext cx="8319960" cy="2556000"/>
        </p:xfrm>
        <a:graphic>
          <a:graphicData uri="http://schemas.openxmlformats.org/drawingml/2006/table">
            <a:tbl>
              <a:tblPr/>
              <a:tblGrid>
                <a:gridCol w="1542960"/>
                <a:gridCol w="3299040"/>
                <a:gridCol w="347796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fer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mple, less communication overhead, and immune to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no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/over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exibility maxim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cache management to handle the variable-length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ling structured and indexed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overhead to re-construct a f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119240" y="3641760"/>
            <a:ext cx="777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 of Dat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3680" y="3137040"/>
            <a:ext cx="2409840" cy="2260440"/>
            <a:chOff x="193680" y="3137040"/>
            <a:chExt cx="2409840" cy="2260440"/>
          </a:xfrm>
        </p:grpSpPr>
        <p:sp>
          <p:nvSpPr>
            <p:cNvPr id="432" name=""/>
            <p:cNvSpPr/>
            <p:nvPr/>
          </p:nvSpPr>
          <p:spPr>
            <a:xfrm>
              <a:off x="698400" y="3137040"/>
              <a:ext cx="1905120" cy="49500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4863960"/>
              <a:ext cx="1397160" cy="53352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680" y="356076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19040" y="3505320"/>
              <a:ext cx="3812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360" y="3822840"/>
              <a:ext cx="46980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0360-FB5D-4422-95A0-04E5B46BF6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4720" y="61704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519120" y="2357280"/>
            <a:ext cx="82836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when modifications of the file data made by a user are observable by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x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utable shared-files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-lik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2D5-1760-491B-B699-AAE8D5DE1F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ix Semantics (One-copy Update Semantic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2025720"/>
            <a:ext cx="829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lute Ordering (seen to all clients as if only a single copy exis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s updated immediate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47120" y="3809880"/>
            <a:ext cx="8087040" cy="823320"/>
            <a:chOff x="447120" y="3809880"/>
            <a:chExt cx="8087040" cy="823320"/>
          </a:xfrm>
        </p:grpSpPr>
        <p:sp>
          <p:nvSpPr>
            <p:cNvPr id="442" name=""/>
            <p:cNvSpPr/>
            <p:nvPr/>
          </p:nvSpPr>
          <p:spPr>
            <a:xfrm flipV="1">
              <a:off x="682200" y="4071600"/>
              <a:ext cx="785196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47120" y="3836880"/>
              <a:ext cx="369720" cy="788040"/>
              <a:chOff x="447120" y="3836880"/>
              <a:chExt cx="369720" cy="788040"/>
            </a:xfrm>
          </p:grpSpPr>
          <p:sp>
            <p:nvSpPr>
              <p:cNvPr id="444" name=""/>
              <p:cNvSpPr/>
              <p:nvPr/>
            </p:nvSpPr>
            <p:spPr>
              <a:xfrm>
                <a:off x="684000" y="3836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7120" y="4287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872720" y="3845160"/>
              <a:ext cx="369720" cy="788040"/>
              <a:chOff x="1872720" y="3845160"/>
              <a:chExt cx="369720" cy="788040"/>
            </a:xfrm>
          </p:grpSpPr>
          <p:sp>
            <p:nvSpPr>
              <p:cNvPr id="447" name=""/>
              <p:cNvSpPr/>
              <p:nvPr/>
            </p:nvSpPr>
            <p:spPr>
              <a:xfrm>
                <a:off x="2109600" y="3845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872720" y="4295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413160" y="3835440"/>
              <a:ext cx="369720" cy="788040"/>
              <a:chOff x="3413160" y="3835440"/>
              <a:chExt cx="369720" cy="788040"/>
            </a:xfrm>
          </p:grpSpPr>
          <p:sp>
            <p:nvSpPr>
              <p:cNvPr id="450" name=""/>
              <p:cNvSpPr/>
              <p:nvPr/>
            </p:nvSpPr>
            <p:spPr>
              <a:xfrm>
                <a:off x="3650040" y="383544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13160" y="428616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4906080" y="3827520"/>
              <a:ext cx="369720" cy="788040"/>
              <a:chOff x="4906080" y="3827520"/>
              <a:chExt cx="369720" cy="788040"/>
            </a:xfrm>
          </p:grpSpPr>
          <p:sp>
            <p:nvSpPr>
              <p:cNvPr id="453" name=""/>
              <p:cNvSpPr/>
              <p:nvPr/>
            </p:nvSpPr>
            <p:spPr>
              <a:xfrm>
                <a:off x="5142960" y="382752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06080" y="427824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377040" y="3818160"/>
              <a:ext cx="369720" cy="788040"/>
              <a:chOff x="6377040" y="3818160"/>
              <a:chExt cx="369720" cy="788040"/>
            </a:xfrm>
          </p:grpSpPr>
          <p:sp>
            <p:nvSpPr>
              <p:cNvPr id="456" name=""/>
              <p:cNvSpPr/>
              <p:nvPr/>
            </p:nvSpPr>
            <p:spPr>
              <a:xfrm>
                <a:off x="6613920" y="3818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77040" y="4268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823160" y="3809880"/>
              <a:ext cx="369720" cy="788040"/>
              <a:chOff x="7823160" y="3809880"/>
              <a:chExt cx="369720" cy="788040"/>
            </a:xfrm>
          </p:grpSpPr>
          <p:sp>
            <p:nvSpPr>
              <p:cNvPr id="459" name=""/>
              <p:cNvSpPr/>
              <p:nvPr/>
            </p:nvSpPr>
            <p:spPr>
              <a:xfrm>
                <a:off x="8060040" y="3809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823160" y="4260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12920" y="3549600"/>
            <a:ext cx="545400" cy="294840"/>
            <a:chOff x="412920" y="3549600"/>
            <a:chExt cx="545400" cy="294840"/>
          </a:xfrm>
        </p:grpSpPr>
        <p:sp>
          <p:nvSpPr>
            <p:cNvPr id="462" name=""/>
            <p:cNvSpPr/>
            <p:nvPr/>
          </p:nvSpPr>
          <p:spPr>
            <a:xfrm>
              <a:off x="412920" y="3549600"/>
              <a:ext cx="268200" cy="286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0480" y="35571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749600" y="357840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90800" y="3587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35240" y="3594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13000" y="360360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71840" y="36115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95760" y="3602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56080" y="361332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26160" y="3621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87880" y="36133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007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868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389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9924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40440" y="362268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754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35760" y="362124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9640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56680" y="36194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5978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600" y="278136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9120" y="50324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89320" y="4517640"/>
            <a:ext cx="1143720" cy="626760"/>
            <a:chOff x="1489320" y="4517640"/>
            <a:chExt cx="1143720" cy="626760"/>
          </a:xfrm>
        </p:grpSpPr>
        <p:sp>
          <p:nvSpPr>
            <p:cNvPr id="487" name=""/>
            <p:cNvSpPr/>
            <p:nvPr/>
          </p:nvSpPr>
          <p:spPr>
            <a:xfrm flipV="1">
              <a:off x="2027160" y="4517640"/>
              <a:ext cx="144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89320" y="480708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end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615920" y="48164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184720" y="45720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38760" y="319104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17760" y="29242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37120" y="48531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14960" y="28702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53560" y="457200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660840" y="315576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60720" y="5765760"/>
            <a:ext cx="68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ays (Inevitable to have a weaker seman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60880" y="394344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84800" y="393372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014480" y="3332160"/>
            <a:ext cx="3200400" cy="1563480"/>
            <a:chOff x="1014480" y="3332160"/>
            <a:chExt cx="3200400" cy="1563480"/>
          </a:xfrm>
        </p:grpSpPr>
        <p:sp>
          <p:nvSpPr>
            <p:cNvPr id="501" name=""/>
            <p:cNvSpPr/>
            <p:nvPr/>
          </p:nvSpPr>
          <p:spPr>
            <a:xfrm flipV="1">
              <a:off x="2170080" y="4212720"/>
              <a:ext cx="2044800" cy="68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8760" y="45385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02040" y="39355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93920" y="3443400"/>
              <a:ext cx="26856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52760" y="34513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014480" y="3501720"/>
              <a:ext cx="2235240" cy="23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92960" y="3332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06F3-1D2A-404F-90A9-C522B0232E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03240" y="4508640"/>
            <a:ext cx="5600880" cy="139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28800" y="2590920"/>
            <a:ext cx="0" cy="1879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55840" y="18730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52120" y="18352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516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519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542960" y="3397320"/>
            <a:ext cx="1079280" cy="287280"/>
            <a:chOff x="1542960" y="3397320"/>
            <a:chExt cx="1079280" cy="287280"/>
          </a:xfrm>
        </p:grpSpPr>
        <p:sp>
          <p:nvSpPr>
            <p:cNvPr id="523" name=""/>
            <p:cNvSpPr/>
            <p:nvPr/>
          </p:nvSpPr>
          <p:spPr>
            <a:xfrm>
              <a:off x="1542960" y="3397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0520" y="3405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8728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5404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542960" y="3905280"/>
            <a:ext cx="1346400" cy="287280"/>
            <a:chOff x="1542960" y="3905280"/>
            <a:chExt cx="1346400" cy="287280"/>
          </a:xfrm>
        </p:grpSpPr>
        <p:sp>
          <p:nvSpPr>
            <p:cNvPr id="528" name=""/>
            <p:cNvSpPr/>
            <p:nvPr/>
          </p:nvSpPr>
          <p:spPr>
            <a:xfrm>
              <a:off x="1542960" y="39052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088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8764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5440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20800" y="39132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3911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44449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46720" y="4940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3920" y="3778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19800" y="428616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44280" y="47815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53974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61200" y="5276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27360" y="2236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70280" y="22510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584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549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410600" y="4489560"/>
            <a:ext cx="1345680" cy="287280"/>
            <a:chOff x="7410600" y="4489560"/>
            <a:chExt cx="1345680" cy="287280"/>
          </a:xfrm>
        </p:grpSpPr>
        <p:sp>
          <p:nvSpPr>
            <p:cNvPr id="552" name=""/>
            <p:cNvSpPr/>
            <p:nvPr/>
          </p:nvSpPr>
          <p:spPr>
            <a:xfrm>
              <a:off x="7410600" y="44895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8816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92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2168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88080" y="44974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3251160" y="515772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24960" y="5010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07000" y="3259080"/>
            <a:ext cx="546120" cy="287280"/>
            <a:chOff x="5607000" y="3259080"/>
            <a:chExt cx="546120" cy="287280"/>
          </a:xfrm>
        </p:grpSpPr>
        <p:sp>
          <p:nvSpPr>
            <p:cNvPr id="560" name=""/>
            <p:cNvSpPr/>
            <p:nvPr/>
          </p:nvSpPr>
          <p:spPr>
            <a:xfrm>
              <a:off x="5607000" y="32590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84560" y="32670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334120" y="33670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07560" y="32194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498840" y="5035680"/>
            <a:ext cx="1345680" cy="287280"/>
            <a:chOff x="3498840" y="5035680"/>
            <a:chExt cx="1345680" cy="287280"/>
          </a:xfrm>
        </p:grpSpPr>
        <p:sp>
          <p:nvSpPr>
            <p:cNvPr id="565" name=""/>
            <p:cNvSpPr/>
            <p:nvPr/>
          </p:nvSpPr>
          <p:spPr>
            <a:xfrm>
              <a:off x="3498840" y="50356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640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4316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0992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6320" y="5043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594400" y="3790800"/>
            <a:ext cx="812880" cy="287640"/>
            <a:chOff x="5594400" y="3790800"/>
            <a:chExt cx="812880" cy="287640"/>
          </a:xfrm>
        </p:grpSpPr>
        <p:sp>
          <p:nvSpPr>
            <p:cNvPr id="571" name=""/>
            <p:cNvSpPr/>
            <p:nvPr/>
          </p:nvSpPr>
          <p:spPr>
            <a:xfrm>
              <a:off x="5594400" y="37908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72320" y="37990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38720" y="37990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594400" y="4260960"/>
            <a:ext cx="1079280" cy="287280"/>
            <a:chOff x="5594400" y="4260960"/>
            <a:chExt cx="1079280" cy="287280"/>
          </a:xfrm>
        </p:grpSpPr>
        <p:sp>
          <p:nvSpPr>
            <p:cNvPr id="575" name=""/>
            <p:cNvSpPr/>
            <p:nvPr/>
          </p:nvSpPr>
          <p:spPr>
            <a:xfrm>
              <a:off x="5594400" y="4260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1960" y="42688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3872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0548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94400" y="4768920"/>
            <a:ext cx="1345680" cy="287280"/>
            <a:chOff x="5594400" y="4768920"/>
            <a:chExt cx="1345680" cy="287280"/>
          </a:xfrm>
        </p:grpSpPr>
        <p:sp>
          <p:nvSpPr>
            <p:cNvPr id="580" name=""/>
            <p:cNvSpPr/>
            <p:nvPr/>
          </p:nvSpPr>
          <p:spPr>
            <a:xfrm>
              <a:off x="5594400" y="47689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7196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3872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548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71880" y="47768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423200" y="5403960"/>
            <a:ext cx="1345680" cy="287280"/>
            <a:chOff x="7423200" y="5403960"/>
            <a:chExt cx="1345680" cy="287280"/>
          </a:xfrm>
        </p:grpSpPr>
        <p:sp>
          <p:nvSpPr>
            <p:cNvPr id="586" name=""/>
            <p:cNvSpPr/>
            <p:nvPr/>
          </p:nvSpPr>
          <p:spPr>
            <a:xfrm>
              <a:off x="7423200" y="54039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76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752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3428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00680" y="5411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238560" y="5918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65640" y="5797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63760" y="56530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29200" y="55306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11440" y="5530680"/>
            <a:ext cx="1346400" cy="287280"/>
            <a:chOff x="3511440" y="5530680"/>
            <a:chExt cx="1346400" cy="287280"/>
          </a:xfrm>
        </p:grpSpPr>
        <p:sp>
          <p:nvSpPr>
            <p:cNvPr id="596" name=""/>
            <p:cNvSpPr/>
            <p:nvPr/>
          </p:nvSpPr>
          <p:spPr>
            <a:xfrm>
              <a:off x="3511440" y="55306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8936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5612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2288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5386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843440" y="5540400"/>
            <a:ext cx="268200" cy="274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7391520" y="5924520"/>
            <a:ext cx="1345680" cy="287280"/>
            <a:chOff x="7391520" y="5924520"/>
            <a:chExt cx="1345680" cy="287280"/>
          </a:xfrm>
        </p:grpSpPr>
        <p:sp>
          <p:nvSpPr>
            <p:cNvPr id="603" name=""/>
            <p:cNvSpPr/>
            <p:nvPr/>
          </p:nvSpPr>
          <p:spPr>
            <a:xfrm>
              <a:off x="7391520" y="59245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6908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3584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0260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69000" y="59324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8723160" y="5934240"/>
            <a:ext cx="268560" cy="274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159600" y="2451240"/>
            <a:ext cx="1549440" cy="888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82680" y="35686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40640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400" y="3409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2480" y="3905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82680" y="45212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120" y="4400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67280" y="5397480"/>
            <a:ext cx="1549440" cy="1652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838760" y="4699080"/>
            <a:ext cx="2565360" cy="46980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84680" y="5931000"/>
            <a:ext cx="3619440" cy="12708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854320" y="3390840"/>
            <a:ext cx="25560" cy="19814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72080" y="5194440"/>
            <a:ext cx="0" cy="73656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5200" y="6012000"/>
            <a:ext cx="446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writes may overwrite previous upd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lock is needed to prevent this overwri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1CAA-886C-4FC7-990F-9A2DB6D452E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43280" y="5105520"/>
            <a:ext cx="5435280" cy="419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590920"/>
            <a:ext cx="12600" cy="2133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 with File Lock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85880" y="1809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631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634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02440" y="3562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5360" y="44258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9960" y="22114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11760" y="21621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646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280040" y="3290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479040" y="3156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17920" y="45594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2640" y="369720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17760" y="2451240"/>
            <a:ext cx="2590920" cy="72360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336760" y="2413080"/>
            <a:ext cx="5321520" cy="59688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24320" y="25830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552920" y="3156120"/>
            <a:ext cx="546120" cy="287280"/>
            <a:chOff x="4552920" y="3156120"/>
            <a:chExt cx="546120" cy="287280"/>
          </a:xfrm>
        </p:grpSpPr>
        <p:sp>
          <p:nvSpPr>
            <p:cNvPr id="658" name=""/>
            <p:cNvSpPr/>
            <p:nvPr/>
          </p:nvSpPr>
          <p:spPr>
            <a:xfrm>
              <a:off x="4552920" y="31561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30480" y="31640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438800" y="4362480"/>
            <a:ext cx="812160" cy="287280"/>
            <a:chOff x="4438800" y="4362480"/>
            <a:chExt cx="812160" cy="287280"/>
          </a:xfrm>
        </p:grpSpPr>
        <p:sp>
          <p:nvSpPr>
            <p:cNvPr id="661" name=""/>
            <p:cNvSpPr/>
            <p:nvPr/>
          </p:nvSpPr>
          <p:spPr>
            <a:xfrm>
              <a:off x="4438800" y="43624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16360" y="4370400"/>
              <a:ext cx="26784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8276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451400" y="3498840"/>
            <a:ext cx="17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it,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teal, or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roc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848040" y="3987720"/>
            <a:ext cx="990720" cy="393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13200" y="3987720"/>
            <a:ext cx="978120" cy="35568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3162240"/>
            <a:ext cx="2387520" cy="119376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416560" y="4362480"/>
            <a:ext cx="812880" cy="287280"/>
            <a:chOff x="5416560" y="4362480"/>
            <a:chExt cx="812880" cy="287280"/>
          </a:xfrm>
        </p:grpSpPr>
        <p:sp>
          <p:nvSpPr>
            <p:cNvPr id="669" name=""/>
            <p:cNvSpPr/>
            <p:nvPr/>
          </p:nvSpPr>
          <p:spPr>
            <a:xfrm>
              <a:off x="5416560" y="43624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9448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60880" y="437040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4902120" y="4660920"/>
            <a:ext cx="2514600" cy="3301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7435800" y="4705200"/>
            <a:ext cx="812880" cy="287640"/>
            <a:chOff x="7435800" y="4705200"/>
            <a:chExt cx="812880" cy="287640"/>
          </a:xfrm>
        </p:grpSpPr>
        <p:sp>
          <p:nvSpPr>
            <p:cNvPr id="674" name=""/>
            <p:cNvSpPr/>
            <p:nvPr/>
          </p:nvSpPr>
          <p:spPr>
            <a:xfrm>
              <a:off x="743580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372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8012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696920" y="457668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35560" y="4368960"/>
            <a:ext cx="2514600" cy="3045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45280" y="420840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331120" y="4705200"/>
            <a:ext cx="812880" cy="287640"/>
            <a:chOff x="8331120" y="4705200"/>
            <a:chExt cx="812880" cy="287640"/>
          </a:xfrm>
        </p:grpSpPr>
        <p:sp>
          <p:nvSpPr>
            <p:cNvPr id="681" name=""/>
            <p:cNvSpPr/>
            <p:nvPr/>
          </p:nvSpPr>
          <p:spPr>
            <a:xfrm>
              <a:off x="833112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60904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7544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279640" y="22017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93840" y="4944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27880" y="493236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7560" y="45910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5000" y="4724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385040" y="5403960"/>
            <a:ext cx="812880" cy="287280"/>
            <a:chOff x="7385040" y="5403960"/>
            <a:chExt cx="812880" cy="287280"/>
          </a:xfrm>
        </p:grpSpPr>
        <p:sp>
          <p:nvSpPr>
            <p:cNvPr id="690" name=""/>
            <p:cNvSpPr/>
            <p:nvPr/>
          </p:nvSpPr>
          <p:spPr>
            <a:xfrm>
              <a:off x="7385040" y="5403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62960" y="54118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29360" y="54118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331120" y="5365800"/>
            <a:ext cx="812880" cy="287280"/>
            <a:chOff x="8331120" y="5365800"/>
            <a:chExt cx="812880" cy="287280"/>
          </a:xfrm>
        </p:grpSpPr>
        <p:sp>
          <p:nvSpPr>
            <p:cNvPr id="694" name=""/>
            <p:cNvSpPr/>
            <p:nvPr/>
          </p:nvSpPr>
          <p:spPr>
            <a:xfrm>
              <a:off x="8331120" y="536580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09040" y="537372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875440" y="537372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797400" y="4692600"/>
            <a:ext cx="247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Quit, save anyway, or type ^x^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13200" y="3149640"/>
            <a:ext cx="12960" cy="11811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44720" y="5067360"/>
            <a:ext cx="6083280" cy="279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416800" y="566892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11000" y="5092560"/>
            <a:ext cx="25380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21680" y="4322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3120" y="5249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02240" y="34974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F5B9-9174-4FD5-8D6A-136C29690D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7404120" y="5435640"/>
            <a:ext cx="368280" cy="520560"/>
            <a:chOff x="7404120" y="5435640"/>
            <a:chExt cx="368280" cy="520560"/>
          </a:xfrm>
        </p:grpSpPr>
        <p:sp>
          <p:nvSpPr>
            <p:cNvPr id="706" name=""/>
            <p:cNvSpPr/>
            <p:nvPr/>
          </p:nvSpPr>
          <p:spPr>
            <a:xfrm>
              <a:off x="7404120" y="543564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04120" y="568944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ansaction-Like Semantics (Concurrency Control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4432320" y="2057400"/>
            <a:ext cx="0" cy="41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48320" y="185904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15800" y="180828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09480" y="2629080"/>
            <a:ext cx="368280" cy="1663560"/>
            <a:chOff x="609480" y="2629080"/>
            <a:chExt cx="368280" cy="1663560"/>
          </a:xfrm>
        </p:grpSpPr>
        <p:sp>
          <p:nvSpPr>
            <p:cNvPr id="713" name=""/>
            <p:cNvSpPr/>
            <p:nvPr/>
          </p:nvSpPr>
          <p:spPr>
            <a:xfrm>
              <a:off x="60948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09480" y="3772080"/>
              <a:ext cx="368280" cy="520560"/>
              <a:chOff x="609480" y="3772080"/>
              <a:chExt cx="368280" cy="520560"/>
            </a:xfrm>
          </p:grpSpPr>
          <p:sp>
            <p:nvSpPr>
              <p:cNvPr id="715" name=""/>
              <p:cNvSpPr/>
              <p:nvPr/>
            </p:nvSpPr>
            <p:spPr>
              <a:xfrm>
                <a:off x="60948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948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1333440" y="3213000"/>
            <a:ext cx="368280" cy="1650600"/>
            <a:chOff x="1333440" y="3213000"/>
            <a:chExt cx="368280" cy="1650600"/>
          </a:xfrm>
        </p:grpSpPr>
        <p:sp>
          <p:nvSpPr>
            <p:cNvPr id="718" name=""/>
            <p:cNvSpPr/>
            <p:nvPr/>
          </p:nvSpPr>
          <p:spPr>
            <a:xfrm>
              <a:off x="1333440" y="321300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333440" y="4343040"/>
              <a:ext cx="368280" cy="520560"/>
              <a:chOff x="1333440" y="4343040"/>
              <a:chExt cx="368280" cy="520560"/>
            </a:xfrm>
          </p:grpSpPr>
          <p:sp>
            <p:nvSpPr>
              <p:cNvPr id="720" name=""/>
              <p:cNvSpPr/>
              <p:nvPr/>
            </p:nvSpPr>
            <p:spPr>
              <a:xfrm>
                <a:off x="1333440" y="434304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33440" y="459684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2044800" y="3759120"/>
            <a:ext cx="368280" cy="1663560"/>
            <a:chOff x="2044800" y="3759120"/>
            <a:chExt cx="368280" cy="1663560"/>
          </a:xfrm>
        </p:grpSpPr>
        <p:sp>
          <p:nvSpPr>
            <p:cNvPr id="723" name=""/>
            <p:cNvSpPr/>
            <p:nvPr/>
          </p:nvSpPr>
          <p:spPr>
            <a:xfrm>
              <a:off x="2044800" y="375912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2044800" y="4902120"/>
              <a:ext cx="368280" cy="520560"/>
              <a:chOff x="2044800" y="4902120"/>
              <a:chExt cx="368280" cy="520560"/>
            </a:xfrm>
          </p:grpSpPr>
          <p:sp>
            <p:nvSpPr>
              <p:cNvPr id="725" name=""/>
              <p:cNvSpPr/>
              <p:nvPr/>
            </p:nvSpPr>
            <p:spPr>
              <a:xfrm>
                <a:off x="2044800" y="490212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44800" y="515592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275580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755800" y="544824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977760" y="35053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977760" y="3048120"/>
            <a:ext cx="3556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977760" y="28447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1689120" y="4051440"/>
            <a:ext cx="35568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689120" y="3632040"/>
            <a:ext cx="3556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1689120" y="3416400"/>
            <a:ext cx="34272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400480" y="3974760"/>
            <a:ext cx="3427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413080" y="4203360"/>
            <a:ext cx="3556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1688760" y="3835080"/>
            <a:ext cx="106668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413080" y="4775040"/>
            <a:ext cx="355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55800" y="5994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08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904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7264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0920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540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037160" y="47689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35920" y="534024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16040" y="561960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03440" y="578484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64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876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796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9412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6956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1836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257800" y="2629080"/>
            <a:ext cx="368280" cy="1663560"/>
            <a:chOff x="5257800" y="2629080"/>
            <a:chExt cx="368280" cy="1663560"/>
          </a:xfrm>
        </p:grpSpPr>
        <p:sp>
          <p:nvSpPr>
            <p:cNvPr id="756" name=""/>
            <p:cNvSpPr/>
            <p:nvPr/>
          </p:nvSpPr>
          <p:spPr>
            <a:xfrm>
              <a:off x="525780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5257800" y="3772080"/>
              <a:ext cx="368280" cy="520560"/>
              <a:chOff x="5257800" y="3772080"/>
              <a:chExt cx="368280" cy="520560"/>
            </a:xfrm>
          </p:grpSpPr>
          <p:sp>
            <p:nvSpPr>
              <p:cNvPr id="758" name=""/>
              <p:cNvSpPr/>
              <p:nvPr/>
            </p:nvSpPr>
            <p:spPr>
              <a:xfrm>
                <a:off x="525780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5780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5981760" y="321300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92760" y="375912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0412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81760" y="435600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56200" y="4952880"/>
            <a:ext cx="3556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7304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9700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2096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5752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2336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82280" y="588636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27520" y="456552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15280" y="473076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7196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9672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6628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4244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788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6668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6080" y="3213000"/>
            <a:ext cx="1904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38680" y="3619440"/>
            <a:ext cx="1652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37440" y="3797280"/>
            <a:ext cx="1066680" cy="105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61040" y="4788000"/>
            <a:ext cx="355680" cy="291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62640" y="4229280"/>
            <a:ext cx="13968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61040" y="4317840"/>
            <a:ext cx="16524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2400" y="5334120"/>
            <a:ext cx="1778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10040" y="2584440"/>
            <a:ext cx="163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read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mer w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76520" y="254628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writ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692760" y="4902120"/>
            <a:ext cx="368280" cy="520560"/>
            <a:chOff x="6692760" y="4902120"/>
            <a:chExt cx="368280" cy="520560"/>
          </a:xfrm>
        </p:grpSpPr>
        <p:sp>
          <p:nvSpPr>
            <p:cNvPr id="789" name=""/>
            <p:cNvSpPr/>
            <p:nvPr/>
          </p:nvSpPr>
          <p:spPr>
            <a:xfrm>
              <a:off x="6692760" y="490212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92760" y="515592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396480" y="53532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314840" y="5168880"/>
            <a:ext cx="609480" cy="1015920"/>
            <a:chOff x="7314840" y="5168880"/>
            <a:chExt cx="609480" cy="1015920"/>
          </a:xfrm>
        </p:grpSpPr>
        <p:sp>
          <p:nvSpPr>
            <p:cNvPr id="793" name=""/>
            <p:cNvSpPr/>
            <p:nvPr/>
          </p:nvSpPr>
          <p:spPr>
            <a:xfrm>
              <a:off x="7365960" y="5168880"/>
              <a:ext cx="520920" cy="10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14840" y="5181480"/>
              <a:ext cx="6094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922280" y="5505480"/>
            <a:ext cx="385056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 itself or conflicting active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19480" y="617688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validation is bett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1769-D96C-4A07-9833-30B0E495F8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mutable Shared-Files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6350040" y="2565360"/>
            <a:ext cx="558720" cy="584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8120" y="326376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2440" y="3225960"/>
            <a:ext cx="558720" cy="583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62640" y="378468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3594240" y="3137040"/>
            <a:ext cx="2768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218960" y="2717640"/>
            <a:ext cx="514332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2680" y="3860640"/>
            <a:ext cx="3009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67560" y="313704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39960" y="3822840"/>
            <a:ext cx="5054400" cy="15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10480" y="46274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rsion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69160" y="5359320"/>
            <a:ext cx="558720" cy="5842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81960" y="5346720"/>
            <a:ext cx="558720" cy="58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66240" y="589752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gnore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496640" y="58849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3809880"/>
            <a:ext cx="66038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4960" y="4356000"/>
            <a:ext cx="91440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23440" y="49068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76240" y="3809880"/>
            <a:ext cx="800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7280" y="21765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51000" y="2214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5720" y="22399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9960" y="5237280"/>
            <a:ext cx="419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 on each fi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ion is simple (later, the client A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de to overwrite it with its tentativ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hanging the corresponding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24ED-1D18-4418-9BAF-A2C1C9E75FF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use of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set of disks attached to different nod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as if all were attached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lab: one server, workstations on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Share: nodes are servers with disk &amp;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576A-81DC-4907-8C07-EA7D0D996BC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Loc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376200" y="408636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920" y="276228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2957400" y="2081160"/>
          <a:ext cx="5970600" cy="4381560"/>
        </p:xfrm>
        <a:graphic>
          <a:graphicData uri="http://schemas.openxmlformats.org/drawingml/2006/table">
            <a:tbl>
              <a:tblPr/>
              <a:tblGrid>
                <a:gridCol w="1560600"/>
                <a:gridCol w="2170080"/>
                <a:gridCol w="223992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c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server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disk acc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y implemen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x-like file-sharing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networ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size restri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e access semantic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 Diskless work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aximum performanc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iskless works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ze restri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le access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1909800" y="409428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92160" y="277020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31880" y="2421000"/>
            <a:ext cx="0" cy="26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71920" y="192096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1520" y="220500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06640" y="2260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098800" y="4822920"/>
            <a:ext cx="41256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455920" y="3763440"/>
            <a:ext cx="1792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1130400" y="2492280"/>
            <a:ext cx="1272960" cy="102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1037880" y="2563560"/>
            <a:ext cx="1058760" cy="22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39680" y="3406680"/>
            <a:ext cx="1198800" cy="1165320"/>
          </a:xfrm>
          <a:custGeom>
            <a:avLst/>
            <a:gdLst/>
            <a:ahLst/>
            <a:rect l="l" t="t" r="r" b="b"/>
            <a:pathLst>
              <a:path w="698" h="734">
                <a:moveTo>
                  <a:pt x="598" y="734"/>
                </a:moveTo>
                <a:cubicBezTo>
                  <a:pt x="648" y="401"/>
                  <a:pt x="698" y="68"/>
                  <a:pt x="598" y="34"/>
                </a:cubicBezTo>
                <a:cubicBezTo>
                  <a:pt x="498" y="0"/>
                  <a:pt x="249" y="265"/>
                  <a:pt x="0" y="531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34513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8200" y="421308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6120" y="339552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883800" y="2538000"/>
            <a:ext cx="179640" cy="82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565200" y="2520720"/>
            <a:ext cx="179280" cy="170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1218960" y="3728520"/>
            <a:ext cx="78876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364440" y="2527200"/>
            <a:ext cx="41256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203520" y="3084480"/>
            <a:ext cx="538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504040" y="4822920"/>
            <a:ext cx="1272960" cy="78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898960" y="5181480"/>
            <a:ext cx="84276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750B-6D25-4FBD-BDD6-CB78788A0E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89396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ification Propag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102120" y="1945800"/>
            <a:ext cx="5852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rite-through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Unix-like semantics and high 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or write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layed-write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ache displa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 w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accesses complete quick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writes may be omitted by the following wri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hering all writes mitigates network overhe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ing of write propagation results in fuzzier file-sharing semantic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"/>
          <p:cNvSpPr/>
          <p:nvPr/>
        </p:nvSpPr>
        <p:spPr>
          <a:xfrm>
            <a:off x="128268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71680" y="374796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728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1400" y="273204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242800" y="2637000"/>
            <a:ext cx="579960" cy="805320"/>
            <a:chOff x="2242800" y="2637000"/>
            <a:chExt cx="579960" cy="805320"/>
          </a:xfrm>
        </p:grpSpPr>
        <p:grpSp>
          <p:nvGrpSpPr>
            <p:cNvPr id="853" name=""/>
            <p:cNvGrpSpPr/>
            <p:nvPr/>
          </p:nvGrpSpPr>
          <p:grpSpPr>
            <a:xfrm>
              <a:off x="2292480" y="2886120"/>
              <a:ext cx="452520" cy="556200"/>
              <a:chOff x="2292480" y="2886120"/>
              <a:chExt cx="452520" cy="556200"/>
            </a:xfrm>
          </p:grpSpPr>
          <p:sp>
            <p:nvSpPr>
              <p:cNvPr id="854" name=""/>
              <p:cNvSpPr/>
              <p:nvPr/>
            </p:nvSpPr>
            <p:spPr>
              <a:xfrm>
                <a:off x="2332440" y="2886120"/>
                <a:ext cx="412560" cy="377640"/>
              </a:xfrm>
              <a:prstGeom prst="flowChartDocumen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op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92480" y="310500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Tahoma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242800" y="263700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3892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5508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-49320" y="2905200"/>
            <a:ext cx="1959120" cy="1332720"/>
            <a:chOff x="-49320" y="2905200"/>
            <a:chExt cx="1959120" cy="1332720"/>
          </a:xfrm>
        </p:grpSpPr>
        <p:sp>
          <p:nvSpPr>
            <p:cNvPr id="860" name=""/>
            <p:cNvSpPr/>
            <p:nvPr/>
          </p:nvSpPr>
          <p:spPr>
            <a:xfrm>
              <a:off x="857160" y="29052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7640" y="39006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11320" y="3137040"/>
              <a:ext cx="64620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-49320" y="330048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mediate 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1893960" y="4594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82680" y="541512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71680" y="607212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7280" y="4567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41400" y="5056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57160" y="5229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32080" y="521028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42800" y="49608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8920" y="4297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55080" y="4324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-40680" y="56246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22160" y="53816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F32F-0F47-4269-B016-2190917E33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Client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746160" y="2322000"/>
            <a:ext cx="54054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before every access (Unix-like semantics but too sl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periodically (better performance but fuzzy file-sharing 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on file open (simple, suitable for session-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High network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201924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0796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596960" y="3747960"/>
            <a:ext cx="41292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256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2732040"/>
            <a:ext cx="41292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456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036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457360" y="28861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16000" y="45385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05080" y="5359320"/>
            <a:ext cx="75384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93720" y="6016680"/>
            <a:ext cx="41292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9320" y="4511520"/>
            <a:ext cx="80676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63800" y="500076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490840" y="5245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15920" y="5213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320" y="4241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77480" y="4268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19160" y="2944800"/>
            <a:ext cx="1794960" cy="1313640"/>
            <a:chOff x="1019160" y="2944800"/>
            <a:chExt cx="1794960" cy="1313640"/>
          </a:xfrm>
        </p:grpSpPr>
        <p:sp>
          <p:nvSpPr>
            <p:cNvPr id="896" name=""/>
            <p:cNvSpPr/>
            <p:nvPr/>
          </p:nvSpPr>
          <p:spPr>
            <a:xfrm>
              <a:off x="1019160" y="2944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58720" y="39211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2552400" y="2967120"/>
              <a:ext cx="261720" cy="314280"/>
              <a:chOff x="2552400" y="2967120"/>
              <a:chExt cx="261720" cy="314280"/>
            </a:xfrm>
          </p:grpSpPr>
          <p:sp>
            <p:nvSpPr>
              <p:cNvPr id="899" name=""/>
              <p:cNvSpPr/>
              <p:nvPr/>
            </p:nvSpPr>
            <p:spPr>
              <a:xfrm>
                <a:off x="2580840" y="2976480"/>
                <a:ext cx="23328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2400" y="2967120"/>
                <a:ext cx="23292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273320" y="3173400"/>
            <a:ext cx="1307880" cy="917640"/>
          </a:xfrm>
          <a:custGeom>
            <a:avLst/>
            <a:gdLst/>
            <a:ahLst/>
            <a:rect l="l" t="t" r="r" b="b"/>
            <a:pathLst>
              <a:path w="824" h="578">
                <a:moveTo>
                  <a:pt x="0" y="0"/>
                </a:moveTo>
                <a:cubicBezTo>
                  <a:pt x="61" y="276"/>
                  <a:pt x="123" y="552"/>
                  <a:pt x="260" y="565"/>
                </a:cubicBezTo>
                <a:cubicBezTo>
                  <a:pt x="397" y="578"/>
                  <a:pt x="610" y="328"/>
                  <a:pt x="824" y="79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90320" y="34275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very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3520" y="33116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-35280" y="366228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28360" y="536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76080" y="5500800"/>
            <a:ext cx="1141560" cy="1026360"/>
            <a:chOff x="676080" y="5500800"/>
            <a:chExt cx="1141560" cy="1026360"/>
          </a:xfrm>
        </p:grpSpPr>
        <p:sp>
          <p:nvSpPr>
            <p:cNvPr id="907" name=""/>
            <p:cNvSpPr/>
            <p:nvPr/>
          </p:nvSpPr>
          <p:spPr>
            <a:xfrm>
              <a:off x="1455480" y="6189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6080" y="5500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79560" y="58039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-on-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53600" y="579276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-on-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36600" y="5468760"/>
            <a:ext cx="1398600" cy="893880"/>
          </a:xfrm>
          <a:custGeom>
            <a:avLst/>
            <a:gdLst/>
            <a:ahLst/>
            <a:rect l="l" t="t" r="r" b="b"/>
            <a:pathLst>
              <a:path w="881" h="563">
                <a:moveTo>
                  <a:pt x="0" y="0"/>
                </a:moveTo>
                <a:cubicBezTo>
                  <a:pt x="28" y="260"/>
                  <a:pt x="57" y="521"/>
                  <a:pt x="204" y="542"/>
                </a:cubicBezTo>
                <a:cubicBezTo>
                  <a:pt x="351" y="563"/>
                  <a:pt x="616" y="343"/>
                  <a:pt x="881" y="12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23880" y="502452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95000" y="598968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heck-on-clo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C572-7C93-40F6-BBC3-CF481F61D2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Server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19120" y="4247640"/>
            <a:ext cx="80056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ing track of clients having a co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ying a new request, queuing it, and disabling c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ing all clients of any update on the origina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client-server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ful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n-open still needed for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 ope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235320" y="2063880"/>
            <a:ext cx="806400" cy="529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60800" y="3208320"/>
            <a:ext cx="753840" cy="78732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49800" y="3865680"/>
            <a:ext cx="412560" cy="3380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149560" y="20368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33680" y="2525760"/>
            <a:ext cx="41256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21240" y="2554200"/>
            <a:ext cx="412560" cy="3384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85800" y="2738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200" y="1766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96440" y="1793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11200" y="40384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98600" y="2890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45960" y="302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19640" y="207180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05200" y="2581200"/>
            <a:ext cx="41292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80760" y="18018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14480" y="2959200"/>
            <a:ext cx="503280" cy="86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3728880" y="2885760"/>
            <a:ext cx="9072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800520" y="2993760"/>
            <a:ext cx="104148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68920" y="32115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y (invalid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700440" y="2610000"/>
            <a:ext cx="262080" cy="280440"/>
            <a:chOff x="3700440" y="2610000"/>
            <a:chExt cx="262080" cy="280440"/>
          </a:xfrm>
        </p:grpSpPr>
        <p:sp>
          <p:nvSpPr>
            <p:cNvPr id="936" name=""/>
            <p:cNvSpPr/>
            <p:nvPr/>
          </p:nvSpPr>
          <p:spPr>
            <a:xfrm>
              <a:off x="3728880" y="261828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700440" y="261000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802040" y="2652840"/>
            <a:ext cx="262080" cy="280440"/>
            <a:chOff x="4802040" y="2652840"/>
            <a:chExt cx="262080" cy="280440"/>
          </a:xfrm>
        </p:grpSpPr>
        <p:sp>
          <p:nvSpPr>
            <p:cNvPr id="939" name=""/>
            <p:cNvSpPr/>
            <p:nvPr/>
          </p:nvSpPr>
          <p:spPr>
            <a:xfrm>
              <a:off x="4830480" y="266112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4802040" y="265284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403960" y="20620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65080" y="179244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90880" y="2689200"/>
            <a:ext cx="2232000" cy="1157400"/>
          </a:xfrm>
          <a:custGeom>
            <a:avLst/>
            <a:gdLst/>
            <a:ahLst/>
            <a:rect l="l" t="t" r="r" b="b"/>
            <a:pathLst>
              <a:path w="1406" h="813">
                <a:moveTo>
                  <a:pt x="0" y="813"/>
                </a:moveTo>
                <a:cubicBezTo>
                  <a:pt x="472" y="796"/>
                  <a:pt x="944" y="779"/>
                  <a:pt x="1175" y="644"/>
                </a:cubicBezTo>
                <a:cubicBezTo>
                  <a:pt x="1406" y="509"/>
                  <a:pt x="1353" y="107"/>
                  <a:pt x="138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26360" y="2871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ny for a new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38360" y="3220920"/>
            <a:ext cx="157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92E3-5C6C-4B3F-A0F7-B8C6E712518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n’s Network Fil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: standard for distributed UNIX file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ed to run on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are both servers &amp;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have no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mount protocol to make global name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expor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local names server willing to ex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global names that local nodes im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2600" indent="-1994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sponding global name must be in /etc/exports on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DFE5-BF65-4C9E-8CDB-413191A3FFC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 defines set of RPC operations for remote file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y search, reading directory e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ipulating links &amp;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ng fil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/writing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rely on node homogene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ous nodes support NFS mount &amp; remote access protocols using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eed to know different names depending upon which node they log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68A0-20C4-4675-AEF7-DBD106B2CC6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846000" y="2122560"/>
            <a:ext cx="8150400" cy="34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2B77-095F-4888-9CCD-F886E97DBA1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779480" y="33480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711360" y="614664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01800" y="2425680"/>
            <a:ext cx="181584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38360" y="255276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917720" y="29718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320840" y="29973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73400" y="36068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5408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6052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54360" y="35812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11560" y="41403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43280" y="41148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486080" y="275580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28800" y="276876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93400" y="3213000"/>
            <a:ext cx="1522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31840" y="31878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638360" y="318780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994040" y="31878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49360" y="38228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107800" y="38354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93760" y="46227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90720" y="5003640"/>
            <a:ext cx="583920" cy="254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78040" y="4991040"/>
            <a:ext cx="69840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55600" y="54482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990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257120" y="4813200"/>
            <a:ext cx="368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95280" y="5257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41400" y="48261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08160" y="52322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80360" y="33606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02320" y="2438280"/>
            <a:ext cx="1816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38880" y="25653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518240" y="298440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21360" y="30099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873920" y="36194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65496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061040" y="3581280"/>
            <a:ext cx="24156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454880" y="359424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12080" y="41529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54380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7086600" y="2768760"/>
            <a:ext cx="1396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429680" y="2781360"/>
            <a:ext cx="8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794280" y="322596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32720" y="32004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7238520" y="320040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94560" y="32004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950240" y="38354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708680" y="384804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94640" y="46353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91240" y="5016600"/>
            <a:ext cx="584280" cy="25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5003640"/>
            <a:ext cx="6987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56480" y="54608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53360" y="5511960"/>
            <a:ext cx="73656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857640" y="4826160"/>
            <a:ext cx="368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96160" y="52704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42280" y="48387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709040" y="52452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11600" y="33354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2413080"/>
            <a:ext cx="18158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70480" y="25401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49840" y="295920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52960" y="29844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05520" y="359424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35434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9264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8648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4368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75040" y="4102200"/>
            <a:ext cx="24156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4317480" y="2743200"/>
            <a:ext cx="14004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60920" y="275580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4025520" y="320040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63960" y="31748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470480" y="3174840"/>
            <a:ext cx="342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26160" y="31748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81480" y="380988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939920" y="38228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025880" y="4610160"/>
            <a:ext cx="1066680" cy="203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22840" y="4991040"/>
            <a:ext cx="583920" cy="25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10160" y="4978440"/>
            <a:ext cx="69840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87720" y="54356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84600" y="54864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089240" y="4800600"/>
            <a:ext cx="368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27400" y="52452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73520" y="4813200"/>
            <a:ext cx="2667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40280" y="52196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82960" y="5740560"/>
            <a:ext cx="2806560" cy="291960"/>
          </a:xfrm>
          <a:custGeom>
            <a:avLst/>
            <a:gdLst/>
            <a:ahLst/>
            <a:rect l="l" t="t" r="r" b="b"/>
            <a:pathLst>
              <a:path w="1768" h="184">
                <a:moveTo>
                  <a:pt x="0" y="0"/>
                </a:moveTo>
                <a:lnTo>
                  <a:pt x="0" y="184"/>
                </a:lnTo>
                <a:lnTo>
                  <a:pt x="1768" y="184"/>
                </a:lnTo>
                <a:lnTo>
                  <a:pt x="176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77804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593100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44228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16600" y="5740560"/>
            <a:ext cx="2705040" cy="317520"/>
          </a:xfrm>
          <a:custGeom>
            <a:avLst/>
            <a:gdLst/>
            <a:ahLst/>
            <a:rect l="l" t="t" r="r" b="b"/>
            <a:pathLst>
              <a:path w="1704" h="200">
                <a:moveTo>
                  <a:pt x="1704" y="16"/>
                </a:moveTo>
                <a:lnTo>
                  <a:pt x="1704" y="200"/>
                </a:lnTo>
                <a:lnTo>
                  <a:pt x="0" y="20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73800" y="4102200"/>
            <a:ext cx="194292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755800" y="4076640"/>
            <a:ext cx="194328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030920" y="208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75920" y="210024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9800" y="20876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94480" y="37893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50640" y="38019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06360" y="394956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74640" y="4406760"/>
            <a:ext cx="1400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91240" y="408924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24760" y="4444920"/>
            <a:ext cx="1396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68F2-B1EF-47C3-B0E3-8E30246EBD4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Install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"/>
          <p:cNvSpPr/>
          <p:nvPr/>
        </p:nvSpPr>
        <p:spPr>
          <a:xfrm>
            <a:off x="598320" y="1700280"/>
            <a:ext cx="857268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if NFS is running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info –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NS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etc/rc.d/init.d/nfs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t /etc/exports fil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dir/to/export client1(permissions), client2(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 dirs in /etc/exp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fs –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exported director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mount –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a server’s director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unt –o options server_name:/dir /my_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g: continue working on importing upon a failu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r: a process will be interupted if its I/O request to the server dir is 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ft: allowing a client to time out the connection after a number of re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w/ro: normal r/w or read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ying Conne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64240" y="5257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057080" y="507204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702040" y="534672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8600" y="528948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mount servic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64240" y="567684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126560" y="5567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un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5664240" y="576576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5840" y="56959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26080" y="603252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69680" y="592308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5651280" y="612144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74720" y="607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42360" y="51102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613480" y="6400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38680" y="64897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74440" y="62784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85880" y="631836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756-3021-414D-A560-9FC9231F249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: a compound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up, Open, and 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less: simple implementation in ver 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full: allowing clients to cache files in ver 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call back from a server to invalidate a client’s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in ver 4: lock, lockt, locku, and ren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. Emacs: Tests with lockt when modifying buffer, locks a file with lockt, and unlock with locku after writing buffer contents to the fi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reservation: specify how to share a file (with ro, wo, or r/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270-BF20-4AE7-BFF6-5119A138D83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B078-68A6-469D-A606-1BE95680320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 (Cont’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lient’s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alidation of client’s cache upon re-opening the same f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deleg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delegates a open decision to a writing client which can handle an open request from other clients on the same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calls back the client when receiving an open request from another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failure: use a duplicate-request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failure: provide a grace period during which a client reclaim locks previously granted and the server builds up its previous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734D-59EA-4077-8F6C-78836A5AFE6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Duplicate Request Cach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8" name=""/>
          <p:cNvSpPr/>
          <p:nvPr/>
        </p:nvSpPr>
        <p:spPr>
          <a:xfrm>
            <a:off x="32112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6312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244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8108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2244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9408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2440" y="321300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2244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02600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9708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9404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82960" y="4152960"/>
            <a:ext cx="26640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9280" y="31813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890720" y="3422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2760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4216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8380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4348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0212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4348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1476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68680" y="4317840"/>
            <a:ext cx="135900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354348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94704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1812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1508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003640" y="41529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52920" y="412128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96600" y="4819680"/>
            <a:ext cx="15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ust replied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4828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9840" y="21891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341480" y="216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00800" y="24890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759800" y="24638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00800" y="2819520"/>
            <a:ext cx="1359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472440" y="27367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26360" y="495288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6997320" y="4457880"/>
            <a:ext cx="76212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058520" y="433692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975440" y="44323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31240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61320" y="41655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12120" y="489600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440" y="34354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05960" y="380376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6388200" y="543564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5480" y="5327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0" y="4546440"/>
            <a:ext cx="279360" cy="1908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759800" y="4635360"/>
            <a:ext cx="419040" cy="800280"/>
          </a:xfrm>
          <a:custGeom>
            <a:avLst/>
            <a:gdLst/>
            <a:ahLst/>
            <a:rect l="l" t="t" r="r" b="b"/>
            <a:pathLst>
              <a:path w="264" h="504">
                <a:moveTo>
                  <a:pt x="264" y="0"/>
                </a:moveTo>
                <a:cubicBezTo>
                  <a:pt x="258" y="90"/>
                  <a:pt x="252" y="180"/>
                  <a:pt x="208" y="264"/>
                </a:cubicBezTo>
                <a:cubicBezTo>
                  <a:pt x="164" y="348"/>
                  <a:pt x="82" y="426"/>
                  <a:pt x="0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25760" y="5973840"/>
            <a:ext cx="52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, when does the server delete this cached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4EA4-E8A8-4A2A-BF66-BE71C6C8C8F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1359000" y="1855800"/>
            <a:ext cx="6778440" cy="48466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251C-885D-477F-A639-1B944C19341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309680" y="29098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le Name Spac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>
            <a:off x="711360" y="645156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901800" y="2184480"/>
            <a:ext cx="1815840" cy="40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38360" y="22734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17720" y="26924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320840" y="27176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73400" y="3327480"/>
            <a:ext cx="190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054080" y="3276720"/>
            <a:ext cx="241200" cy="253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460520" y="32893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54360" y="33019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11560" y="386064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43280" y="3835440"/>
            <a:ext cx="24120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486080" y="24764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28800" y="248904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193400" y="293364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031840" y="29084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638360" y="290844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94040" y="29084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349360" y="3543480"/>
            <a:ext cx="76320" cy="31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107800" y="355608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92240" y="5791320"/>
            <a:ext cx="368280" cy="39348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31920" y="560088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79640" y="52196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78040" y="6235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81760" y="623556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4480" y="187164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342240" y="348624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4470480"/>
            <a:ext cx="81288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98600" y="5257800"/>
            <a:ext cx="368280" cy="39384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015920" y="457200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346040" y="5016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841400" y="5079960"/>
            <a:ext cx="1904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614920" y="29224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07040" y="2197080"/>
            <a:ext cx="1816200" cy="405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943600" y="228600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222960" y="27050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626080" y="27306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578640" y="33400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359320" y="3289320"/>
            <a:ext cx="241560" cy="254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65760" y="330192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59600" y="331488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616800" y="387360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248520" y="384804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791320" y="24890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134040" y="250200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5499000" y="2946240"/>
            <a:ext cx="1526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37440" y="2921040"/>
            <a:ext cx="2538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5943240" y="292104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299280" y="29210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654960" y="3556080"/>
            <a:ext cx="759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413040" y="356868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02320" y="580392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642000" y="56134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842080" y="52322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81880" y="1884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856840" y="41338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83360" y="4432320"/>
            <a:ext cx="81252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83280" y="5054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666880" y="4762440"/>
            <a:ext cx="261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59160" y="4859280"/>
            <a:ext cx="4170240" cy="1058760"/>
          </a:xfrm>
          <a:custGeom>
            <a:avLst/>
            <a:gdLst/>
            <a:ahLst/>
            <a:rect l="l" t="t" r="r" b="b"/>
            <a:pathLst>
              <a:path w="2627" h="667">
                <a:moveTo>
                  <a:pt x="2627" y="667"/>
                </a:moveTo>
                <a:cubicBezTo>
                  <a:pt x="2547" y="593"/>
                  <a:pt x="2468" y="519"/>
                  <a:pt x="2363" y="419"/>
                </a:cubicBezTo>
                <a:cubicBezTo>
                  <a:pt x="2258" y="319"/>
                  <a:pt x="2311" y="134"/>
                  <a:pt x="1995" y="67"/>
                </a:cubicBezTo>
                <a:cubicBezTo>
                  <a:pt x="1679" y="0"/>
                  <a:pt x="787" y="7"/>
                  <a:pt x="467" y="19"/>
                </a:cubicBezTo>
                <a:cubicBezTo>
                  <a:pt x="147" y="31"/>
                  <a:pt x="150" y="94"/>
                  <a:pt x="75" y="139"/>
                </a:cubicBezTo>
                <a:cubicBezTo>
                  <a:pt x="0" y="184"/>
                  <a:pt x="9" y="237"/>
                  <a:pt x="19" y="291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97160" y="4952880"/>
            <a:ext cx="977760" cy="443160"/>
          </a:xfrm>
          <a:custGeom>
            <a:avLst/>
            <a:gdLst/>
            <a:ahLst/>
            <a:rect l="l" t="t" r="r" b="b"/>
            <a:pathLst>
              <a:path w="616" h="279">
                <a:moveTo>
                  <a:pt x="616" y="224"/>
                </a:moveTo>
                <a:cubicBezTo>
                  <a:pt x="590" y="128"/>
                  <a:pt x="565" y="32"/>
                  <a:pt x="528" y="40"/>
                </a:cubicBezTo>
                <a:cubicBezTo>
                  <a:pt x="491" y="48"/>
                  <a:pt x="480" y="279"/>
                  <a:pt x="392" y="272"/>
                </a:cubicBezTo>
                <a:cubicBezTo>
                  <a:pt x="304" y="265"/>
                  <a:pt x="152" y="132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438280" y="3543480"/>
            <a:ext cx="4140360" cy="242640"/>
          </a:xfrm>
          <a:custGeom>
            <a:avLst/>
            <a:gdLst/>
            <a:ahLst/>
            <a:rect l="l" t="t" r="r" b="b"/>
            <a:pathLst>
              <a:path w="2608" h="153">
                <a:moveTo>
                  <a:pt x="0" y="0"/>
                </a:moveTo>
                <a:cubicBezTo>
                  <a:pt x="414" y="75"/>
                  <a:pt x="829" y="151"/>
                  <a:pt x="1264" y="152"/>
                </a:cubicBezTo>
                <a:cubicBezTo>
                  <a:pt x="1699" y="153"/>
                  <a:pt x="2153" y="80"/>
                  <a:pt x="2608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2000" y="4076640"/>
            <a:ext cx="4114800" cy="344520"/>
          </a:xfrm>
          <a:custGeom>
            <a:avLst/>
            <a:gdLst/>
            <a:ahLst/>
            <a:rect l="l" t="t" r="r" b="b"/>
            <a:pathLst>
              <a:path w="2592" h="217">
                <a:moveTo>
                  <a:pt x="0" y="0"/>
                </a:moveTo>
                <a:cubicBezTo>
                  <a:pt x="372" y="107"/>
                  <a:pt x="744" y="215"/>
                  <a:pt x="1176" y="216"/>
                </a:cubicBezTo>
                <a:cubicBezTo>
                  <a:pt x="1608" y="217"/>
                  <a:pt x="2100" y="112"/>
                  <a:pt x="2592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133720" y="3962520"/>
            <a:ext cx="4114800" cy="261720"/>
          </a:xfrm>
          <a:custGeom>
            <a:avLst/>
            <a:gdLst/>
            <a:ahLst/>
            <a:rect l="l" t="t" r="r" b="b"/>
            <a:pathLst>
              <a:path w="2592" h="165">
                <a:moveTo>
                  <a:pt x="0" y="0"/>
                </a:moveTo>
                <a:cubicBezTo>
                  <a:pt x="372" y="61"/>
                  <a:pt x="744" y="123"/>
                  <a:pt x="1096" y="144"/>
                </a:cubicBezTo>
                <a:cubicBezTo>
                  <a:pt x="1448" y="165"/>
                  <a:pt x="1863" y="147"/>
                  <a:pt x="2112" y="128"/>
                </a:cubicBezTo>
                <a:cubicBezTo>
                  <a:pt x="2361" y="109"/>
                  <a:pt x="2476" y="70"/>
                  <a:pt x="2592" y="3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19240" y="3492360"/>
            <a:ext cx="4203720" cy="506520"/>
          </a:xfrm>
          <a:custGeom>
            <a:avLst/>
            <a:gdLst/>
            <a:ahLst/>
            <a:rect l="l" t="t" r="r" b="b"/>
            <a:pathLst>
              <a:path w="2648" h="319">
                <a:moveTo>
                  <a:pt x="0" y="0"/>
                </a:moveTo>
                <a:cubicBezTo>
                  <a:pt x="419" y="152"/>
                  <a:pt x="839" y="305"/>
                  <a:pt x="1280" y="312"/>
                </a:cubicBezTo>
                <a:cubicBezTo>
                  <a:pt x="1721" y="319"/>
                  <a:pt x="2184" y="179"/>
                  <a:pt x="2648" y="4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12800" y="3505320"/>
            <a:ext cx="4191120" cy="436320"/>
          </a:xfrm>
          <a:custGeom>
            <a:avLst/>
            <a:gdLst/>
            <a:ahLst/>
            <a:rect l="l" t="t" r="r" b="b"/>
            <a:pathLst>
              <a:path w="2640" h="275">
                <a:moveTo>
                  <a:pt x="0" y="16"/>
                </a:moveTo>
                <a:cubicBezTo>
                  <a:pt x="188" y="145"/>
                  <a:pt x="376" y="275"/>
                  <a:pt x="816" y="272"/>
                </a:cubicBezTo>
                <a:cubicBezTo>
                  <a:pt x="1256" y="269"/>
                  <a:pt x="1948" y="134"/>
                  <a:pt x="264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16200" y="2362320"/>
            <a:ext cx="438156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4440" y="287496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85280" y="284940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A47-AAAB-4E1C-9DE5-66D64795CD3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ystem Call Intercep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1041480" y="1847880"/>
            <a:ext cx="724212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ED73-21DA-4899-B910-EB7C45A828E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1612800" y="1625760"/>
            <a:ext cx="647712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9980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Implementation of file system call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2401920" y="6262560"/>
            <a:ext cx="47005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1781280" y="1254240"/>
            <a:ext cx="579096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FCAB-34A2-4303-83FB-779A8E2E8B2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1038240" y="5145120"/>
            <a:ext cx="754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449360" y="38894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434960" y="210168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13160" y="38973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970680" y="21668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86240" y="21477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999120" y="39146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32320" y="395280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271520" y="1917720"/>
            <a:ext cx="141624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52960" y="1962000"/>
            <a:ext cx="141588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08400" y="2006640"/>
            <a:ext cx="141624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819840" y="2016000"/>
            <a:ext cx="1416240" cy="28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9000" y="4876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935520" y="4884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826240" y="491328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02400" y="4903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3840" y="5754600"/>
            <a:ext cx="3335040" cy="43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06600" y="51274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-34920" y="4626000"/>
            <a:ext cx="1952640" cy="1398600"/>
            <a:chOff x="-34920" y="4626000"/>
            <a:chExt cx="1952640" cy="1398600"/>
          </a:xfrm>
        </p:grpSpPr>
        <p:sp>
          <p:nvSpPr>
            <p:cNvPr id="1226" name=""/>
            <p:cNvSpPr/>
            <p:nvPr/>
          </p:nvSpPr>
          <p:spPr>
            <a:xfrm>
              <a:off x="1260360" y="4626000"/>
              <a:ext cx="657360" cy="1398600"/>
            </a:xfrm>
            <a:custGeom>
              <a:avLst/>
              <a:gdLst/>
              <a:ahLst/>
              <a:rect l="l" t="t" r="r" b="b"/>
              <a:pathLst>
                <a:path w="414" h="881">
                  <a:moveTo>
                    <a:pt x="30" y="881"/>
                  </a:moveTo>
                  <a:cubicBezTo>
                    <a:pt x="15" y="637"/>
                    <a:pt x="0" y="393"/>
                    <a:pt x="53" y="282"/>
                  </a:cubicBezTo>
                  <a:cubicBezTo>
                    <a:pt x="106" y="171"/>
                    <a:pt x="287" y="261"/>
                    <a:pt x="347" y="214"/>
                  </a:cubicBezTo>
                  <a:cubicBezTo>
                    <a:pt x="407" y="167"/>
                    <a:pt x="403" y="36"/>
                    <a:pt x="41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-34920" y="484344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1: Write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475200" y="2814480"/>
            <a:ext cx="1424880" cy="1076400"/>
            <a:chOff x="475200" y="2814480"/>
            <a:chExt cx="1424880" cy="1076400"/>
          </a:xfrm>
        </p:grpSpPr>
        <p:sp>
          <p:nvSpPr>
            <p:cNvPr id="1229" name=""/>
            <p:cNvSpPr/>
            <p:nvPr/>
          </p:nvSpPr>
          <p:spPr>
            <a:xfrm flipV="1">
              <a:off x="1900080" y="2814480"/>
              <a:ext cx="0" cy="107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5200" y="3166920"/>
              <a:ext cx="141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2: Log th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in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509920" y="2386080"/>
            <a:ext cx="6741360" cy="3592080"/>
            <a:chOff x="2509920" y="2386080"/>
            <a:chExt cx="6741360" cy="3592080"/>
          </a:xfrm>
        </p:grpSpPr>
        <p:sp>
          <p:nvSpPr>
            <p:cNvPr id="1232" name=""/>
            <p:cNvSpPr/>
            <p:nvPr/>
          </p:nvSpPr>
          <p:spPr>
            <a:xfrm>
              <a:off x="2509920" y="2386080"/>
              <a:ext cx="1326960" cy="3052800"/>
            </a:xfrm>
            <a:custGeom>
              <a:avLst/>
              <a:gdLst/>
              <a:ahLst/>
              <a:rect l="l" t="t" r="r" b="b"/>
              <a:pathLst>
                <a:path w="836" h="1923">
                  <a:moveTo>
                    <a:pt x="0" y="33"/>
                  </a:moveTo>
                  <a:cubicBezTo>
                    <a:pt x="60" y="16"/>
                    <a:pt x="120" y="0"/>
                    <a:pt x="158" y="169"/>
                  </a:cubicBezTo>
                  <a:cubicBezTo>
                    <a:pt x="196" y="338"/>
                    <a:pt x="209" y="782"/>
                    <a:pt x="226" y="1049"/>
                  </a:cubicBezTo>
                  <a:cubicBezTo>
                    <a:pt x="243" y="1316"/>
                    <a:pt x="181" y="1636"/>
                    <a:pt x="260" y="1772"/>
                  </a:cubicBezTo>
                  <a:cubicBezTo>
                    <a:pt x="339" y="1908"/>
                    <a:pt x="604" y="1923"/>
                    <a:pt x="700" y="1863"/>
                  </a:cubicBezTo>
                  <a:cubicBezTo>
                    <a:pt x="796" y="1803"/>
                    <a:pt x="813" y="1486"/>
                    <a:pt x="836" y="1411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68680" y="4643280"/>
              <a:ext cx="3925800" cy="765360"/>
            </a:xfrm>
            <a:custGeom>
              <a:avLst/>
              <a:gdLst/>
              <a:ahLst/>
              <a:rect l="l" t="t" r="r" b="b"/>
              <a:pathLst>
                <a:path w="2473" h="482">
                  <a:moveTo>
                    <a:pt x="0" y="452"/>
                  </a:moveTo>
                  <a:cubicBezTo>
                    <a:pt x="782" y="467"/>
                    <a:pt x="1564" y="482"/>
                    <a:pt x="1976" y="407"/>
                  </a:cubicBezTo>
                  <a:cubicBezTo>
                    <a:pt x="2388" y="332"/>
                    <a:pt x="2390" y="68"/>
                    <a:pt x="247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59880" y="5397480"/>
              <a:ext cx="409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3: Fragment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and sent them to a strip group of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469880" y="4697280"/>
            <a:ext cx="4213440" cy="1290600"/>
            <a:chOff x="1469880" y="4697280"/>
            <a:chExt cx="4213440" cy="1290600"/>
          </a:xfrm>
        </p:grpSpPr>
        <p:sp>
          <p:nvSpPr>
            <p:cNvPr id="1236" name=""/>
            <p:cNvSpPr/>
            <p:nvPr/>
          </p:nvSpPr>
          <p:spPr>
            <a:xfrm>
              <a:off x="1469880" y="4697280"/>
              <a:ext cx="4213440" cy="1290600"/>
            </a:xfrm>
            <a:custGeom>
              <a:avLst/>
              <a:gdLst/>
              <a:ahLst/>
              <a:rect l="l" t="t" r="r" b="b"/>
              <a:pathLst>
                <a:path w="2654" h="813">
                  <a:moveTo>
                    <a:pt x="68" y="813"/>
                  </a:moveTo>
                  <a:cubicBezTo>
                    <a:pt x="34" y="643"/>
                    <a:pt x="0" y="474"/>
                    <a:pt x="147" y="373"/>
                  </a:cubicBezTo>
                  <a:cubicBezTo>
                    <a:pt x="294" y="272"/>
                    <a:pt x="644" y="231"/>
                    <a:pt x="949" y="203"/>
                  </a:cubicBezTo>
                  <a:cubicBezTo>
                    <a:pt x="1254" y="175"/>
                    <a:pt x="1693" y="237"/>
                    <a:pt x="1977" y="203"/>
                  </a:cubicBezTo>
                  <a:cubicBezTo>
                    <a:pt x="2261" y="169"/>
                    <a:pt x="2541" y="34"/>
                    <a:pt x="265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41880" y="553392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: Read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2384280" y="2851200"/>
            <a:ext cx="3424320" cy="2885040"/>
            <a:chOff x="2384280" y="2851200"/>
            <a:chExt cx="3424320" cy="2885040"/>
          </a:xfrm>
        </p:grpSpPr>
        <p:sp>
          <p:nvSpPr>
            <p:cNvPr id="1239" name=""/>
            <p:cNvSpPr/>
            <p:nvPr/>
          </p:nvSpPr>
          <p:spPr>
            <a:xfrm>
              <a:off x="2384280" y="2851200"/>
              <a:ext cx="3424320" cy="2870280"/>
            </a:xfrm>
            <a:custGeom>
              <a:avLst/>
              <a:gdLst/>
              <a:ahLst/>
              <a:rect l="l" t="t" r="r" b="b"/>
              <a:pathLst>
                <a:path w="2157" h="1808">
                  <a:moveTo>
                    <a:pt x="2157" y="1152"/>
                  </a:moveTo>
                  <a:cubicBezTo>
                    <a:pt x="2060" y="1388"/>
                    <a:pt x="1963" y="1624"/>
                    <a:pt x="1694" y="1716"/>
                  </a:cubicBezTo>
                  <a:cubicBezTo>
                    <a:pt x="1425" y="1808"/>
                    <a:pt x="802" y="1808"/>
                    <a:pt x="542" y="1705"/>
                  </a:cubicBezTo>
                  <a:cubicBezTo>
                    <a:pt x="282" y="1602"/>
                    <a:pt x="204" y="1321"/>
                    <a:pt x="136" y="1095"/>
                  </a:cubicBezTo>
                  <a:cubicBezTo>
                    <a:pt x="68" y="869"/>
                    <a:pt x="159" y="532"/>
                    <a:pt x="136" y="350"/>
                  </a:cubicBezTo>
                  <a:cubicBezTo>
                    <a:pt x="113" y="168"/>
                    <a:pt x="56" y="84"/>
                    <a:pt x="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13080" y="539892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: Query 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2120040" y="2814480"/>
            <a:ext cx="4172040" cy="1094040"/>
            <a:chOff x="2120040" y="2814480"/>
            <a:chExt cx="4172040" cy="1094040"/>
          </a:xfrm>
        </p:grpSpPr>
        <p:sp>
          <p:nvSpPr>
            <p:cNvPr id="1242" name=""/>
            <p:cNvSpPr/>
            <p:nvPr/>
          </p:nvSpPr>
          <p:spPr>
            <a:xfrm>
              <a:off x="2187720" y="2814480"/>
              <a:ext cx="0" cy="109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20040" y="3238560"/>
              <a:ext cx="41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: Collaborative ca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(Read data from another client if possi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2093-74EA-4757-B3F2-9B60B0045DD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352584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8928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17800" y="3035160"/>
            <a:ext cx="815760" cy="843120"/>
          </a:xfrm>
          <a:custGeom>
            <a:avLst/>
            <a:gdLst/>
            <a:ahLst/>
            <a:rect l="l" t="t" r="r" b="b"/>
            <a:pathLst>
              <a:path w="514" h="531">
                <a:moveTo>
                  <a:pt x="49" y="40"/>
                </a:moveTo>
                <a:cubicBezTo>
                  <a:pt x="0" y="80"/>
                  <a:pt x="60" y="381"/>
                  <a:pt x="129" y="456"/>
                </a:cubicBezTo>
                <a:cubicBezTo>
                  <a:pt x="198" y="531"/>
                  <a:pt x="416" y="528"/>
                  <a:pt x="465" y="488"/>
                </a:cubicBezTo>
                <a:cubicBezTo>
                  <a:pt x="514" y="448"/>
                  <a:pt x="498" y="293"/>
                  <a:pt x="425" y="216"/>
                </a:cubicBezTo>
                <a:cubicBezTo>
                  <a:pt x="352" y="139"/>
                  <a:pt x="98" y="0"/>
                  <a:pt x="49" y="40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49400" y="2965320"/>
            <a:ext cx="1266840" cy="989280"/>
          </a:xfrm>
          <a:custGeom>
            <a:avLst/>
            <a:gdLst/>
            <a:ahLst/>
            <a:rect l="l" t="t" r="r" b="b"/>
            <a:pathLst>
              <a:path w="798" h="623">
                <a:moveTo>
                  <a:pt x="531" y="76"/>
                </a:moveTo>
                <a:cubicBezTo>
                  <a:pt x="464" y="0"/>
                  <a:pt x="400" y="33"/>
                  <a:pt x="323" y="100"/>
                </a:cubicBezTo>
                <a:cubicBezTo>
                  <a:pt x="246" y="167"/>
                  <a:pt x="0" y="400"/>
                  <a:pt x="67" y="476"/>
                </a:cubicBezTo>
                <a:cubicBezTo>
                  <a:pt x="134" y="552"/>
                  <a:pt x="648" y="623"/>
                  <a:pt x="723" y="556"/>
                </a:cubicBezTo>
                <a:cubicBezTo>
                  <a:pt x="798" y="489"/>
                  <a:pt x="598" y="152"/>
                  <a:pt x="531" y="76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19440" y="47005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526080" y="46879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728800" y="473868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15840" y="4751280"/>
            <a:ext cx="1175040" cy="1225800"/>
          </a:xfrm>
          <a:custGeom>
            <a:avLst/>
            <a:gdLst/>
            <a:ahLst/>
            <a:rect l="l" t="t" r="r" b="b"/>
            <a:pathLst>
              <a:path w="740" h="772">
                <a:moveTo>
                  <a:pt x="399" y="87"/>
                </a:moveTo>
                <a:cubicBezTo>
                  <a:pt x="328" y="0"/>
                  <a:pt x="310" y="66"/>
                  <a:pt x="255" y="159"/>
                </a:cubicBezTo>
                <a:cubicBezTo>
                  <a:pt x="200" y="252"/>
                  <a:pt x="0" y="560"/>
                  <a:pt x="71" y="647"/>
                </a:cubicBezTo>
                <a:cubicBezTo>
                  <a:pt x="142" y="734"/>
                  <a:pt x="618" y="772"/>
                  <a:pt x="679" y="679"/>
                </a:cubicBezTo>
                <a:cubicBezTo>
                  <a:pt x="740" y="586"/>
                  <a:pt x="470" y="174"/>
                  <a:pt x="399" y="8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2514600" y="22352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9716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7964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5436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48120" y="287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22360" y="491508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988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768760" y="55753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59200" y="494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788000" y="490212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87028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8780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727280" y="55627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3009960" y="308628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74840" y="308628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244520" y="5130720"/>
            <a:ext cx="25416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523880" y="513072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49440" y="5143680"/>
            <a:ext cx="2538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2870280" y="5168880"/>
            <a:ext cx="1648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73320" y="5168880"/>
            <a:ext cx="1144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705040" y="2451240"/>
            <a:ext cx="3301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044800" y="2463840"/>
            <a:ext cx="4572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7464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25748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540160" y="359424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09680" y="35812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05120" y="35686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1422000" y="3073320"/>
            <a:ext cx="44460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1701360" y="3111480"/>
            <a:ext cx="1652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66960" y="3086280"/>
            <a:ext cx="114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70000" y="3098880"/>
            <a:ext cx="24156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082960" y="3086280"/>
            <a:ext cx="546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1016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9276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4749840" y="511812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15080" y="5118120"/>
            <a:ext cx="88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83560" y="558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591240" y="56008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6730920" y="5130720"/>
            <a:ext cx="10152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96160" y="513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9080" y="495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20760" y="5067360"/>
            <a:ext cx="330480" cy="58428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68680" y="5054760"/>
            <a:ext cx="330120" cy="5839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9920" y="5969160"/>
            <a:ext cx="254160" cy="29196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73760" y="5956200"/>
            <a:ext cx="253800" cy="29232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079640" y="2006640"/>
            <a:ext cx="32004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0720" y="4699080"/>
            <a:ext cx="10411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717640" y="46864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95680" y="47116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477120" y="4686480"/>
            <a:ext cx="74916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24560" y="44258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61400" y="44006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61240" y="443880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ut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156720" y="443880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3200" y="41274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400480" y="389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36840" y="41274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111480" y="412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27680" y="41274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96160" y="41274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4280" y="17334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73600" y="351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5305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3720600" y="3060720"/>
            <a:ext cx="1018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86200" y="306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75912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692440" y="2413080"/>
            <a:ext cx="1117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4720" y="3809880"/>
            <a:ext cx="558720" cy="1422360"/>
          </a:xfrm>
          <a:custGeom>
            <a:avLst/>
            <a:gdLst/>
            <a:ahLst/>
            <a:rect l="l" t="t" r="r" b="b"/>
            <a:pathLst>
              <a:path w="352" h="896">
                <a:moveTo>
                  <a:pt x="256" y="896"/>
                </a:moveTo>
                <a:cubicBezTo>
                  <a:pt x="128" y="810"/>
                  <a:pt x="0" y="725"/>
                  <a:pt x="16" y="576"/>
                </a:cubicBezTo>
                <a:cubicBezTo>
                  <a:pt x="32" y="427"/>
                  <a:pt x="192" y="213"/>
                  <a:pt x="35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77960" y="3848040"/>
            <a:ext cx="292320" cy="1409760"/>
          </a:xfrm>
          <a:custGeom>
            <a:avLst/>
            <a:gdLst/>
            <a:ahLst/>
            <a:rect l="l" t="t" r="r" b="b"/>
            <a:pathLst>
              <a:path w="184" h="888">
                <a:moveTo>
                  <a:pt x="184" y="888"/>
                </a:moveTo>
                <a:cubicBezTo>
                  <a:pt x="131" y="866"/>
                  <a:pt x="79" y="844"/>
                  <a:pt x="48" y="696"/>
                </a:cubicBezTo>
                <a:cubicBezTo>
                  <a:pt x="17" y="548"/>
                  <a:pt x="8" y="27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429000" y="3822840"/>
            <a:ext cx="1231920" cy="1447560"/>
          </a:xfrm>
          <a:custGeom>
            <a:avLst/>
            <a:gdLst/>
            <a:ahLst/>
            <a:rect l="l" t="t" r="r" b="b"/>
            <a:pathLst>
              <a:path w="776" h="912">
                <a:moveTo>
                  <a:pt x="0" y="0"/>
                </a:moveTo>
                <a:cubicBezTo>
                  <a:pt x="103" y="12"/>
                  <a:pt x="207" y="24"/>
                  <a:pt x="336" y="176"/>
                </a:cubicBezTo>
                <a:cubicBezTo>
                  <a:pt x="465" y="328"/>
                  <a:pt x="620" y="620"/>
                  <a:pt x="776" y="91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102200" y="3403440"/>
            <a:ext cx="2565360" cy="1791000"/>
          </a:xfrm>
          <a:custGeom>
            <a:avLst/>
            <a:gdLst/>
            <a:ahLst/>
            <a:rect l="l" t="t" r="r" b="b"/>
            <a:pathLst>
              <a:path w="1616" h="1128">
                <a:moveTo>
                  <a:pt x="1616" y="1128"/>
                </a:moveTo>
                <a:cubicBezTo>
                  <a:pt x="1406" y="754"/>
                  <a:pt x="1197" y="380"/>
                  <a:pt x="928" y="192"/>
                </a:cubicBezTo>
                <a:cubicBezTo>
                  <a:pt x="659" y="4"/>
                  <a:pt x="329" y="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4360" y="38797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525760" y="39178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9040" y="38926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383440" y="34606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997680" y="5829480"/>
            <a:ext cx="736560" cy="266400"/>
          </a:xfrm>
          <a:custGeom>
            <a:avLst/>
            <a:gdLst/>
            <a:ahLst/>
            <a:rect l="l" t="t" r="r" b="b"/>
            <a:pathLst>
              <a:path w="464" h="168">
                <a:moveTo>
                  <a:pt x="0" y="0"/>
                </a:moveTo>
                <a:lnTo>
                  <a:pt x="0" y="168"/>
                </a:lnTo>
                <a:lnTo>
                  <a:pt x="464" y="168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410240" y="583560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7480" y="286380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on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51600" y="60008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ot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03680" y="541656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BD5-262F-499F-AC94-2A03624FA10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per Review by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 N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file-sharing semantics is each system based 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server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client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client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server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55E-1BDD-47A9-ADA9-3C4D284E5F8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>
            <a:off x="504720" y="1876320"/>
            <a:ext cx="8639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Q1.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n transaction-like semantics a.k.a. concurrency control, compare the pros and cons of backward and forward transactions. In particular, consider the case where each transaction includes more read than write oper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Back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For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Answer the following five questions about file-caching. When you are asked to show which systems use a given caching scheme, choose all applicable systems from NFS, AFS, xFS and Plan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1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Why can file-caching contribute to performance improvement? Answer two rea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2: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State one merit for using server-side caching? Which system uses server-side-cachin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Mer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80C-DE6F-443E-A008-244CF75E4A5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&amp; 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files nam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reveal lo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file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1DE5-3C14-495D-A272-5D099AAB4FF3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8" name=""/>
          <p:cNvSpPr/>
          <p:nvPr/>
        </p:nvSpPr>
        <p:spPr>
          <a:xfrm>
            <a:off x="212760" y="2120760"/>
            <a:ext cx="863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3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Client-side caching allows multiple clients to cache the same file. There are two schemes to validate the contents of a locally-cached file (or invalidate the contents of the same file cached at remote clients.) Those are client-initiated and server-initiated validations. Does the client-initiated validation require a file server to be stateful? Justify your answer. Also show which systems use the client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s: NFS,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4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Does the server-initiated validation require a file server to be stateful? Justify your answer. Also show which system uses the server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AFS, xFS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BE2-280E-4A46-A16E-2AA9B984FAE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transpar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does not reveal physical storage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independ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need not change if file’s storage locatio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act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naming schemes do not have location 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have location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8824-3ABD-48D6-AFAE-2E5203F6825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e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97600" y="3144600"/>
            <a:ext cx="3876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ust know complete name – aware of which files are local &amp; which are rem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is location dependent (cannot mo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sharing ha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00160" y="2844720"/>
            <a:ext cx="3895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6793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find fully specified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add &amp; delete new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glob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31840" y="2041560"/>
            <a:ext cx="50803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Linotype"/>
              </a:rPr>
              <a:t>&lt;machine name, path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0040"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Example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ppleShare, Windows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D7E-613D-4214-B530-674730E1FBCC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points (NFS – Network File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ost has se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 nam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 t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specifies &lt;remote pathname @ machine name, local path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boot: bind local name to remo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refer to local path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S manages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FE71-68B6-4964-844E-61F66E5B977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name can change across rebo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nified strategy hard to maint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ile can have different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DEF5-CE8F-4888-A8C2-6A38A339E76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6:33:48Z</dcterms:created>
  <dc:creator>Munehiro Fukuda</dc:creator>
  <dc:description/>
  <dc:language>en-US</dc:language>
  <cp:lastModifiedBy>Javier Bustos Jiménez</cp:lastModifiedBy>
  <cp:lastPrinted>1999-11-27T07:19:44Z</cp:lastPrinted>
  <dcterms:modified xsi:type="dcterms:W3CDTF">2007-10-08T15:46:50Z</dcterms:modified>
  <cp:revision>958</cp:revision>
  <dc:subject>Distributed File Systems</dc:subject>
  <dc:title>CSS434: Parallel &amp; Distributed Computing</dc:title>
</cp:coreProperties>
</file>