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6A73-D998-4F10-A05A-24C9676748F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0E0-FC93-4C6C-BD55-221C2DA6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4C3-5B67-47DE-A89E-8204AA9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DA5-1ABD-4F2F-BB32-1E2EF8E8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9FC-3633-4A1F-84CB-2B36DC6A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F2F5-6A22-4CD5-BE89-967969CD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1CE-4F74-4313-83AD-7B37D18F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5FAC-1D7B-443F-A36D-264F4776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D84F-191B-49B7-87FE-E147915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7CF1-C4D6-4259-B269-D1EC540E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0B13-1C82-440A-A61F-620752A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5587-E736-4D97-81FA-09EFC0F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517-C9A5-49B7-95A4-42C93A83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CDC-9A5E-41B6-BD80-B820DC0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72C1-BECF-450D-8931-8A6F6C7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38BF-348C-42B4-9964-607EB1EE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EE12-C033-4747-9F06-A96237A7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93DF-BD90-4A95-B599-01747366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2F1-582E-46CD-96D7-95A4E94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341-1076-4A30-9869-F762DEE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D10-D1BC-462C-ACC9-CC74C38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E61-FE95-4CCA-ADFD-9A86B01D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83E-6152-41F8-A094-B90EEBCB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F5E-485D-40D3-9E36-DBCFF7B5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918-B251-4CF7-BA37-3B14785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4CDE-0AA4-4423-A94E-39C3DF9CBE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AEC-A249-43BE-9C4E-0F4C9BA2CA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4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4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6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0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1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3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4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5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4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5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6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7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7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8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0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1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41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68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04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07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10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13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16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816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7008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084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30876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8348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8208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100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3280" y="4408560"/>
            <a:ext cx="612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3680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3680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098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8952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8952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771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8771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8771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606560"/>
            <a:ext cx="11811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e  patrón de envió , 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0872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7260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1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741480" y="3305160"/>
            <a:ext cx="4328280" cy="1826640"/>
            <a:chOff x="3741480" y="3305160"/>
            <a:chExt cx="4328280" cy="1826640"/>
          </a:xfrm>
        </p:grpSpPr>
        <p:sp>
          <p:nvSpPr>
            <p:cNvPr id="859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4148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8624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5440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70036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9772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8800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3724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2168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6980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152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2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8-06T14:11:37Z</dcterms:modified>
  <cp:revision>127</cp:revision>
  <dc:subject/>
  <dc:title>Sistemas Distribuídos</dc:title>
</cp:coreProperties>
</file>