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F051-CDB5-4063-999F-23862018905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AF0-2A00-4FA2-B01A-416ED68B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280A-E763-4824-BC73-D93C89FA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6392-24CA-4A26-82B4-FE870D11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9DE-5FA5-4C94-8C12-85E0775B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9676-E48B-4AEB-AF9D-D4F0021B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6F62-17AA-4D16-9383-FABCD257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B1AB-D388-43D4-B1AF-B7D6DA4C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EC26-9BAD-429C-94DC-97280D09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42EF-E8EF-47EB-AAB7-F0BA91A6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DC80-93C0-4DE5-9D9B-668EAF1A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BE32-C4A7-4002-80C8-C6CD2ACC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5F85-84E9-44FB-BA98-5C322CEE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817B-E378-4B0C-AB43-5EEED6A3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9D9E-47F9-4A7A-AE47-073881C8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69BB-5AE9-4EA1-943C-3CB5E452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0A82-6D45-47A2-8568-6381BFB5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885E-D44D-4E23-924A-81B8BB0F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DBD-5541-4EF3-A424-7B3457B6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967-C7E5-4ED1-9B7B-DEB38BD0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A99-F725-4C87-A9AB-D2B41DE9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1FBE-6367-4E07-9D6C-BB61EC59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FFD8-8F37-4E55-B936-126DE843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B54D-A369-4D07-8FB8-89D5772D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0FE6-8C88-44C7-B3AF-B38A970C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AAF4-DDF2-42EF-8CA9-C6410DE1B99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B957-C68E-48FC-9D86-1F9F27A511C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48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1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4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7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9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4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68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4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7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0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3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6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09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2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5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18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1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4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7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0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3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6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39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2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49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2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5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58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4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4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3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44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55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6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74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79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87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00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1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41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68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03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04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07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10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13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16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18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7816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97008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6084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30876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68348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28208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1000" y="4008600"/>
            <a:ext cx="1162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3280" y="4408560"/>
            <a:ext cx="612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93680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3680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0098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88952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88952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88952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8771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8771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8771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6781680" y="4606560"/>
            <a:ext cx="118116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e  patrón de envió , 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90872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97260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7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1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3741480" y="3305160"/>
            <a:ext cx="4328280" cy="1826640"/>
            <a:chOff x="3741480" y="3305160"/>
            <a:chExt cx="4328280" cy="1826640"/>
          </a:xfrm>
        </p:grpSpPr>
        <p:sp>
          <p:nvSpPr>
            <p:cNvPr id="859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4148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28624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5440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70036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9772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68800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83724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02168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06980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94152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29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0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6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2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3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69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5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5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6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2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7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2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Javier Bustos Jiménez</cp:lastModifiedBy>
  <dcterms:modified xsi:type="dcterms:W3CDTF">2008-08-06T14:11:37Z</dcterms:modified>
  <cp:revision>127</cp:revision>
  <dc:subject/>
  <dc:title>Sistemas Distribuídos</dc:title>
</cp:coreProperties>
</file>