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A093-CD96-4F72-A93D-CBCA4A12E72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9EA-F54E-4240-9D4C-3E8A034A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C7A-784F-41AA-A57F-ADC6631C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FFA-D86C-47D7-A9A9-D5D06A1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D1A-1BFF-4960-961A-44F9B3B6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18E6-8638-47E5-9518-05485D25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8EA7-B3B3-42AA-986B-25D4B78D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547-6D1A-4F3F-9F2D-5B7EAFD1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2C74-CA20-4CE5-98D1-C49395E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155A-E53D-452F-BC2B-7E225585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984E-CFDB-428C-8C47-24C9AD38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ACAC-2F5E-4893-A3E2-9219C5C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C3C-F30A-4DCF-A1BA-762751BB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D927-66E3-4C8A-B261-6863FEE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6851-9163-4BFC-B17B-4FE313B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773-5B60-453C-B7C1-680D4447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E5A-76D6-4292-8352-37418B2A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F81F-8638-4257-BD43-66309469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A49-D28E-4A4C-9A7A-6D195495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67E-5A2B-43FA-8201-BC06B49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F17-1BA4-4F81-A584-788BEFE4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8F0-59AA-4A1D-A3EA-07F3563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E8C-1A77-455F-9539-0EF1F3C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EB8-EB19-4952-A983-7C30A16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5C8-93E7-474E-91DC-83565E94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EF3-283B-4390-B529-72A250C8B55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40C-9302-4045-9DC4-E06F318AA4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4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4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6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0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1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3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4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5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4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5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6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7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7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8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0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1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41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68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04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07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10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13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16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816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7008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084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30876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8348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8208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100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3280" y="4408560"/>
            <a:ext cx="612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3680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098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952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8952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771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8771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8771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606560"/>
            <a:ext cx="11811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e  patrón de envió , 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72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7260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1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41480" y="3305160"/>
            <a:ext cx="4328280" cy="1826640"/>
            <a:chOff x="3741480" y="3305160"/>
            <a:chExt cx="4328280" cy="1826640"/>
          </a:xfrm>
        </p:grpSpPr>
        <p:sp>
          <p:nvSpPr>
            <p:cNvPr id="859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148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8624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440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0036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9772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8800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3724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2168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6980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152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2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8-06T14:11:37Z</dcterms:modified>
  <cp:revision>127</cp:revision>
  <dc:subject/>
  <dc:title>Sistemas Distribuídos</dc:title>
</cp:coreProperties>
</file>