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C9BBC-6AF6-43BD-A26D-E87E5AA3CD38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141C-F758-4595-9BF7-C8C5186BD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76A7-65B3-4A18-9E0F-56142C07A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5D84-BACE-44AA-83B5-771895C2F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0EAA-3791-47A9-ABAB-FBE2A4EF4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72DA9-D022-4B17-925C-50D5FF0BF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B227A-E804-4E11-8E71-1090F56CE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72223-1E57-4E9C-8738-73593D382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F70B3-EEE1-4EE4-B612-58FF0C657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518F8-C74D-43FF-A4BF-2245E20DF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73749-16D8-423D-BBF4-8CF64789B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97E03-5E7F-4C3B-8301-D96EBCF7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0019-8232-46DB-B40C-70B0A6EA3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2DB14-75A6-4CE6-9D95-A91D4133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F9EB9-F84D-4795-898F-E45B02D3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D03BB-CCF5-4F9A-BE2E-2834A7299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EDC39-514D-44AD-ACE8-3DB69AC00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81E0C-83DD-427E-A7E8-A00FD1F48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F34C-FE4C-4534-B64A-A620435E8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37CC-D20E-4671-815B-5D7DF1A9B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A2F6-5BEC-4DE4-B94B-A463F19D3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D3B3-2BB8-4FD9-A119-E2BAC0271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3587-03A8-4020-94AA-0D322854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5968-FBAF-400C-881A-2CD7ACE7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1BB5-A710-467A-AB68-D5BD1020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B0E5D-2509-4423-85C5-312D42601B6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1FCB-73B9-4DEC-9FAC-9FC3A549B21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Sistemas Distribuidos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avier Bustos Jiménez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bustos@dcc.uchile.c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Ordenamiento de event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da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mantiene una variable entera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(reloj lógic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genera un evento,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=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envía un mensaje incluye el valor de su reloj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recibe un mensaje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con un valor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Q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=max(L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Q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,t)+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219320" y="21337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219320" y="25909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219320" y="30481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219320" y="3505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219320" y="39625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219320" y="44197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19320" y="48769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219320" y="53341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19320" y="5791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19320" y="62485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 de 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lógic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60020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426708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6858000" y="1676520"/>
          <a:ext cx="685800" cy="49514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pSp>
        <p:nvGrpSpPr>
          <p:cNvPr id="247" name=""/>
          <p:cNvGrpSpPr/>
          <p:nvPr/>
        </p:nvGrpSpPr>
        <p:grpSpPr>
          <a:xfrm>
            <a:off x="2209680" y="2286000"/>
            <a:ext cx="1981440" cy="533520"/>
            <a:chOff x="2209680" y="2286000"/>
            <a:chExt cx="1981440" cy="533520"/>
          </a:xfrm>
        </p:grpSpPr>
        <p:sp>
          <p:nvSpPr>
            <p:cNvPr id="248" name=""/>
            <p:cNvSpPr/>
            <p:nvPr/>
          </p:nvSpPr>
          <p:spPr>
            <a:xfrm>
              <a:off x="2209680" y="2362320"/>
              <a:ext cx="19814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30560" y="228600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4876920" y="3138480"/>
            <a:ext cx="1904760" cy="595440"/>
            <a:chOff x="4876920" y="3138480"/>
            <a:chExt cx="1904760" cy="595440"/>
          </a:xfrm>
        </p:grpSpPr>
        <p:sp>
          <p:nvSpPr>
            <p:cNvPr id="251" name=""/>
            <p:cNvSpPr/>
            <p:nvPr/>
          </p:nvSpPr>
          <p:spPr>
            <a:xfrm>
              <a:off x="4876920" y="3276720"/>
              <a:ext cx="190476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685480" y="313848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4952880" y="4510080"/>
            <a:ext cx="1828800" cy="595440"/>
            <a:chOff x="4952880" y="4510080"/>
            <a:chExt cx="1828800" cy="595440"/>
          </a:xfrm>
        </p:grpSpPr>
        <p:sp>
          <p:nvSpPr>
            <p:cNvPr id="254" name=""/>
            <p:cNvSpPr/>
            <p:nvPr/>
          </p:nvSpPr>
          <p:spPr>
            <a:xfrm flipH="1">
              <a:off x="4952880" y="4648320"/>
              <a:ext cx="1828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648040" y="451008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2286000" y="5486400"/>
            <a:ext cx="1905120" cy="533520"/>
            <a:chOff x="2286000" y="5486400"/>
            <a:chExt cx="1905120" cy="533520"/>
          </a:xfrm>
        </p:grpSpPr>
        <p:sp>
          <p:nvSpPr>
            <p:cNvPr id="257" name=""/>
            <p:cNvSpPr/>
            <p:nvPr/>
          </p:nvSpPr>
          <p:spPr>
            <a:xfrm flipH="1">
              <a:off x="2286000" y="5562720"/>
              <a:ext cx="190512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013920" y="548640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59" name=""/>
          <p:cNvGraphicFramePr/>
          <p:nvPr/>
        </p:nvGraphicFramePr>
        <p:xfrm>
          <a:off x="426708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160020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sp>
        <p:nvSpPr>
          <p:cNvPr id="261" name=""/>
          <p:cNvSpPr/>
          <p:nvPr/>
        </p:nvSpPr>
        <p:spPr>
          <a:xfrm>
            <a:off x="3222000" y="3232080"/>
            <a:ext cx="28555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JO: Este algoritmo s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ermite un orden par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291040" y="4073400"/>
            <a:ext cx="479988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a orden total se enumeran los 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 se agrega el número de proceso c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actor decim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segura que dos eventos no 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unca simultán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152000" y="1600200"/>
            <a:ext cx="5620320" cy="368280"/>
            <a:chOff x="1152000" y="1600200"/>
            <a:chExt cx="5620320" cy="368280"/>
          </a:xfrm>
        </p:grpSpPr>
        <p:sp>
          <p:nvSpPr>
            <p:cNvPr id="264" name=""/>
            <p:cNvSpPr/>
            <p:nvPr/>
          </p:nvSpPr>
          <p:spPr>
            <a:xfrm>
              <a:off x="1152000" y="1600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870000" y="1600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460560" y="1600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600200" y="1677960"/>
            <a:ext cx="5943600" cy="455400"/>
            <a:chOff x="1600200" y="1677960"/>
            <a:chExt cx="5943600" cy="455400"/>
          </a:xfrm>
        </p:grpSpPr>
        <p:sp>
          <p:nvSpPr>
            <p:cNvPr id="268" name=""/>
            <p:cNvSpPr/>
            <p:nvPr/>
          </p:nvSpPr>
          <p:spPr>
            <a:xfrm>
              <a:off x="160020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60020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60020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6002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2860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26708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26708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26708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26708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5288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85800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85800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85800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8580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5438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mport nos permite concluir que si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, entonces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&lt;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n embargo lo contrario no es cierto, es decir si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&lt;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no nos permite concluir que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 decir que las marcas de tiempos de dos eventos (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,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) no nos permite concluir sobre la rel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ntre ell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sto porque las marcas de tiempo de Lamport no capturan la causalidad de los eve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ara ello se usan los vectores de tiempo, desarrollado por Ricart y Agrawal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da reloj es un arregl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de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elementos siend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el número de procesadores (nodos) del sistem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nicialmente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j]=0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ara t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ando el proces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genera un evento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i]=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i]+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ando en el n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se recibe un mensaje del n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j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 un vector de tiemp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entonc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ara todo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k]=max(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k],t[k])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operación de mezcla) y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i]=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i] +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8" name=""/>
          <p:cNvSpPr/>
          <p:nvPr/>
        </p:nvSpPr>
        <p:spPr>
          <a:xfrm>
            <a:off x="380880" y="213372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80880" y="365760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0880" y="518148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4479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07440" y="5791320"/>
            <a:ext cx="6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(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069560" y="1676520"/>
            <a:ext cx="616680" cy="457200"/>
            <a:chOff x="1069560" y="1676520"/>
            <a:chExt cx="616680" cy="457200"/>
          </a:xfrm>
        </p:grpSpPr>
        <p:sp>
          <p:nvSpPr>
            <p:cNvPr id="294" name=""/>
            <p:cNvSpPr/>
            <p:nvPr/>
          </p:nvSpPr>
          <p:spPr>
            <a:xfrm flipV="1">
              <a:off x="137160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06956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3736440" y="1676520"/>
            <a:ext cx="616680" cy="457200"/>
            <a:chOff x="3736440" y="1676520"/>
            <a:chExt cx="616680" cy="457200"/>
          </a:xfrm>
        </p:grpSpPr>
        <p:sp>
          <p:nvSpPr>
            <p:cNvPr id="297" name=""/>
            <p:cNvSpPr/>
            <p:nvPr/>
          </p:nvSpPr>
          <p:spPr>
            <a:xfrm flipV="1">
              <a:off x="40384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7364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3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4650840" y="1676520"/>
            <a:ext cx="616680" cy="457200"/>
            <a:chOff x="4650840" y="1676520"/>
            <a:chExt cx="616680" cy="457200"/>
          </a:xfrm>
        </p:grpSpPr>
        <p:sp>
          <p:nvSpPr>
            <p:cNvPr id="300" name=""/>
            <p:cNvSpPr/>
            <p:nvPr/>
          </p:nvSpPr>
          <p:spPr>
            <a:xfrm flipV="1">
              <a:off x="49528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508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4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7622640" y="1676520"/>
            <a:ext cx="616680" cy="457200"/>
            <a:chOff x="7622640" y="1676520"/>
            <a:chExt cx="616680" cy="457200"/>
          </a:xfrm>
        </p:grpSpPr>
        <p:sp>
          <p:nvSpPr>
            <p:cNvPr id="303" name=""/>
            <p:cNvSpPr/>
            <p:nvPr/>
          </p:nvSpPr>
          <p:spPr>
            <a:xfrm flipV="1">
              <a:off x="79246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226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6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6327360" y="3200400"/>
            <a:ext cx="616680" cy="457200"/>
            <a:chOff x="6327360" y="3200400"/>
            <a:chExt cx="616680" cy="457200"/>
          </a:xfrm>
        </p:grpSpPr>
        <p:sp>
          <p:nvSpPr>
            <p:cNvPr id="306" name=""/>
            <p:cNvSpPr/>
            <p:nvPr/>
          </p:nvSpPr>
          <p:spPr>
            <a:xfrm flipV="1">
              <a:off x="662940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32736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7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5260680" y="3200400"/>
            <a:ext cx="616680" cy="457200"/>
            <a:chOff x="5260680" y="3200400"/>
            <a:chExt cx="616680" cy="457200"/>
          </a:xfrm>
        </p:grpSpPr>
        <p:sp>
          <p:nvSpPr>
            <p:cNvPr id="309" name=""/>
            <p:cNvSpPr/>
            <p:nvPr/>
          </p:nvSpPr>
          <p:spPr>
            <a:xfrm flipV="1">
              <a:off x="55627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2606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1450440" y="3200400"/>
            <a:ext cx="616680" cy="457200"/>
            <a:chOff x="1450440" y="3200400"/>
            <a:chExt cx="616680" cy="457200"/>
          </a:xfrm>
        </p:grpSpPr>
        <p:sp>
          <p:nvSpPr>
            <p:cNvPr id="312" name=""/>
            <p:cNvSpPr/>
            <p:nvPr/>
          </p:nvSpPr>
          <p:spPr>
            <a:xfrm flipV="1">
              <a:off x="17524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4504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1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88680" y="4724280"/>
            <a:ext cx="616680" cy="457200"/>
            <a:chOff x="688680" y="4724280"/>
            <a:chExt cx="616680" cy="457200"/>
          </a:xfrm>
        </p:grpSpPr>
        <p:sp>
          <p:nvSpPr>
            <p:cNvPr id="315" name=""/>
            <p:cNvSpPr/>
            <p:nvPr/>
          </p:nvSpPr>
          <p:spPr>
            <a:xfrm flipV="1">
              <a:off x="9907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886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431880" y="4724280"/>
            <a:ext cx="616680" cy="457200"/>
            <a:chOff x="3431880" y="4724280"/>
            <a:chExt cx="616680" cy="457200"/>
          </a:xfrm>
        </p:grpSpPr>
        <p:sp>
          <p:nvSpPr>
            <p:cNvPr id="318" name=""/>
            <p:cNvSpPr/>
            <p:nvPr/>
          </p:nvSpPr>
          <p:spPr>
            <a:xfrm flipV="1">
              <a:off x="37339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4318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4041360" y="4724280"/>
            <a:ext cx="616680" cy="457200"/>
            <a:chOff x="4041360" y="4724280"/>
            <a:chExt cx="616680" cy="457200"/>
          </a:xfrm>
        </p:grpSpPr>
        <p:sp>
          <p:nvSpPr>
            <p:cNvPr id="321" name=""/>
            <p:cNvSpPr/>
            <p:nvPr/>
          </p:nvSpPr>
          <p:spPr>
            <a:xfrm flipV="1">
              <a:off x="43434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0413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4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7013160" y="4724280"/>
            <a:ext cx="616680" cy="457200"/>
            <a:chOff x="7013160" y="4724280"/>
            <a:chExt cx="616680" cy="457200"/>
          </a:xfrm>
        </p:grpSpPr>
        <p:sp>
          <p:nvSpPr>
            <p:cNvPr id="324" name=""/>
            <p:cNvSpPr/>
            <p:nvPr/>
          </p:nvSpPr>
          <p:spPr>
            <a:xfrm flipV="1">
              <a:off x="73152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0131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7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2517480" y="1676520"/>
            <a:ext cx="616680" cy="457200"/>
            <a:chOff x="2517480" y="1676520"/>
            <a:chExt cx="616680" cy="457200"/>
          </a:xfrm>
        </p:grpSpPr>
        <p:sp>
          <p:nvSpPr>
            <p:cNvPr id="327" name=""/>
            <p:cNvSpPr/>
            <p:nvPr/>
          </p:nvSpPr>
          <p:spPr>
            <a:xfrm flipV="1">
              <a:off x="281952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51748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5793840" y="4724280"/>
            <a:ext cx="616680" cy="457200"/>
            <a:chOff x="5793840" y="4724280"/>
            <a:chExt cx="616680" cy="457200"/>
          </a:xfrm>
        </p:grpSpPr>
        <p:sp>
          <p:nvSpPr>
            <p:cNvPr id="330" name=""/>
            <p:cNvSpPr/>
            <p:nvPr/>
          </p:nvSpPr>
          <p:spPr>
            <a:xfrm flipV="1">
              <a:off x="609588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79384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3279240" y="3200400"/>
            <a:ext cx="616680" cy="457200"/>
            <a:chOff x="3279240" y="3200400"/>
            <a:chExt cx="616680" cy="457200"/>
          </a:xfrm>
        </p:grpSpPr>
        <p:sp>
          <p:nvSpPr>
            <p:cNvPr id="333" name=""/>
            <p:cNvSpPr/>
            <p:nvPr/>
          </p:nvSpPr>
          <p:spPr>
            <a:xfrm flipV="1">
              <a:off x="35812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2792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3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6098760" y="1676520"/>
            <a:ext cx="616680" cy="457200"/>
            <a:chOff x="6098760" y="1676520"/>
            <a:chExt cx="616680" cy="457200"/>
          </a:xfrm>
        </p:grpSpPr>
        <p:sp>
          <p:nvSpPr>
            <p:cNvPr id="336" name=""/>
            <p:cNvSpPr/>
            <p:nvPr/>
          </p:nvSpPr>
          <p:spPr>
            <a:xfrm flipV="1">
              <a:off x="640080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09876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5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3889080" y="3200400"/>
            <a:ext cx="616680" cy="457200"/>
            <a:chOff x="3889080" y="3200400"/>
            <a:chExt cx="616680" cy="457200"/>
          </a:xfrm>
        </p:grpSpPr>
        <p:sp>
          <p:nvSpPr>
            <p:cNvPr id="339" name=""/>
            <p:cNvSpPr/>
            <p:nvPr/>
          </p:nvSpPr>
          <p:spPr>
            <a:xfrm flipV="1">
              <a:off x="41911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8890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4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1831680" y="4724280"/>
            <a:ext cx="616680" cy="457200"/>
            <a:chOff x="1831680" y="4724280"/>
            <a:chExt cx="616680" cy="457200"/>
          </a:xfrm>
        </p:grpSpPr>
        <p:sp>
          <p:nvSpPr>
            <p:cNvPr id="342" name=""/>
            <p:cNvSpPr/>
            <p:nvPr/>
          </p:nvSpPr>
          <p:spPr>
            <a:xfrm flipV="1">
              <a:off x="21337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8316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2819520" y="2133720"/>
            <a:ext cx="76176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2133720" y="3657240"/>
            <a:ext cx="20574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5562720" y="2133360"/>
            <a:ext cx="8380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6095880" y="3657240"/>
            <a:ext cx="5335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7775280" y="3200400"/>
            <a:ext cx="616680" cy="457200"/>
            <a:chOff x="7775280" y="3200400"/>
            <a:chExt cx="616680" cy="457200"/>
          </a:xfrm>
        </p:grpSpPr>
        <p:sp>
          <p:nvSpPr>
            <p:cNvPr id="349" name=""/>
            <p:cNvSpPr/>
            <p:nvPr/>
          </p:nvSpPr>
          <p:spPr>
            <a:xfrm flipV="1">
              <a:off x="80773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7752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8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5184360" y="4724280"/>
            <a:ext cx="616680" cy="457200"/>
            <a:chOff x="5184360" y="4724280"/>
            <a:chExt cx="616680" cy="457200"/>
          </a:xfrm>
        </p:grpSpPr>
        <p:sp>
          <p:nvSpPr>
            <p:cNvPr id="352" name=""/>
            <p:cNvSpPr/>
            <p:nvPr/>
          </p:nvSpPr>
          <p:spPr>
            <a:xfrm flipV="1">
              <a:off x="54864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1843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5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4650840" y="3200400"/>
            <a:ext cx="616680" cy="457200"/>
            <a:chOff x="4650840" y="3200400"/>
            <a:chExt cx="616680" cy="457200"/>
          </a:xfrm>
        </p:grpSpPr>
        <p:sp>
          <p:nvSpPr>
            <p:cNvPr id="355" name=""/>
            <p:cNvSpPr/>
            <p:nvPr/>
          </p:nvSpPr>
          <p:spPr>
            <a:xfrm flipV="1">
              <a:off x="49528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6508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5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2593440" y="3200400"/>
            <a:ext cx="616680" cy="457200"/>
            <a:chOff x="2593440" y="3200400"/>
            <a:chExt cx="616680" cy="457200"/>
          </a:xfrm>
        </p:grpSpPr>
        <p:sp>
          <p:nvSpPr>
            <p:cNvPr id="358" name=""/>
            <p:cNvSpPr/>
            <p:nvPr/>
          </p:nvSpPr>
          <p:spPr>
            <a:xfrm flipV="1">
              <a:off x="28954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5934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2895480" y="3657600"/>
            <a:ext cx="14479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55720" y="16765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521160" y="16765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437720" y="16765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398000" y="167652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240200" y="3200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479120" y="320040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557840" y="3200400"/>
            <a:ext cx="3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69440" y="472428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283920" y="4724280"/>
            <a:ext cx="25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075640" y="4724280"/>
            <a:ext cx="24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807600" y="472428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514600" y="58672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cc00"/>
                </a:solidFill>
                <a:latin typeface="Arial Black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||</a:t>
            </a:r>
            <a:r>
              <a:rPr b="0" lang="es-ES_tradnl" sz="1800" spc="-1" strike="noStrike">
                <a:solidFill>
                  <a:srgbClr val="ffcc00"/>
                </a:solidFill>
                <a:latin typeface="Arial Black"/>
              </a:rPr>
              <a:t>J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 (300)&lt;(025) </a:t>
            </a: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AND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 (300)&gt;(0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2438280" y="5334120"/>
            <a:ext cx="5105520" cy="990360"/>
            <a:chOff x="2438280" y="5334120"/>
            <a:chExt cx="5105520" cy="990360"/>
          </a:xfrm>
        </p:grpSpPr>
        <p:sp>
          <p:nvSpPr>
            <p:cNvPr id="374" name=""/>
            <p:cNvSpPr/>
            <p:nvPr/>
          </p:nvSpPr>
          <p:spPr>
            <a:xfrm>
              <a:off x="2590920" y="533412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cc00"/>
                  </a:solidFill>
                  <a:latin typeface="Arial Black"/>
                </a:rPr>
                <a:t>A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s-ES_tradnl" sz="1800" spc="-1" strike="noStrike">
                  <a:solidFill>
                    <a:srgbClr val="ffcc00"/>
                  </a:solidFill>
                  <a:latin typeface="Arial Black"/>
                </a:rPr>
                <a:t>F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 Black"/>
                </a:rPr>
                <a:t> (100)&lt;(25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581280" y="594360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791320" y="594360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38280" y="5410080"/>
              <a:ext cx="510552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500280" y="3630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tado Glob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ara muchos sistemas es relevante poder detectar un estado glob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 decir, un momento del reloj l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gico en que el sistema está en un estado “consistente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alizar una recolec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de basu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tectar termin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tectar DeadLo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cuperación de fal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obtiene haciendo una captura (snapshot) consistente del siste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tado Glob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2" name=""/>
          <p:cNvSpPr/>
          <p:nvPr/>
        </p:nvSpPr>
        <p:spPr>
          <a:xfrm>
            <a:off x="83808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7536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98108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81836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27672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11364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198960" y="297036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198960" y="54864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198960" y="63244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905120" y="38098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905120" y="350532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905120" y="48006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905120" y="419112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2120" y="32004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62120" y="52578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2120" y="56386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1980720" y="3048120"/>
            <a:ext cx="12956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838080" y="32767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981080" y="4876920"/>
            <a:ext cx="12956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837720" y="4267080"/>
            <a:ext cx="11430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38080" y="5715000"/>
            <a:ext cx="24386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3" name=""/>
          <p:cNvCxnSpPr/>
          <p:nvPr/>
        </p:nvCxnSpPr>
        <p:spPr>
          <a:xfrm>
            <a:off x="533160" y="4114800"/>
            <a:ext cx="3277080" cy="1829520"/>
          </a:xfrm>
          <a:prstGeom prst="curvedConnector5">
            <a:avLst>
              <a:gd name="adj1" fmla="val 55086"/>
              <a:gd name="adj2" fmla="val 49990"/>
              <a:gd name="adj3" fmla="val 55086"/>
            </a:avLst>
          </a:prstGeom>
          <a:ln w="38160">
            <a:solidFill>
              <a:srgbClr val="ff0000"/>
            </a:solidFill>
            <a:prstDash val="dash"/>
            <a:miter/>
          </a:ln>
        </p:spPr>
      </p:cxnSp>
      <p:sp>
        <p:nvSpPr>
          <p:cNvPr id="404" name=""/>
          <p:cNvSpPr/>
          <p:nvPr/>
        </p:nvSpPr>
        <p:spPr>
          <a:xfrm>
            <a:off x="2238480" y="4932360"/>
            <a:ext cx="228600" cy="3049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428560" y="293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49120" y="320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96840" y="45720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749320" y="495288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454040" y="556272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657600" y="3962520"/>
            <a:ext cx="1828800" cy="1218960"/>
          </a:xfrm>
          <a:prstGeom prst="wedgeRectCallout">
            <a:avLst>
              <a:gd name="adj1" fmla="val -66842"/>
              <a:gd name="adj2" fmla="val 8020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 Narrow"/>
              </a:rPr>
              <a:t>No se puede determinar la causalidad de m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73084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56812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87384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71112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816912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800640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091360" y="297036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091360" y="54864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8091360" y="63244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797520" y="38098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797520" y="350532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797520" y="48006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797520" y="419112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654520" y="32004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654520" y="52578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654520" y="56386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6873840" y="3048120"/>
            <a:ext cx="12952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32767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873840" y="4876920"/>
            <a:ext cx="1295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5730480" y="4267080"/>
            <a:ext cx="11430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730840" y="5715000"/>
            <a:ext cx="2438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2" name=""/>
          <p:cNvCxnSpPr/>
          <p:nvPr/>
        </p:nvCxnSpPr>
        <p:spPr>
          <a:xfrm>
            <a:off x="5486400" y="4114800"/>
            <a:ext cx="3277440" cy="1829520"/>
          </a:xfrm>
          <a:prstGeom prst="curvedConnector5">
            <a:avLst>
              <a:gd name="adj1" fmla="val 39042"/>
              <a:gd name="adj2" fmla="val 49990"/>
              <a:gd name="adj3" fmla="val 39042"/>
            </a:avLst>
          </a:prstGeom>
          <a:ln w="38160">
            <a:solidFill>
              <a:srgbClr val="ff0000"/>
            </a:solidFill>
            <a:prstDash val="dash"/>
            <a:miter/>
          </a:ln>
        </p:spPr>
      </p:cxnSp>
      <p:sp>
        <p:nvSpPr>
          <p:cNvPr id="433" name=""/>
          <p:cNvSpPr/>
          <p:nvPr/>
        </p:nvSpPr>
        <p:spPr>
          <a:xfrm>
            <a:off x="7321320" y="293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041880" y="320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889240" y="45720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7642080" y="495288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346440" y="556272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38560" y="1828800"/>
            <a:ext cx="31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 Narrow"/>
              </a:rPr>
              <a:t>Captura no consist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567400" y="182880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 Narrow"/>
              </a:rPr>
              <a:t>Captura consist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muchos casos es necesario elegir un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ico nodo para una tarea determin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umplir el rol de coordinad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goritmo del mat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da proceso tiene un ID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lg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 proceso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nvía mensaje de ELECCIÓN a procesos con ID may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un proceso recibe ELEC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entonces responde OK e inicia ele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ninguno responde: Se hace nuevo coordinador y mensajes COORDINADOR a procesadores con ID men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alguno responde con mensaje OK abandona la ele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444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2971800" y="2742840"/>
            <a:ext cx="3505320" cy="3048480"/>
            <a:chOff x="2971800" y="2742840"/>
            <a:chExt cx="3505320" cy="3048480"/>
          </a:xfrm>
        </p:grpSpPr>
        <p:sp>
          <p:nvSpPr>
            <p:cNvPr id="455" name=""/>
            <p:cNvSpPr/>
            <p:nvPr/>
          </p:nvSpPr>
          <p:spPr>
            <a:xfrm>
              <a:off x="2971800" y="4267080"/>
              <a:ext cx="160020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048120" y="4038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2971800" y="2742840"/>
              <a:ext cx="29718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780360" y="473868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471200" y="367200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170880" y="304812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463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2971440" y="2743200"/>
            <a:ext cx="3581640" cy="1314360"/>
            <a:chOff x="2971440" y="2743200"/>
            <a:chExt cx="3581640" cy="1314360"/>
          </a:xfrm>
        </p:grpSpPr>
        <p:sp>
          <p:nvSpPr>
            <p:cNvPr id="474" name=""/>
            <p:cNvSpPr/>
            <p:nvPr/>
          </p:nvSpPr>
          <p:spPr>
            <a:xfrm flipH="1">
              <a:off x="2971800" y="4038480"/>
              <a:ext cx="358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2971440" y="2743200"/>
              <a:ext cx="29718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490640" y="368928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201560" y="297180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4466160" y="2819520"/>
            <a:ext cx="3254760" cy="2971800"/>
            <a:chOff x="4466160" y="2819520"/>
            <a:chExt cx="3254760" cy="2971800"/>
          </a:xfrm>
        </p:grpSpPr>
        <p:sp>
          <p:nvSpPr>
            <p:cNvPr id="479" name=""/>
            <p:cNvSpPr/>
            <p:nvPr/>
          </p:nvSpPr>
          <p:spPr>
            <a:xfrm flipH="1">
              <a:off x="4800600" y="2819520"/>
              <a:ext cx="129528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248520" y="2819520"/>
              <a:ext cx="38088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4876920" y="4267080"/>
              <a:ext cx="175248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447600" y="300348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466160" y="329076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223680" y="458640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58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487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"/>
          <p:cNvSpPr/>
          <p:nvPr/>
        </p:nvSpPr>
        <p:spPr>
          <a:xfrm flipH="1" flipV="1">
            <a:off x="6248520" y="2819160"/>
            <a:ext cx="4572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954400" y="313848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3047760" y="2285640"/>
            <a:ext cx="5051880" cy="2972160"/>
            <a:chOff x="3047760" y="2285640"/>
            <a:chExt cx="5051880" cy="2972160"/>
          </a:xfrm>
        </p:grpSpPr>
        <p:sp>
          <p:nvSpPr>
            <p:cNvPr id="500" name=""/>
            <p:cNvSpPr/>
            <p:nvPr/>
          </p:nvSpPr>
          <p:spPr>
            <a:xfrm flipH="1" flipV="1">
              <a:off x="4876920" y="2285640"/>
              <a:ext cx="167616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 flipV="1">
              <a:off x="3428640" y="2819160"/>
              <a:ext cx="30481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6400440" y="4267080"/>
              <a:ext cx="3049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3580920" y="4191120"/>
              <a:ext cx="29718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 flipV="1">
              <a:off x="3047760" y="4038480"/>
              <a:ext cx="34290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863520" y="251460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177720" y="374796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08000" y="457200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222600" y="457200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222600" y="304812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482640" y="312408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Round-Robi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513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"/>
          <p:cNvSpPr/>
          <p:nvPr/>
        </p:nvSpPr>
        <p:spPr>
          <a:xfrm flipV="1">
            <a:off x="3419640" y="206028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932360" y="2060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300720" y="2781360"/>
            <a:ext cx="432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6372000" y="4292640"/>
            <a:ext cx="360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4932000" y="5516640"/>
            <a:ext cx="1079640" cy="433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H="1" flipV="1">
            <a:off x="3492000" y="5516640"/>
            <a:ext cx="1008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H="1" flipV="1">
            <a:off x="2771640" y="4292640"/>
            <a:ext cx="432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2700360" y="2852640"/>
            <a:ext cx="3589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flipH="1">
            <a:off x="3564000" y="53737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995640" y="508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619280" y="47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547640" y="3141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419640" y="24210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219640" y="184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443640" y="29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516720" y="4508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Round-Robi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541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"/>
          <p:cNvSpPr/>
          <p:nvPr/>
        </p:nvSpPr>
        <p:spPr>
          <a:xfrm flipV="1">
            <a:off x="3419640" y="206028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932360" y="2060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300720" y="2781360"/>
            <a:ext cx="432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6372000" y="4292640"/>
            <a:ext cx="360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32000" y="5516640"/>
            <a:ext cx="1079640" cy="433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H="1" flipV="1">
            <a:off x="3492000" y="5516640"/>
            <a:ext cx="1008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H="1" flipV="1">
            <a:off x="2771640" y="4292640"/>
            <a:ext cx="432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2700360" y="2852640"/>
            <a:ext cx="3589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3564000" y="53737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995640" y="508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619280" y="47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547640" y="3141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419640" y="24210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219640" y="184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443640" y="29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Round-Robi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568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"/>
          <p:cNvSpPr/>
          <p:nvPr/>
        </p:nvSpPr>
        <p:spPr>
          <a:xfrm flipV="1">
            <a:off x="3419640" y="206028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932360" y="2060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300720" y="2781360"/>
            <a:ext cx="432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6372000" y="4292640"/>
            <a:ext cx="360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4932000" y="5516640"/>
            <a:ext cx="1079640" cy="433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H="1" flipV="1">
            <a:off x="3492000" y="5516640"/>
            <a:ext cx="1008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 flipV="1">
            <a:off x="2771640" y="4292640"/>
            <a:ext cx="432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2700360" y="2852640"/>
            <a:ext cx="3589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564000" y="53737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588000" y="4437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995640" y="501336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258920" y="4653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971640" y="3068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340000" y="1916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219640" y="19162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443640" y="3141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os recursos compartidos muchas veces deben ser accedidos “at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micamente”, es decir solo un proceso a la vez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 esto se le menciona como entrar a la región críti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a garantizar ese acceso único se usan algoritmos de exclusión mutu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demás debe garantizar que todo proceso que pida acceso, eventualmente lo obtiene (Livenes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Centraliza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escoge un nodo como coordin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>
            <a:off x="41148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7150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114800" y="51055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5146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2" name=""/>
          <p:cNvGraphicFramePr/>
          <p:nvPr/>
        </p:nvGraphicFramePr>
        <p:xfrm>
          <a:off x="4724280" y="5334120"/>
          <a:ext cx="380880" cy="1366560"/>
        </p:xfrm>
        <a:graphic>
          <a:graphicData uri="http://schemas.openxmlformats.org/drawingml/2006/table">
            <a:tbl>
              <a:tblPr/>
              <a:tblGrid>
                <a:gridCol w="380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03" name=""/>
          <p:cNvGrpSpPr/>
          <p:nvPr/>
        </p:nvGrpSpPr>
        <p:grpSpPr>
          <a:xfrm>
            <a:off x="3315240" y="3505320"/>
            <a:ext cx="927360" cy="1523880"/>
            <a:chOff x="3315240" y="3505320"/>
            <a:chExt cx="927360" cy="1523880"/>
          </a:xfrm>
        </p:grpSpPr>
        <p:sp>
          <p:nvSpPr>
            <p:cNvPr id="604" name=""/>
            <p:cNvSpPr/>
            <p:nvPr/>
          </p:nvSpPr>
          <p:spPr>
            <a:xfrm>
              <a:off x="4191120" y="3505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315240" y="4038480"/>
              <a:ext cx="9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olici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4441320" y="3504960"/>
            <a:ext cx="500760" cy="1600200"/>
            <a:chOff x="4441320" y="3504960"/>
            <a:chExt cx="500760" cy="1600200"/>
          </a:xfrm>
        </p:grpSpPr>
        <p:sp>
          <p:nvSpPr>
            <p:cNvPr id="607" name=""/>
            <p:cNvSpPr/>
            <p:nvPr/>
          </p:nvSpPr>
          <p:spPr>
            <a:xfrm flipV="1">
              <a:off x="4495680" y="350496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441320" y="411480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4495320" y="3505320"/>
            <a:ext cx="1774800" cy="1600200"/>
            <a:chOff x="4495320" y="3505320"/>
            <a:chExt cx="1774800" cy="1600200"/>
          </a:xfrm>
        </p:grpSpPr>
        <p:sp>
          <p:nvSpPr>
            <p:cNvPr id="610" name=""/>
            <p:cNvSpPr/>
            <p:nvPr/>
          </p:nvSpPr>
          <p:spPr>
            <a:xfrm flipH="1">
              <a:off x="4495320" y="3505320"/>
              <a:ext cx="12193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42760" y="3994200"/>
              <a:ext cx="9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olici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4296600" y="3581280"/>
            <a:ext cx="792000" cy="1524240"/>
            <a:chOff x="4296600" y="3581280"/>
            <a:chExt cx="792000" cy="1524240"/>
          </a:xfrm>
        </p:grpSpPr>
        <p:sp>
          <p:nvSpPr>
            <p:cNvPr id="613" name=""/>
            <p:cNvSpPr/>
            <p:nvPr/>
          </p:nvSpPr>
          <p:spPr>
            <a:xfrm>
              <a:off x="4343400" y="35812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296600" y="38862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libe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4572000" y="3580920"/>
            <a:ext cx="1219320" cy="1600200"/>
            <a:chOff x="4572000" y="3580920"/>
            <a:chExt cx="1219320" cy="1600200"/>
          </a:xfrm>
        </p:grpSpPr>
        <p:sp>
          <p:nvSpPr>
            <p:cNvPr id="616" name=""/>
            <p:cNvSpPr/>
            <p:nvPr/>
          </p:nvSpPr>
          <p:spPr>
            <a:xfrm flipV="1">
              <a:off x="4572000" y="3580920"/>
              <a:ext cx="12193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051160" y="435780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18" name=""/>
          <p:cNvGraphicFramePr/>
          <p:nvPr/>
        </p:nvGraphicFramePr>
        <p:xfrm>
          <a:off x="4724280" y="5334120"/>
          <a:ext cx="380880" cy="1366560"/>
        </p:xfrm>
        <a:graphic>
          <a:graphicData uri="http://schemas.openxmlformats.org/drawingml/2006/table">
            <a:tbl>
              <a:tblPr/>
              <a:tblGrid>
                <a:gridCol w="380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Distribui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oken-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distribuyen los elementos en un anillo lógic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circula un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ke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que permite el acceso a la región critic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l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ke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se libera al abandonar la reg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cumple la propiedad de orden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"/>
          <p:cNvSpPr/>
          <p:nvPr/>
        </p:nvSpPr>
        <p:spPr>
          <a:xfrm>
            <a:off x="3252960" y="4232160"/>
            <a:ext cx="3200400" cy="22100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51080" y="513864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3335400" y="57499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78280" y="617688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506840" y="635148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5153040" y="63165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695920" y="61246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6114960" y="5802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324480" y="52164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6140520" y="470052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738760" y="43419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205240" y="41673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664160" y="41148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121280" y="42195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684600" y="44118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176640" y="4613400"/>
            <a:ext cx="152280" cy="152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796120" y="4156200"/>
            <a:ext cx="7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to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flipH="1">
            <a:off x="3176640" y="476568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Distribui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ando Rel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jes Lóg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n proceso que quiere entrar en sección crítica (SC) envía mensaje de solicitud a todos los proces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uando un proceso recibe un mensaje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no está en SC ni quiere entrar envía OK al emis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ya está en SC no responde y encola el pedi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desea entrar, mira marca de tiempo del mensaj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Si menor que marca tiempo de su mensaje de solicitud: envía OK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n caso contrario será él quien entre y encole el pedido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uando un proceso recibe todos (N-1) los mensajes puede entra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rantiza todas las propiedades incluida orden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clusión mutu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jemplo: dos procesos, 0 y 2, quieren entrar en la región crítica a la vez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"/>
          <p:cNvSpPr/>
          <p:nvPr/>
        </p:nvSpPr>
        <p:spPr>
          <a:xfrm>
            <a:off x="977760" y="367020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025640" y="363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53880" y="486252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01760" y="4822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947960" y="48639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995480" y="4824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H="1">
            <a:off x="652320" y="4070520"/>
            <a:ext cx="400320" cy="801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867960" y="5062680"/>
            <a:ext cx="1050840" cy="25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H="1" flipV="1">
            <a:off x="1433520" y="4000680"/>
            <a:ext cx="750960" cy="8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346040" y="4141800"/>
            <a:ext cx="665280" cy="738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18760" y="4213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299600" y="4352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865880" y="4130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205640" y="50864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824280" y="367200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872160" y="3632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200400" y="48639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3248280" y="4824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794120" y="48657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842000" y="4826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3535200" y="4059000"/>
            <a:ext cx="378000" cy="78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651120" y="5087880"/>
            <a:ext cx="1101960" cy="15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flipH="1" flipV="1">
            <a:off x="4279680" y="4002120"/>
            <a:ext cx="750600" cy="8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278160" y="41403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970080" y="507060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560840" y="40971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308760" y="3336840"/>
            <a:ext cx="167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Entra en R.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946920" y="368604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994800" y="3646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323040" y="48783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6370920" y="4838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7916760" y="4879800"/>
            <a:ext cx="438120" cy="438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7964640" y="484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7377120" y="4091040"/>
            <a:ext cx="627120" cy="763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7683480" y="41115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7282080" y="5280120"/>
            <a:ext cx="167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Entra en R.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Comparaci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680" name=""/>
          <p:cNvGraphicFramePr/>
          <p:nvPr/>
        </p:nvGraphicFramePr>
        <p:xfrm>
          <a:off x="533520" y="1905120"/>
          <a:ext cx="8229600" cy="4599000"/>
        </p:xfrm>
        <a:graphic>
          <a:graphicData uri="http://schemas.openxmlformats.org/drawingml/2006/table">
            <a:tbl>
              <a:tblPr/>
              <a:tblGrid>
                <a:gridCol w="2361960"/>
                <a:gridCol w="1752840"/>
                <a:gridCol w="2057400"/>
                <a:gridCol w="2057400"/>
              </a:tblGrid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gorit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nsaj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pera en mensaj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blem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ntraliz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da de coordinad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ken-R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a 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 a n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da de un proce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ojes L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óg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(n-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(n-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érdida del token, caída de un proce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en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 concurrencia exige sincroniz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ntre proces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 tiempo en un esquema distribuido es ambigu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es un valor absoluto, preciso ni com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 a todos lo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goritmos distribui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informa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stá distribuida en diferente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toman decisiones sólo en base a la información loc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ebe evitarse un punto único de fall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existe un reloj comú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Tolerancia a Fall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Redundanc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Canal de comunicación con pérdida: Generales Descoordina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Nodos con fallas: Generales Bizantin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Redunda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a técnica más usada para enmascarar las fallas es la Redundanc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y tres tipo de redundancia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 información: se agrega información adicional para detectar fallas (código de Hamming, bits de parridad, etc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 tiempo: una acción se puede repetir si es necesario (modelo de transaccion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ísica: se adicionan equipos o procesos extras para sustituirlo por el componente que fal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Redundancia (cont.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a redundancia física es la más usada para proveer tolerancia a fallas: en biología, aviones, deportes y circuitos electrón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l modelo de circuitos electrónicos TMR (Triple Modular Redundancy) es un buen modelo para los sistemas distribui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"/>
          <p:cNvSpPr/>
          <p:nvPr/>
        </p:nvSpPr>
        <p:spPr>
          <a:xfrm>
            <a:off x="4896000" y="3760920"/>
            <a:ext cx="4762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516720" y="3760920"/>
            <a:ext cx="4762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8136000" y="3760920"/>
            <a:ext cx="4762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391000" y="4008600"/>
            <a:ext cx="1162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7010280" y="4008600"/>
            <a:ext cx="1162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03280" y="4408560"/>
            <a:ext cx="612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539640" y="5165640"/>
            <a:ext cx="5335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539640" y="5921280"/>
            <a:ext cx="5335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348000" y="4444920"/>
            <a:ext cx="4240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313080" y="520056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313080" y="595800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6373800" y="444492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6373800" y="523728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373800" y="599292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943280" y="440064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1943280" y="440064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flipV="1">
            <a:off x="1943280" y="460656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943280" y="522936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943280" y="5229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 flipV="1">
            <a:off x="1943280" y="5435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943280" y="602136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943280" y="6021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1943280" y="6227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1936800" y="444024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936800" y="5268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2009880" y="6060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4896000" y="440064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896000" y="440064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4896000" y="460656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896000" y="522936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896000" y="5229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4896000" y="5435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896000" y="602136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896000" y="6021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4896000" y="6227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4889520" y="444024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889520" y="5268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4889520" y="6060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7883640" y="440064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7883640" y="440064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7883640" y="460656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7883640" y="522936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7883640" y="5229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7883640" y="5435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7883640" y="602136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7883640" y="6021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7883640" y="6227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7877160" y="444024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7877160" y="5268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7877160" y="6060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1085760" y="4633920"/>
            <a:ext cx="838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085760" y="5424480"/>
            <a:ext cx="838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1085760" y="6181560"/>
            <a:ext cx="838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2346480" y="4625640"/>
            <a:ext cx="1046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2346480" y="5427720"/>
            <a:ext cx="93312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2346480" y="6205320"/>
            <a:ext cx="968400" cy="1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3786120" y="4625640"/>
            <a:ext cx="1046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3786120" y="5416200"/>
            <a:ext cx="1046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3749760" y="6208200"/>
            <a:ext cx="1046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5297400" y="4625640"/>
            <a:ext cx="1046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5297400" y="5416200"/>
            <a:ext cx="1046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5297400" y="6244920"/>
            <a:ext cx="1046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6846840" y="4625640"/>
            <a:ext cx="1046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 flipV="1">
            <a:off x="6773760" y="5416200"/>
            <a:ext cx="1046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6773760" y="6244920"/>
            <a:ext cx="1046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8286840" y="4627440"/>
            <a:ext cx="457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8286840" y="541980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8286840" y="621036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085760" y="4629240"/>
            <a:ext cx="87624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2382840" y="4629240"/>
            <a:ext cx="87624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790800" y="4648320"/>
            <a:ext cx="1105200" cy="79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5276880" y="4610160"/>
            <a:ext cx="1066680" cy="81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6819840" y="4648320"/>
            <a:ext cx="1047960" cy="78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085760" y="4629240"/>
            <a:ext cx="87624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085760" y="5384880"/>
            <a:ext cx="87624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2346480" y="5421240"/>
            <a:ext cx="968400" cy="77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753000" y="5429160"/>
            <a:ext cx="1104840" cy="80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265720" y="5429160"/>
            <a:ext cx="1104840" cy="80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6800760" y="5448240"/>
            <a:ext cx="1044720" cy="78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085760" y="4629240"/>
            <a:ext cx="895320" cy="156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1085760" y="4626000"/>
            <a:ext cx="876240" cy="768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1047600" y="5387760"/>
            <a:ext cx="876600" cy="78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1104840" y="4587480"/>
            <a:ext cx="857160" cy="156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2343240" y="4648320"/>
            <a:ext cx="100944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2324160" y="4606560"/>
            <a:ext cx="1047600" cy="82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2305080" y="5387760"/>
            <a:ext cx="990720" cy="78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 flipV="1">
            <a:off x="2305080" y="4663800"/>
            <a:ext cx="1047600" cy="158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772080" y="4648320"/>
            <a:ext cx="114300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 flipV="1">
            <a:off x="3790800" y="4587840"/>
            <a:ext cx="1124280" cy="80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 flipV="1">
            <a:off x="3753000" y="5425920"/>
            <a:ext cx="1123920" cy="74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 flipV="1">
            <a:off x="3733920" y="4587480"/>
            <a:ext cx="1199880" cy="164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5276880" y="4629240"/>
            <a:ext cx="1066680" cy="165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5276880" y="4606560"/>
            <a:ext cx="1143000" cy="82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5295960" y="5407200"/>
            <a:ext cx="1066680" cy="80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5295960" y="4645080"/>
            <a:ext cx="1104840" cy="158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6781680" y="4591080"/>
            <a:ext cx="1123920" cy="165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6781680" y="4606560"/>
            <a:ext cx="1181160" cy="82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6819840" y="5425560"/>
            <a:ext cx="1067040" cy="82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6800760" y="4587480"/>
            <a:ext cx="1104840" cy="166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municación en gru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7600" y="1599840"/>
            <a:ext cx="8466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comunicación es entre un grupo de proces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ando un emisor envía, el mensaje lo reciben todos los miembros de un gru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s grupos se entienden como dinámicos, se pueden crear y destruir grupos. Un proceso puede ser miembro de varios grupos, se puede unir a uno y dejar ot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gunas redes permiten diferentes tipos de broadcasting, lo que facilita la implementación de comunicación en gru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spectos de diseño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s grupos pueden se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iertos: no-miembros pueden enviar al grup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errados: solo los miembros pueden enviar al grup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s miembros del grupo pueden ser iguales ( peer) , o bien existe un miembro coordinador o líd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 existir, los envíos se hacen al coordinador, que decide a qué miembro reenvi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mbresía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e requiere cierto método para la creación y eliminación de grupos, así como permitir a los procesos que se unen o dejen grupos ( mecanismo distribuido vs.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ervidor de grup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spectos de diseño: Membresí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 miembro crash -&gt; deja de pertenecer al grupo. Los demás miembros deben descubrir en forma experimental que ya no pertenece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salida o entrada a un grupo debe sincronizarse con el envió de mensajes ( Ex. Cuando se une al grupo debe RX todos los mensajes, como solucionar : cuando se une enviar un mensaje a todos , Hola!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hay muchos procesos que fallan y el grupo no funciona. Se necesita protocolo de reconstrucción del grupo . Algún proceso toma la iniciativa , que pasa si mas de uno lo hace 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spectos de diseño (cont.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Direccionamiento al grupo: 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como especifico un </a:t>
            </a:r>
            <a:r>
              <a:rPr b="0" i="1" lang="es-ES" sz="28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para que un </a:t>
            </a:r>
            <a:r>
              <a:rPr b="0" i="1" lang="es-ES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le envie un mensaje 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Atomicidad: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cuando se envía un mensaje a un grupo, llega a todos los miembros o no llega a ninguno ( propiedad all-or-nothing 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La atomicidad es una propiedad deseable ( facilita la programación de los Sistemas Distribuidos 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tomicidad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¿cómo asegurar la atomicidad o TX atómica ( atomacity or Atomic Broadcast )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única forma de garantizar que cada miembro reciba el mensaje es pedirle que devuelva un reconocimiento al recibirl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o ¿y si aun así falla algún host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a solución [Birman89]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 emisor envía un mensaje a todos los miembros. Se setean timers y se reenvía el mensaje en los casos neces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ando un miembro recibe el mensaje, si lo ha RX ya lo descarta. Si no, lo envía a todos los miembros del grupo (usando también Timers y retransmisiones, RTX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importa las fallas de red o procesos , En un cierto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dos los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Pi activo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endrán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rdenamiento de Mensaj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ra propiedad deseable es la del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rdenamiento de mensaj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ongamos 5 miembros. Los miembro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0,P1,P3 y P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ertenecen a un mismo gru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 forma simultanea, los miembro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y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esean enviar un mensaje 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al grupo. Podrían enviarlos en este ord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8" name=""/>
          <p:cNvSpPr/>
          <p:nvPr/>
        </p:nvSpPr>
        <p:spPr>
          <a:xfrm>
            <a:off x="161928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262728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356400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457200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58000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195640" y="530064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1908000" y="4653000"/>
            <a:ext cx="3959280" cy="4316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 rot="10800000">
            <a:off x="2916000" y="5589360"/>
            <a:ext cx="2950920" cy="4316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5148000" y="530064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 rot="10800000">
            <a:off x="1908000" y="5589360"/>
            <a:ext cx="2951280" cy="4316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 rot="10800000">
            <a:off x="1908000" y="5589720"/>
            <a:ext cx="3959280" cy="9014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2249280" y="4962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3709800" y="43639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4286160" y="5948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5221080" y="5013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3421080" y="5948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3840120" y="6491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rdenamiento de Mensajes (cont.1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¿cómo reciben los mensajes los miembros 1 y 3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miembro 1 recibe los mensajes en este ord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miembro 3 recibe los mensajes en este ord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o se cumple el ordenamiento de mensajes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 P0 y P4 intentan actualizar el mismo  item  los miembros 1 y 3 terminan con distintos valores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Problemas de 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a considera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iempo y estados global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clusión mutu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s de elecció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roblemas de coordin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Operaciones atómicas distribuidas: Transacc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rdenamiento de Mensajes (cont.2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 debe tener una semántica bien definida con respecto al orden de entrega de los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M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“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La mejor garantía es la entrega inmediata de todos los Mi en orden en que fueron enviados “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se  patrón de envió , Ordenamiento con respecto al tiempo Global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  (Global Time Ordering 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l ordenamiento no es siempre fácil de implement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iempo Absoluto …. , variantes moderadas 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Ordenamiento Consistente (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Consistent Time Ordering 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i Ma y Mb llegan cercanos en t el sistema elige a uno como el Primero , si no lo era , nadie lo sabe .. El comportamiento no debería depender de el …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e garantiza que llegan en el mismo orden a todo el G, pero podría no ser con el que fueron enviados “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 han usado otro ordenamientos mas débil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rtual synchrony (ISI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9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999900"/>
                </a:solidFill>
                <a:latin typeface="Garamond"/>
              </a:rPr>
              <a:t>Grupos Solapados  ( Overlapping Group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nque se cumpla el ordenamiento de mensajes hay situaciones problemátic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ongamos dos grupos solapados ( G1 y G2). A y D quieren enviar a la vez un mensaje a sus compañeros de grup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1" name=""/>
          <p:cNvSpPr/>
          <p:nvPr/>
        </p:nvSpPr>
        <p:spPr>
          <a:xfrm>
            <a:off x="1577880" y="4859280"/>
            <a:ext cx="540000" cy="53964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2846520" y="4348080"/>
            <a:ext cx="539640" cy="54000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836800" y="5289480"/>
            <a:ext cx="539640" cy="54000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4083120" y="4863960"/>
            <a:ext cx="539640" cy="54000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1390680" y="3657600"/>
            <a:ext cx="2292480" cy="2868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2533680" y="3697200"/>
            <a:ext cx="2292480" cy="2868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2041560" y="4671720"/>
            <a:ext cx="789120" cy="23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2106720" y="5200560"/>
            <a:ext cx="714240" cy="27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 flipH="1">
            <a:off x="3423960" y="5241960"/>
            <a:ext cx="649080" cy="28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 flipH="1" flipV="1">
            <a:off x="3402000" y="4721040"/>
            <a:ext cx="698400" cy="23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2262240" y="437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214360" y="4443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3657600" y="450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3686040" y="5349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2160360" y="5289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908720" y="457200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G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3972600" y="431172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G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Generales incomunica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83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7908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Generales Bizantin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l general o sus tenientes es un trai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Nadie sabe quien es el trai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Se necesitan 3n+1 componentes para tolerar n fal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2" name="" descr=""/>
          <p:cNvPicPr/>
          <p:nvPr/>
        </p:nvPicPr>
        <p:blipFill>
          <a:blip r:embed="rId1"/>
          <a:stretch/>
        </p:blipFill>
        <p:spPr>
          <a:xfrm>
            <a:off x="5076720" y="1628640"/>
            <a:ext cx="3425760" cy="3961080"/>
          </a:xfrm>
          <a:prstGeom prst="rect">
            <a:avLst/>
          </a:prstGeom>
          <a:ln w="0">
            <a:noFill/>
          </a:ln>
        </p:spPr>
      </p:pic>
      <p:sp>
        <p:nvSpPr>
          <p:cNvPr id="843" name=""/>
          <p:cNvSpPr/>
          <p:nvPr/>
        </p:nvSpPr>
        <p:spPr>
          <a:xfrm>
            <a:off x="539640" y="580248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LESLIE LAMPORT, ROBERT SHOSTAK, and MARSHALL PEASE. </a:t>
            </a:r>
            <a:r>
              <a:rPr b="0" i="1" lang="es-CL" sz="1400" spc="-1" strike="noStrike">
                <a:solidFill>
                  <a:srgbClr val="000000"/>
                </a:solidFill>
                <a:latin typeface="Times New Roman"/>
              </a:rPr>
              <a:t>The Byzantine Generals Problem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. ACM Transactions on Programming Languages and Systems, Vol. 4, No. 3, July 1982, pp 382-401.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acciones distribuid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juntos de operaciones englobadas dentro de un bloque cuya ejecución es complet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mplen las propiedades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ACID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micit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Atomicidad): La transacción se realiza completa o no se realiza nad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onsistenc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Consistencia): Los estados anterior y posterior a la transacción son estados estables (consistente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solatio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Aislamiento): Los estados intermedios de la transacción son sólo visibles dentro de la propia transac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urabilit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Durabilidad): Las modificaciones realizadas por una transacción completada se mantien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pongamos que queremos viajar de Santiago a Punta Aren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remos a la agencia de viajes para intentar reservar un billete a Puerto Montt. Lo conseguim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uego intentaremos reservar un billete de Puerto Montt a Balmaceda, (en fecha posterior al del primer viaje, naturalmente). Lo conseguim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ntamos ahora buscar un vuelo de Balmaceda a Punta Arenas. Pero resulta que no hay disponib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 ese caso deberíamos ser capaces de deshacer lo hecho, las dos reservas anteriores: O SE HACE TODO O NO SE HACE N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4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jemplo en el ámbito informático: supongamos un banco al que podemos conectarnos por Internet, con la intención de retirar dinero de nuestra cuenta para transferirlo a otr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Retirar(cantidad, cuenta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ngresar(cantidad, cuent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¿Qué pasa si la conexión telefónica falla después de la primera operación pero antes de la segunda 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l problema debe resolverse haciendo que ambas acciones constituyan una transacción atómica: o se hacen ambas o no se hace ningun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odemos tener tres tipos de almacenamient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Memoria RAM: se borra al fallar la energía o en un fallo de la máquin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isco: sobrevive a fallos anteriores pero podría fallar la cabeza lectora del disc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Almacenamiento estable: diseñado para sobrevivir a todo (excepto tal vez a un 11-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l almacenamiento estable se puede lograr con un par de disc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uando se quiere escribir se escribe primero en el disco 1 y luego en el disco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i el sistema falla tras escribir en la unidad 1, tras recuperar podemos comprobar que ambos discos son inconsistentes. Hacemos entonces que el 2 copie lo distinto en el 1, pues el 1 es siempre el que se modifica prime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uando se detecte error (p.ej. por CRC) en un sector de uno de los discos, se repara con la información del ot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rabajaremos con estas primitivas de transacció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BEGIN_TRANS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D_TRANS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BORT_TRANS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 medio de una transacción se podrán realizar diversas operaciones, según la aplic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s transacciones deberán ser todo o nada y además deben ejecutarse en exclusión mutua unas con otr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¿Cómo implementar las transacciones atómicas?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spacio de trabajo privado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onsiste en mantener una copia de los objetos o memoria que se quiera modifica. Por ejemplo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la transacción implica acceso a un directorio particular, mantenemos una cop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ntamos llevar a cabo la transacción en la cop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nada falla al final modificamos el origin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no, descartamos la cop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iste un servidor dictando la ho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 embargo existe un retraso variable entre el env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o y recepción de mensajes producto de la transmisión por 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219320" y="4267080"/>
            <a:ext cx="7467480" cy="2081160"/>
            <a:chOff x="1219320" y="4267080"/>
            <a:chExt cx="7467480" cy="2081160"/>
          </a:xfrm>
        </p:grpSpPr>
        <p:sp>
          <p:nvSpPr>
            <p:cNvPr id="107" name=""/>
            <p:cNvSpPr/>
            <p:nvPr/>
          </p:nvSpPr>
          <p:spPr>
            <a:xfrm>
              <a:off x="1219320" y="4724280"/>
              <a:ext cx="175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257800" y="4724280"/>
              <a:ext cx="175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81280" y="594360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971800" y="4724280"/>
              <a:ext cx="60948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4572000" y="4723920"/>
              <a:ext cx="6858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19320" y="4724280"/>
              <a:ext cx="586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19320" y="5943600"/>
              <a:ext cx="586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391520" y="4495680"/>
              <a:ext cx="104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li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315200" y="556272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ervi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de tiemp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21240" y="4267080"/>
              <a:ext cx="383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083560" y="4281480"/>
              <a:ext cx="383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61160" y="5181480"/>
              <a:ext cx="92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edi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92760" y="5257800"/>
              <a:ext cx="1017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iempo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915200" y="3733920"/>
            <a:ext cx="4853160" cy="609480"/>
            <a:chOff x="1915200" y="3733920"/>
            <a:chExt cx="4853160" cy="609480"/>
          </a:xfrm>
        </p:grpSpPr>
        <p:sp>
          <p:nvSpPr>
            <p:cNvPr id="121" name=""/>
            <p:cNvSpPr/>
            <p:nvPr/>
          </p:nvSpPr>
          <p:spPr>
            <a:xfrm>
              <a:off x="1915200" y="3733920"/>
              <a:ext cx="4853160" cy="368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didos con el mismo reloj local del cli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2971800" y="4114800"/>
              <a:ext cx="457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800600" y="4114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Bitácora (logging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3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La bitácora es una lista de los cambios que se van realizando sobre cada objeto implicado en la transac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n la lista se incluye el estado anterior y posterior del obje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x=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y=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BEGIN_TRANSA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x=x+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y=y+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x=y*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ND_TRANSA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odemos hacer los cambios en los objetos reales, pues con la bitácora tenemos información para deshacer: partimos del final hacia atrás. La bitácora se almacena en almacenamiento estab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58" name=""/>
          <p:cNvGrpSpPr/>
          <p:nvPr/>
        </p:nvGrpSpPr>
        <p:grpSpPr>
          <a:xfrm>
            <a:off x="3741480" y="3305160"/>
            <a:ext cx="4328280" cy="1826640"/>
            <a:chOff x="3741480" y="3305160"/>
            <a:chExt cx="4328280" cy="1826640"/>
          </a:xfrm>
        </p:grpSpPr>
        <p:sp>
          <p:nvSpPr>
            <p:cNvPr id="859" name=""/>
            <p:cNvSpPr/>
            <p:nvPr/>
          </p:nvSpPr>
          <p:spPr>
            <a:xfrm>
              <a:off x="3884760" y="373212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0/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741480" y="330516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itáco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429160" y="3747960"/>
              <a:ext cx="98928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0/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286240" y="332100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itáco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432400" y="421488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=0/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997680" y="373860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0/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854400" y="331164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itáco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000920" y="420516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=0/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991560" y="467208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1/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Two-phase commi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Uno de los procesos actúa como coordina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coordinador envia un mensaje de preparado a los demás proces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uando el coordinador ha recibido todas las respuestas decide si se lleva a cabo la transacción o n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uno o más procesos no se comprometen (o no responden) la transaccion se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abor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el coordinador decide que se lleva a cabo la transacción, envía un mensaje notificándolo a los demás proces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ntrol de concur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Un algoritmo para control de concurrencia en SS.DD se basa en el uso de la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cerradura (lock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cerradura puede ser de lectura/escritu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cerradura puede ser a todo el fichero o a ciertos registros (granularidad de la cerradur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cerradura más usada es la de dos fases: primero se va intentando adquirir todas las cerraduras necesarias, y solo entonces se acce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 no se pudiera acceder a una de las cerraduras, se liberan las ya obtenid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ntrol optimista de concur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 idea es no hacer na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 supone que van a producirse pocos conflictos, en la práctica los conflictos son raros, por lo que suele funcionar bi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o hay que detectar los conflictos. Si se producen hay que deshacer lo hech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Marca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 asocia a cada inicio de transacción (BEGIN_TRANSACTION) una marca de tiemp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uando las transacciones son breves y espaciadas en el tiempo entonces no habrá proble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 veces el orden es incorrecto (se detecta que una transición iniciada posteriormente a la transacción activa ha intentado entrar en el archivo, tenido acceso a éste y ha realizado un compromis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n ese caso la transición activa se abor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Bloqueos en SS.D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os bloqueos en los ss.dd. son similares a los que ocurren en un sistema uniprocesador, pero son más difíciles de detectar y correg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proximaciones posibl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l algoritmo del avestruz (ignorar el problem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etección (permitir que ocurran bloqueos, detectarlos e intentar recuperars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revención (imponer restricciones para que podamos asegurar que no se van a dar bloque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vitarlos (que los procesos hagan una cuidadosa asignación de recursos para que no se den bloque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Detección centralizada de bloque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da máquina mantiene su gráfica de recursos y proces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 coordinador recibe (mediante mensajes) esa información. Con la visión global, toma las decis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ando el coordinado detecta un ciclo, elimina los procesos para romper el bloque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99900"/>
                </a:solidFill>
                <a:latin typeface="Garamond"/>
              </a:rPr>
              <a:t>Detección distribuida de bloqueos (algoritmo de Chandy-Misra-Haa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ando un proceso debe esperar por un recurso, construye un mensaje especial de exploración, que envía al proceso o procesos que retienen el recurs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 mensaje consta de tres números: el proceso que espera, el proceso que envía el mensaje y el proceso al cual se enví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[A, A, B] (enviado de A a B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99900"/>
                </a:solidFill>
                <a:latin typeface="Garamond"/>
              </a:rPr>
              <a:t>Detección distribuida de bloqueos (algoritmo de Chandy-Misra-Haa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 llegar el mensaje, el receptor comprueba si él también espera a algunos procesos. En ese caso el mensaje se actualiza, conservando el primer campo pero reemplazando el segundo por su propio número de proceso y el tercero por el nº del proceso al cual esper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[A, B, C] (Enviado de B a C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 mensaje se reenvía entonces al proceso por el cual esper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99900"/>
                </a:solidFill>
                <a:latin typeface="Garamond"/>
              </a:rPr>
              <a:t>Detección distribuida de bloqueos (algoritmo de Chandy-Misra-Haa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Si un mensaje regresa al emisor original (el proceso enumerado en el primer campo) es que hay un ciclo y el sistema está bloquead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[A, N, A]  ??!!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 de Cristi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e hace una estim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del tiempo de propagación como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= (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iempo = tiemp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+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 puede mejorar si se conoce el tiempo de respuesta del servidor (I),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= (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I)/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 consulta varias veces y se toma aquel tiempo dond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es el menor, descartando aquellos dond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supera un cierto lími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Bloqueos en SS.D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7" name=""/>
          <p:cNvSpPr/>
          <p:nvPr/>
        </p:nvSpPr>
        <p:spPr>
          <a:xfrm>
            <a:off x="676440" y="4070520"/>
            <a:ext cx="1892160" cy="10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730080" y="4373640"/>
            <a:ext cx="43848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798840" y="4368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1409760" y="438948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478160" y="438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2089080" y="440532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2157480" y="440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1177920" y="4572000"/>
            <a:ext cx="237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 flipV="1">
            <a:off x="1828800" y="4608360"/>
            <a:ext cx="25092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3835440" y="4086360"/>
            <a:ext cx="1692360" cy="10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3889440" y="438948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3957840" y="438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4970520" y="41529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5024520" y="413856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4984920" y="46353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5053320" y="4630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4336920" y="4412880"/>
            <a:ext cx="625680" cy="17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4346640" y="4621320"/>
            <a:ext cx="588960" cy="19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517840" y="4608360"/>
            <a:ext cx="1339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6756480" y="4089240"/>
            <a:ext cx="1692360" cy="10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6826320" y="414324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6880320" y="412920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6840360" y="4626000"/>
            <a:ext cx="43848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6909120" y="462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7813800" y="411804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7882200" y="411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 flipV="1">
            <a:off x="5411880" y="4344840"/>
            <a:ext cx="136512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5424480" y="4834080"/>
            <a:ext cx="1427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7253280" y="4321080"/>
            <a:ext cx="56340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-309600" y="3519360"/>
            <a:ext cx="9516960" cy="838440"/>
          </a:xfrm>
          <a:custGeom>
            <a:avLst/>
            <a:gdLst/>
            <a:ahLst/>
            <a:rect l="l" t="t" r="r" b="b"/>
            <a:pathLst>
              <a:path w="5995" h="528">
                <a:moveTo>
                  <a:pt x="5245" y="371"/>
                </a:moveTo>
                <a:cubicBezTo>
                  <a:pt x="5620" y="261"/>
                  <a:pt x="5995" y="152"/>
                  <a:pt x="5245" y="102"/>
                </a:cubicBezTo>
                <a:cubicBezTo>
                  <a:pt x="4495" y="52"/>
                  <a:pt x="1494" y="0"/>
                  <a:pt x="747" y="71"/>
                </a:cubicBezTo>
                <a:cubicBezTo>
                  <a:pt x="0" y="142"/>
                  <a:pt x="760" y="452"/>
                  <a:pt x="763" y="52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2700360" y="4230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2,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5697720" y="40086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4,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5688000" y="44496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5,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3837240" y="31622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8,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1021680" y="514368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áquina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4069800" y="522144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áquin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6941520" y="516096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áquin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revención distribuida de bloque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onemos que existe un SSDD con tiempo global y transacciones atómic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ociamos a cada transacción una marca de tiempo global al momento de su ini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ando un proceso está a punto de bloquearse en espera de un recurso que está usando otro proceso, se comprueba cuál de ellos tiene la marca de tiempo may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 el proceso que tiene el quiere el recurso es más joven podemos entonces optar por hacerlo esper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 de Berkele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l servidor de tiempo es activo: el servidor pregunta a las m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quinas que tiempo local tien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 servidor calcula un promedio y avisa a los clientes de ajustarse al nuevo horar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3321000" y="4114800"/>
            <a:ext cx="2882880" cy="2592360"/>
            <a:chOff x="3321000" y="4114800"/>
            <a:chExt cx="2882880" cy="2592360"/>
          </a:xfrm>
        </p:grpSpPr>
        <p:grpSp>
          <p:nvGrpSpPr>
            <p:cNvPr id="129" name=""/>
            <p:cNvGrpSpPr/>
            <p:nvPr/>
          </p:nvGrpSpPr>
          <p:grpSpPr>
            <a:xfrm>
              <a:off x="4419720" y="4572000"/>
              <a:ext cx="609480" cy="609480"/>
              <a:chOff x="4419720" y="4572000"/>
              <a:chExt cx="609480" cy="609480"/>
            </a:xfrm>
          </p:grpSpPr>
          <p:sp>
            <p:nvSpPr>
              <p:cNvPr id="130" name=""/>
              <p:cNvSpPr/>
              <p:nvPr/>
            </p:nvSpPr>
            <p:spPr>
              <a:xfrm>
                <a:off x="4419720" y="4572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4496040" y="4647960"/>
                <a:ext cx="457200" cy="456840"/>
                <a:chOff x="4496040" y="4647960"/>
                <a:chExt cx="457200" cy="4568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496040" y="4647960"/>
                  <a:ext cx="457200" cy="4568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flipV="1">
                  <a:off x="4724640" y="46479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724640" y="48762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5" name=""/>
            <p:cNvGrpSpPr/>
            <p:nvPr/>
          </p:nvGrpSpPr>
          <p:grpSpPr>
            <a:xfrm>
              <a:off x="5181480" y="5715000"/>
              <a:ext cx="609480" cy="609480"/>
              <a:chOff x="5181480" y="5715000"/>
              <a:chExt cx="609480" cy="609480"/>
            </a:xfrm>
          </p:grpSpPr>
          <p:sp>
            <p:nvSpPr>
              <p:cNvPr id="136" name=""/>
              <p:cNvSpPr/>
              <p:nvPr/>
            </p:nvSpPr>
            <p:spPr>
              <a:xfrm>
                <a:off x="518148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" name=""/>
              <p:cNvGrpSpPr/>
              <p:nvPr/>
            </p:nvGrpSpPr>
            <p:grpSpPr>
              <a:xfrm>
                <a:off x="5257800" y="5790960"/>
                <a:ext cx="457200" cy="457200"/>
                <a:chOff x="5257800" y="5790960"/>
                <a:chExt cx="457200" cy="45720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525780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5486400" y="601956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5486400" y="6019560"/>
                  <a:ext cx="22860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1" name=""/>
            <p:cNvGrpSpPr/>
            <p:nvPr/>
          </p:nvGrpSpPr>
          <p:grpSpPr>
            <a:xfrm>
              <a:off x="3733920" y="5715000"/>
              <a:ext cx="609480" cy="609480"/>
              <a:chOff x="3733920" y="5715000"/>
              <a:chExt cx="609480" cy="609480"/>
            </a:xfrm>
          </p:grpSpPr>
          <p:sp>
            <p:nvSpPr>
              <p:cNvPr id="142" name=""/>
              <p:cNvSpPr/>
              <p:nvPr/>
            </p:nvSpPr>
            <p:spPr>
              <a:xfrm>
                <a:off x="373392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" name=""/>
              <p:cNvGrpSpPr/>
              <p:nvPr/>
            </p:nvGrpSpPr>
            <p:grpSpPr>
              <a:xfrm>
                <a:off x="3809880" y="5790960"/>
                <a:ext cx="456840" cy="457200"/>
                <a:chOff x="3809880" y="5790960"/>
                <a:chExt cx="456840" cy="45720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3809880" y="5790960"/>
                  <a:ext cx="45684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flipH="1" flipV="1">
                  <a:off x="3885840" y="5866920"/>
                  <a:ext cx="15192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V="1">
                  <a:off x="4038120" y="5943240"/>
                  <a:ext cx="22824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7" name=""/>
            <p:cNvSpPr/>
            <p:nvPr/>
          </p:nvSpPr>
          <p:spPr>
            <a:xfrm>
              <a:off x="3886200" y="541008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72428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03848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48640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487400" y="536580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387680" y="41907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701880" y="63388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: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149800" y="63244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708360" y="4800600"/>
              <a:ext cx="71136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5029200" y="4800600"/>
              <a:ext cx="71136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321000" y="46623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568840" y="46623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029200" y="4343400"/>
              <a:ext cx="58428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416560" y="411480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3369600" y="4114800"/>
            <a:ext cx="2758680" cy="2592360"/>
            <a:chOff x="3369600" y="4114800"/>
            <a:chExt cx="2758680" cy="2592360"/>
          </a:xfrm>
        </p:grpSpPr>
        <p:grpSp>
          <p:nvGrpSpPr>
            <p:cNvPr id="162" name=""/>
            <p:cNvGrpSpPr/>
            <p:nvPr/>
          </p:nvGrpSpPr>
          <p:grpSpPr>
            <a:xfrm>
              <a:off x="4405320" y="4572000"/>
              <a:ext cx="609480" cy="609480"/>
              <a:chOff x="4405320" y="4572000"/>
              <a:chExt cx="609480" cy="609480"/>
            </a:xfrm>
          </p:grpSpPr>
          <p:sp>
            <p:nvSpPr>
              <p:cNvPr id="163" name=""/>
              <p:cNvSpPr/>
              <p:nvPr/>
            </p:nvSpPr>
            <p:spPr>
              <a:xfrm>
                <a:off x="4405320" y="4572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4" name=""/>
              <p:cNvGrpSpPr/>
              <p:nvPr/>
            </p:nvGrpSpPr>
            <p:grpSpPr>
              <a:xfrm>
                <a:off x="4481640" y="4647960"/>
                <a:ext cx="457200" cy="456840"/>
                <a:chOff x="4481640" y="4647960"/>
                <a:chExt cx="457200" cy="45684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4481640" y="4647960"/>
                  <a:ext cx="457200" cy="4568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flipV="1">
                  <a:off x="4710240" y="46479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4710240" y="48762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8" name=""/>
            <p:cNvGrpSpPr/>
            <p:nvPr/>
          </p:nvGrpSpPr>
          <p:grpSpPr>
            <a:xfrm>
              <a:off x="5167440" y="5715000"/>
              <a:ext cx="609480" cy="609480"/>
              <a:chOff x="5167440" y="5715000"/>
              <a:chExt cx="609480" cy="609480"/>
            </a:xfrm>
          </p:grpSpPr>
          <p:sp>
            <p:nvSpPr>
              <p:cNvPr id="169" name=""/>
              <p:cNvSpPr/>
              <p:nvPr/>
            </p:nvSpPr>
            <p:spPr>
              <a:xfrm>
                <a:off x="516744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0" name=""/>
              <p:cNvGrpSpPr/>
              <p:nvPr/>
            </p:nvGrpSpPr>
            <p:grpSpPr>
              <a:xfrm>
                <a:off x="5243760" y="5790960"/>
                <a:ext cx="457200" cy="457200"/>
                <a:chOff x="5243760" y="5790960"/>
                <a:chExt cx="457200" cy="45720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24376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5472360" y="601956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472360" y="6019560"/>
                  <a:ext cx="22860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4" name=""/>
            <p:cNvGrpSpPr/>
            <p:nvPr/>
          </p:nvGrpSpPr>
          <p:grpSpPr>
            <a:xfrm>
              <a:off x="3719520" y="5715000"/>
              <a:ext cx="609840" cy="609480"/>
              <a:chOff x="3719520" y="5715000"/>
              <a:chExt cx="609840" cy="609480"/>
            </a:xfrm>
          </p:grpSpPr>
          <p:sp>
            <p:nvSpPr>
              <p:cNvPr id="175" name=""/>
              <p:cNvSpPr/>
              <p:nvPr/>
            </p:nvSpPr>
            <p:spPr>
              <a:xfrm>
                <a:off x="3719520" y="5715000"/>
                <a:ext cx="60984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6" name=""/>
              <p:cNvGrpSpPr/>
              <p:nvPr/>
            </p:nvGrpSpPr>
            <p:grpSpPr>
              <a:xfrm>
                <a:off x="3795840" y="5790960"/>
                <a:ext cx="457200" cy="457200"/>
                <a:chOff x="3795840" y="5790960"/>
                <a:chExt cx="457200" cy="45720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379584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flipH="1" flipV="1">
                  <a:off x="3871800" y="586692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flipV="1">
                  <a:off x="4024440" y="5943240"/>
                  <a:ext cx="22860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0" name=""/>
            <p:cNvSpPr/>
            <p:nvPr/>
          </p:nvSpPr>
          <p:spPr>
            <a:xfrm>
              <a:off x="3872160" y="541008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71024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02444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7236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473360" y="536580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373640" y="41907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687840" y="63388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: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135400" y="63244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694320" y="4800600"/>
              <a:ext cx="71100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5014440" y="4800600"/>
              <a:ext cx="71100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369600" y="4744800"/>
              <a:ext cx="5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554440" y="473076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015160" y="4343400"/>
              <a:ext cx="58392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66880" y="411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3244320" y="4114800"/>
            <a:ext cx="2812320" cy="2592360"/>
            <a:chOff x="3244320" y="4114800"/>
            <a:chExt cx="2812320" cy="2592360"/>
          </a:xfrm>
        </p:grpSpPr>
        <p:grpSp>
          <p:nvGrpSpPr>
            <p:cNvPr id="195" name=""/>
            <p:cNvGrpSpPr/>
            <p:nvPr/>
          </p:nvGrpSpPr>
          <p:grpSpPr>
            <a:xfrm>
              <a:off x="5105160" y="5721120"/>
              <a:ext cx="609120" cy="609480"/>
              <a:chOff x="5105160" y="5721120"/>
              <a:chExt cx="609120" cy="609480"/>
            </a:xfrm>
          </p:grpSpPr>
          <p:sp>
            <p:nvSpPr>
              <p:cNvPr id="196" name=""/>
              <p:cNvSpPr/>
              <p:nvPr/>
            </p:nvSpPr>
            <p:spPr>
              <a:xfrm>
                <a:off x="5105160" y="572112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7" name=""/>
              <p:cNvGrpSpPr/>
              <p:nvPr/>
            </p:nvGrpSpPr>
            <p:grpSpPr>
              <a:xfrm>
                <a:off x="5181120" y="5797080"/>
                <a:ext cx="456480" cy="457560"/>
                <a:chOff x="5181120" y="5797080"/>
                <a:chExt cx="456480" cy="45756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5181120" y="579744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flipV="1">
                  <a:off x="5409360" y="579708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9360" y="602604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1" name=""/>
            <p:cNvGrpSpPr/>
            <p:nvPr/>
          </p:nvGrpSpPr>
          <p:grpSpPr>
            <a:xfrm>
              <a:off x="4419360" y="4502160"/>
              <a:ext cx="609120" cy="609480"/>
              <a:chOff x="4419360" y="4502160"/>
              <a:chExt cx="609120" cy="609480"/>
            </a:xfrm>
          </p:grpSpPr>
          <p:sp>
            <p:nvSpPr>
              <p:cNvPr id="202" name=""/>
              <p:cNvSpPr/>
              <p:nvPr/>
            </p:nvSpPr>
            <p:spPr>
              <a:xfrm>
                <a:off x="4419360" y="450216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3" name=""/>
              <p:cNvGrpSpPr/>
              <p:nvPr/>
            </p:nvGrpSpPr>
            <p:grpSpPr>
              <a:xfrm>
                <a:off x="4495320" y="4578120"/>
                <a:ext cx="456480" cy="457560"/>
                <a:chOff x="4495320" y="4578120"/>
                <a:chExt cx="456480" cy="45756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4495320" y="457848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flipV="1">
                  <a:off x="4723560" y="457812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4723560" y="480708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7" name=""/>
            <p:cNvSpPr/>
            <p:nvPr/>
          </p:nvSpPr>
          <p:spPr>
            <a:xfrm>
              <a:off x="3871800" y="5410080"/>
              <a:ext cx="1828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70988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02408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200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473000" y="536580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372920" y="41907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687120" y="63388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135040" y="63244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693960" y="4800600"/>
              <a:ext cx="71064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5014800" y="4800600"/>
              <a:ext cx="71064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244320" y="47448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540760" y="4730760"/>
              <a:ext cx="5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-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4800" y="4343400"/>
              <a:ext cx="58356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393880" y="41148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3733560" y="5721120"/>
              <a:ext cx="609120" cy="609480"/>
              <a:chOff x="3733560" y="5721120"/>
              <a:chExt cx="609120" cy="609480"/>
            </a:xfrm>
          </p:grpSpPr>
          <p:sp>
            <p:nvSpPr>
              <p:cNvPr id="222" name=""/>
              <p:cNvSpPr/>
              <p:nvPr/>
            </p:nvSpPr>
            <p:spPr>
              <a:xfrm>
                <a:off x="3733560" y="572112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3" name=""/>
              <p:cNvGrpSpPr/>
              <p:nvPr/>
            </p:nvGrpSpPr>
            <p:grpSpPr>
              <a:xfrm>
                <a:off x="3809520" y="5797080"/>
                <a:ext cx="456480" cy="457560"/>
                <a:chOff x="3809520" y="5797080"/>
                <a:chExt cx="456480" cy="45756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3809520" y="579744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 flipV="1">
                  <a:off x="4037760" y="579708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4037760" y="602604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Relojes L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gic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muchas ocasiones es necesario que las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áquinas concuerden en un horario, pero no que ese horario sea el horario re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nvencionalmente llamados relojes lóg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amport mostró (1978) que si dos procesos no interactúan no es necesario que sus relojes estén sincronizados ya que esta falta de sincronización no es observab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ún más, él postuló que usualmente es irrelevante que dos procesos concuerden en que tiempo es, sino más bien en orden los eventos ocurre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Rel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caus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t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(a ocurre antes que b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finición (Lampor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a y b son eventos en el mismo procesador, y a ocurre antes que b, entonces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es verdader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a es un evento de enviar un mensaje por un proceso y b es el evento de recibir ese mensaje por otro proceso, entonces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es verdader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do mensaje toma un tiempo finito mayor que cero en lleg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y b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 son verdaderos, entonces también lo es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ni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, ni b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 son verdaderos, se dice que los eventos a y b son concurrentes (paralelo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16:38:17Z</dcterms:created>
  <dc:creator>Facultad de Ingenieria</dc:creator>
  <dc:description/>
  <dc:language>en-US</dc:language>
  <cp:lastModifiedBy>Javier Bustos Jiménez</cp:lastModifiedBy>
  <dcterms:modified xsi:type="dcterms:W3CDTF">2008-08-06T14:11:37Z</dcterms:modified>
  <cp:revision>127</cp:revision>
  <dc:subject/>
  <dc:title>Sistemas Distribuídos</dc:title>
</cp:coreProperties>
</file>