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0D3156-FD8A-44CB-8D98-54329CA57A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5C4A96-5C8E-4C09-8261-BA0ABAEEF1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001858-52FA-4E35-B59F-44AA89FC6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87C842-C794-496B-A89A-29710F6363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0B8179-A6B7-4A4A-A18F-782F182A5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4FFE9-CF19-479D-8292-5C709A3C6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14E146-E670-4C31-BD52-72DFDF55B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78AC7E-0583-4E1D-92F6-BA2297B37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E8B5DD-3612-4C4F-ADFB-139231707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CF6B9-82DE-4CC6-AF3A-752ADF8A3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9952B-E044-402C-844A-AD6967949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6C08AE-745D-441A-96A8-F881F4285A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6CAA2-6AF7-49BE-937F-CD719213C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A46F3-299F-4E04-BF2D-20A0BC69A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AF935-89DF-4ECF-8000-A202DC28A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84A6F6-2103-42B6-80B9-552938AABA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4F0D69-D5A5-4DEC-A743-709D1F21D8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5025D9-8779-410B-A078-B0C2003A6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D32269-2517-47DA-8051-558EEC663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073910-A220-49F3-9590-322291B4B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E62B11-9EF9-492F-AD27-61DB28591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4787F-2B34-4BF5-A335-7BB617B2B4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24A5FF-77F6-4F49-8489-37FF9AC8C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8E87E3-6FAF-4437-92D4-117CA9100D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DF32-A52A-4285-8B13-BDA8222A867F}"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0F8B-FB25-40BC-898B-9D212DC387C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0049146-F56E-40F2-AD3A-B8CFFE4B4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325ADB-B70F-4D84-81F4-3FA4B1FA6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E19FAA-0BDE-4184-8CBD-C200E4D43F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BA02EBD-DA90-458F-AA26-965FE5095C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BF38965-13BC-4E88-888F-DFAF9774D7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A701E79-9FE6-4A45-AF25-178B0A0C8E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0FA5D18-9C19-4D12-9767-D8B6A0E9C6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C62B4C42-EF4D-4F81-99CD-0D0581822A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58B6BFA-B15E-49B0-AB34-6E6AC19941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7F48E57-9999-45C8-BF60-89224093A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39AB3A0-68F4-4376-AF9F-6848A321C4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8589DF-34CA-4710-8642-A6767BE126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2E9050-9B48-4E66-AF43-4A2C20D9A5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8D052DB-91DC-4735-BE04-911F0F9A67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2C93BF-8860-4C42-ADCB-83BCF0B1E2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5349954-B937-4F41-AE12-DF766B7084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391056E-037E-477D-9CC5-AF988E8523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3A3B2AE-22AB-474F-A93F-9921AD60C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20F07DF-6650-4E52-8E20-4BC6DB12D4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E7B03D-DF8B-4535-B4F2-CF65148161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75ADF1-FDD4-4024-8323-282BA46289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3E56759-B3E3-4E9A-9F77-FC3558E27B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86A1AC-1476-4E1B-9999-509D17C611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DC5FCFD-3FF1-4833-A21A-94BB5D6753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F7A82D-AC2C-49A8-ADA5-D6DA3E1B29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47BF9A0-FCF0-48FC-9CF3-AC2E1C17C2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66226F-2F42-4620-B139-973E5265E8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1737162-DEBE-4775-89FA-EB51965079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8A28B12-B6EF-4686-870C-46C2C40088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2E56F28-8775-4FEE-B56B-6F63FE3925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C2CA54-8B13-43BB-BA48-5D0A9EA153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FFEB8A-2E7F-442E-ABE8-1B0E812F49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644848-C0E5-43C6-9066-882F1F6718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9DF74A-D56D-4E8B-B701-897F27D78C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AF8AF6D-94D2-4F28-84A9-60149CDD8E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6D9A766-44EB-4E08-841E-556B9CC081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A52F11C-1131-48C2-84B2-0E7C27B456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B2050B-68B4-4472-B642-F0CEC6FCC0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485DB7E-3B81-4064-A529-70EACC3C72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6C83854-449E-4F92-BED9-500E0AA437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042848D-CAF1-4923-B427-8FD5595C0D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108B125-2ED4-4F94-BE87-56FA00CEED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DAE2176-BDA5-427C-94BD-3047E9F60D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479BAB9-A17C-4CF8-AA64-353C56FDEF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21B75A-E94C-448A-B94D-9B12F2C1C7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B86CB7-CE09-4B42-BB56-641DAA6057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D7835B0-DCB7-4307-AC2E-54F7DAF5F5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B90D104-42BD-4B1F-AFF0-7B15E3FB90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D8F6218-DC22-4C66-BA8E-027AAD3593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C658242-67FC-47AA-AECA-862894EB34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49647A-78A2-40ED-A3DB-3ACFAF3F05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634C3F-295D-4AE9-A6A2-E552BF98C2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8B9529E-6201-47D5-9ECF-F8C094B4FA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38700D3-E1A1-4CFC-BB10-315D01F240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9F99A2-D89B-4DB2-96CE-9610785341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5A61738-8CDE-4D49-B240-DBF46A1E10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EC0A838-76AA-46F4-ADFE-537FBAFCA1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4FE933D-1CE6-4B4E-B0E8-D5B0380CFF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F11F63-9FD2-4CA1-8BDC-847BF2365B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5107AA6-098D-40C3-BF76-04BB7CA831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38CB84-9CFF-4E71-B45E-66C1DB0DB5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2DFFCF-E105-447C-94B4-145FDA3D8F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92DB389-6240-4FCA-ADF3-0A185CAC2D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4E0C5C8-A352-429B-BDB2-679719DAC5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F63AA85-48EA-4C8E-AE43-BF79A8FB5D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F2943A9-2637-43EA-90F0-E0D0925C36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1DA372-DEDD-4F61-8364-AFA31ADECE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1E8CED-56BD-428B-BC24-A8BB741072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96612F5-EAFD-4D94-9523-AF7C2A690B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2702521-5709-4447-BF08-9A4C988E16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C6ACDE1-09EC-429B-9E99-2F7308D915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588D359-1F1F-468F-8030-1A38236070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CC59B41-637C-417A-8C50-2DCAD41BCC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200D33-8562-47B0-9C68-DCBB5B836C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6924B68-9EBD-48AD-B128-6E9A4A29BE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1E3BC37-61BC-4DB5-97A5-0E25267853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CE4BF7-0A4A-46B7-96C2-CEA1B21C11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C0FE0A-D42B-4DA1-A06A-563194946C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BDBD86-D238-4C59-B1F9-7526A3983A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96D516-86DA-4EC5-8692-6B160DEFC2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EDEACF1-2570-4ABB-B5F2-A57509A24248}"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F97A1F4-0803-4F31-A7E4-9BBEFB8279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Steve  Armstrong</dc:creator>
  <dc:description/>
  <dc:language>en-US</dc:language>
  <cp:lastModifiedBy>Javier Bustos Jiménez</cp:lastModifiedBy>
  <dcterms:modified xsi:type="dcterms:W3CDTF">2007-04-23T14:50:29Z</dcterms:modified>
  <cp:revision>37</cp:revision>
  <dc:subject/>
  <dc:title>Consistency and Replication</dc:title>
</cp:coreProperties>
</file>