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49D313-83A4-49CF-A6D3-B51F3F9CA5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37D096-077E-418D-9E35-C4D87FA76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71D339-9A3C-4200-9613-25DC042767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4941B3-62EB-41BB-B206-B450F082EC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E5D930-BBA3-4BB9-B312-EE1CD5603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6C0F1-5489-4BF1-AF2E-BEBE6FF78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B0325E-F14F-4CAA-AB7A-3C41C0C83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8689CB-BBCB-46EF-9654-51870CE09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FD7116-4EBF-4539-9AB1-FBE30901C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1730E-1D94-4C5B-A4FB-550B218BE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66821-69AA-4051-B354-3A38FDCDC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8AFC97-7E27-48DE-B7D3-92B902EE66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F922F5-C862-46E8-A436-5FF408ABD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DE433-A9BE-47FD-9588-ADF43FECA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97A161-3084-4329-A301-F3343AEC2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D1A2AF-835E-4C66-88B9-9AEBB31B70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067E2-8304-464B-A243-B2E6B9A120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BA6CE2-5325-4866-B339-A752C62448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FDF3FC-8746-472F-8CF6-1D99A412F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A22005-30B3-4BC0-B19E-53BEF37560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690127-1705-49CB-9964-3083D7404B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C3670F-C9FF-4D2A-AEFD-A7AD1A727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AB0A08-FE3E-4265-95FA-07689D9344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14108F-0A76-4E6E-8137-5AA9A3C84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1F9E-7E60-4DE6-85C2-F1275429792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A536-08F9-4A53-A40E-8371FC52D3E9}"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C92ACBE-927F-47E2-BAD8-2C59869E0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4F3A3BE-16ED-4218-BFDB-68B2FC09A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8BC3867-962A-474C-B4AB-95E9DACD62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13B76C6-5A2E-488F-A1F7-2A6257C654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CF14F3C-BF63-403B-A4C9-62CB42C1F5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46D6A00-40F9-40CC-863C-1BF5EA2C52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BA28410-362E-4ABC-B587-12FADE630B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F4E591F8-A357-4506-A52B-10D39545E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D20F9B1-E529-4F44-8C59-B8A27B6628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B8B0630-53BC-4A69-9518-6373CCF1D2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64A658-3AE5-4DF0-AB43-8B0E204078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EDC20F0-EE4B-48E4-AF2C-F43CCB4F3F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8E5E77F-0AB2-4A22-8EE9-754A20B5A9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BA1D6D-1BA2-4013-8739-4D5CDE17E0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A91E94-3C25-4F6B-809B-6BF423FCC2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93B8726-28D5-4492-A37E-9A6E2B359B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FEFE01-51F6-4BD3-A204-D948894983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A2126C-8735-4E17-84AC-94687AB99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996E31F-EFF7-4D0E-BFA7-12AA7F1B11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5D29E8-293D-4989-8201-D97D6CE71F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834169-2449-4B37-9CD0-4CE143A79E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2220D16-0382-4DF4-8709-24DFBD7710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993CE92-012F-4AE0-B048-F0ADAB1618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FD3568A-EBA5-4D3A-9F9F-8F15501D05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0D05BDE-CDBB-4AB0-A174-D9BEFE110C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8E6AD8-677C-48D3-8F34-740C52CDBD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F5B5D4D-13BB-4232-A554-24B4EEAF7B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C544986-18C6-4FD2-AF63-7779525D09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E2652B9-CEE0-4A15-8EAA-46C401AB4F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E5381C8-D242-433D-8816-A713BD27AF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08460E0-96AE-497B-9CCD-0C9719BEDB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8FD663-0A07-4F61-B1C1-3415E273F9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6F6069B-2C4E-406A-9D4D-A4C31C5DC9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7517DE0-978B-480C-A3AE-061EB3144E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8696BA9-DBDA-4382-BAFC-E440715CCE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65B7119-1F7C-4A36-905F-0EB27AD4C5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2BC3C5-2E0C-4CAF-B444-7589ED2910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38999C-7D60-40A5-ADCD-30FD49ABDE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706ADA3-16B2-40E0-8184-BDBCF92286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5BB0F03-7907-43A6-9ACD-D3761A8A0F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9D66C4C-82B3-447C-871A-FC642326E4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6B0C30D-0E8A-441D-9CA0-02D5704AB2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42B80B8-9125-498D-B655-06BA9C5EA8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6500B9B-3620-4A30-BA78-799DE3B03E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0C02F7-5A44-42AF-A381-27A8FFDFB3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FF58F82-660C-4A7F-84E4-331C6E6381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AC2E9CB-290D-423D-9D94-1EE405210D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1261FF1-82E4-42CA-83F1-15F3CD30D0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8B24E3-27E7-42A0-81CB-2AF82184EF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AC0A5F-C91F-404C-A7D0-9A16E6E315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3D17FEB-2C22-4151-B509-D0DFDC4090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ECBCF96-EB5A-4C76-9465-2A959A80FB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E6AD7E-8C89-4ACF-919B-8F3A7E91AA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EC1BE6A-2E1B-4862-AA41-4D3FB04721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417341E-7C47-415E-A2AA-F089923719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CC53105-3D81-4BB7-8227-20E4A193EE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82AE0D0-B354-4711-A4EE-1EA6E6271E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F390993-FA92-4E32-99DB-69EDAE05AA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4A87B59-C62D-4572-8E89-5C54660F24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360C4BE-41C2-4B34-A32F-7EFCF2F1EA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2E565BE-85A5-4398-B335-A2943C74AB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054DC3-9350-414F-BFEF-11792127F3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2617D15-96B7-49FA-85AA-84B4018DBA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CA4399-770F-4335-8A39-4CF9E32EA9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56CD89B-1AF7-4679-B002-1CE7C42CFB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F9CBE27-5F3D-4020-A40C-3F3CDC254D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D7158F9-E7BB-4822-A3C3-DC7F2AC9D7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0629F72-1FE2-4F36-86A1-98F24E70B6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93E116B-7702-4BB9-8D73-BAA89CAFF0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1588373-189A-41A1-8FBD-F948C790ED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D623F4-AC48-4C27-9534-91AAF95C38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4490711-6493-4960-B4AF-F7C190CCBC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871D186-8D58-4D06-A68C-F5CE30F40C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28F9F51-7C42-4793-A112-ACCD16EF0A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EB949BC-692F-4F60-A3C3-40CA712EFB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FB7994-9175-47ED-89E3-943BFAA932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CBD3912-DC24-4780-8D44-7A84A64E63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0DFA968-D979-4ED1-9C0C-93E2A42BFB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42E283E-FB18-45B9-9616-DA1F0E52FB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F43112E-A2CD-47ED-8E70-D8D2CA1A3D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301F538-477E-4DE0-95F1-333174DB90E3}"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CEAD98C-33DF-4E7A-97BB-13081C67C9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Steve  Armstrong</dc:creator>
  <dc:description/>
  <dc:language>en-US</dc:language>
  <cp:lastModifiedBy>Javier Bustos Jiménez</cp:lastModifiedBy>
  <dcterms:modified xsi:type="dcterms:W3CDTF">2007-04-23T14:50:29Z</dcterms:modified>
  <cp:revision>37</cp:revision>
  <dc:subject/>
  <dc:title>Consistency and Replication</dc:title>
</cp:coreProperties>
</file>