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CFE094-2605-4118-BB90-66283E548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8383C2-4566-46E9-9A0A-E2404C47F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AD8673-C152-439C-B371-87D05B8C2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8CF055-C3AA-46B0-8A2F-C6A7BEBD1F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E088A3-F4E5-4F82-A8FC-C3F909F3E2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586CC-EFBD-4A26-A3D2-7F34E560C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E3693F-E336-4E07-B662-237447F96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5DD05-8523-4A13-B17F-8A4DCFE64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ABC3AC-C5EF-4AF0-AC8E-CF8AA1D6F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948DCC-0A4A-44A3-BBDF-A775C01FE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891B2-C61E-4768-BC5C-10AB9888C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EF4618-7201-4B33-9A11-D4CE258567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20615-AA9E-4B03-A8A8-01DAC32C4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8EB327-0D59-42EA-BECD-A5C90851B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65927C-4774-43B3-82D8-98C24FA60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FB3622-88AD-4A92-A644-43B0B4653A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872431-3C74-4399-8A00-27F3067776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1E399C-DE92-41A2-8754-49810203A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62D84A-A018-4231-9C6A-FE5F5CBE5B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CF6F4D-2609-4DC5-9689-BF0BA06D23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FA70CD-F02D-4EFE-AAF5-7C170E4C5B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E72C49-B071-4F45-AE60-5E265AC2E9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48A24B-E05C-4CCA-A353-561E02D83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FCF512-9155-47EA-812E-A793BCD120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685B-4103-41E7-BC13-8094D423B462}"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EC72-55FA-4DA1-A84B-6DBAB1714CB0}"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5B0967-5DF0-4212-BEE5-13AB6F42E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87A4C0D-7EB4-45E1-ADCA-55E7C75815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A24989D-AE31-440C-A4B5-1A425E4EFE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EF42F6C-82E9-447A-9C3A-099BC3394F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E8418E1-26B5-4AA0-8A71-69BD5636B3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1EA25EE-F4B0-4B6F-A7A7-D4FB3AEEFE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D967EA-C823-4512-A88F-FB2210E68B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69421EC8-7EDF-4EC7-B25A-2352244C7B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7ABBD4A-ADB9-4F6E-9411-B86104F5FA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611B025-0425-4B35-9DB7-694477533A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18FD449-E05D-47FA-995C-8010AE0891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DD6778-911B-43BD-8681-2A1074D7B4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F781DD6-63D1-488E-B219-7E203AC7C0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37394D-66EF-4C52-88D9-27A3947BF5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E417658-0968-4FC8-A24B-6E7F99E24A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B9F6E9D-4264-4643-AE86-42CE0B9C34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5EF71D-54DE-40A9-B74E-0BB79F7B3E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F043C6A-8C49-496F-914B-484F0F338C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44C5E74-B297-4D56-B2B9-6D1A87257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3F46B01-91FC-4880-9CBE-27331DD4DB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7E64792-1519-41EF-88F3-8DBCC0DFCB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AC42C78-48EE-41D2-B946-D86A3152F1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828B7C-D490-4936-B438-DD50F30EB9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ADF928B-0781-498A-8189-710BEA5157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9A2701-BDCD-43CB-B54B-427545B365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3F5F8B-9A94-4EDB-9AFA-93A8E35F49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11ECC2E-2743-4A7B-A4BC-9DFF037EE5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D7EAF7B-D9A2-4178-9D04-55F9872404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0D60697-4614-4C95-84F9-FBFFE00FB9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C4EE355-0442-4390-A083-E524EA2703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AC1DC2B-3CBC-4A27-A7E0-CBE6923253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426C6E7-1FDB-45FC-90C2-DD13DC0437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FAD48E-6EDF-4EDD-B478-D1C0FE6959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0A8BFA9-B1B0-497A-BF9C-DFFECBC5E7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55AB83-3029-4408-A5AF-15931D2534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FF60BCC-9CC7-4A36-9298-FE2DB91026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833C622-509B-4D02-9F04-89C45AE8EF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1DBF47-F109-4E66-8AD3-F6DDFB571A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AD4CEE8-A030-4891-882F-C0ABAEF23E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8ACA2D-0163-430D-BC89-194C1DBE5F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118B49E-F5F9-4934-80EB-0FE7C1E390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017EAF-6D5C-48DD-9D81-28664F6B0B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C15931-8BE3-4050-B18A-38584FFE02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E928A48-3B06-4386-85DB-9CF9B4242E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A1AFB3B-BB92-47D9-89BB-9720BFB918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8AABB96-3C33-42B3-956D-B33C2DEA70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09E8A96-9BC6-48A3-8CF9-11F7323190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8FFE2D7-4C37-40AF-8B8A-6969A5F0EA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69E7F25-30C1-49E7-BEEA-92B1CFB65B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3E4DC35-1C05-489F-98EE-024F6BBBC7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60D8D7-D80C-45B8-A70E-736F0A77E0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1959C6-8C81-412F-B484-CD000F5694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941A56E-5517-4009-B474-23140CF904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49860EB-8F61-43B5-9CEE-B3E63533E2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8FB52F1-6BAB-4F62-A857-A3CFC1CFC3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1D21CD1-3483-4D46-9467-A0E9CDCBC1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9E7C4E9-4CD9-4065-BE0B-B58426C1F4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261DE74-E695-4202-BE51-B5C3E1B579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F1BC672-61CB-46D0-A7D9-2635D5AFF4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5F364A4-4DFA-4FCC-A8D0-CE672F39C8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3DBB312-F1BA-4D95-996B-6D4C679CF0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DEA4A6E-56E3-417A-9B9E-FFAF69EF7B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D8A270F-EA69-4226-A436-D61160CD3C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897E636-F2E5-4233-B077-98000D03E6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1A9B6E8-FC95-4997-A38F-674830FBFA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52ABE24-91A2-474A-9392-9DB5A1A82D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549684-E9B7-4E7D-8ACF-E40BBCC26D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987AD82-14CC-4FB9-84DA-AEAF208AB6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9859D1B-7E2C-46A1-8E9E-91C65DDC31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412320D-475E-40AB-A9EA-86F9BC81F1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FF8862-0E10-4036-BAF8-9CC650E55A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B7C0BB-0F91-49B8-9A40-1F2500354F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EB61AAB-D5CE-48A4-B35A-A640BDF48B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A83864D-AA63-462B-8C4F-85E6A525DE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0DA8B0-C922-4BB8-B36B-9485A8B452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026B90-8B3D-4F32-AAEB-AF7479B5B9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6A8040E-DBAA-4EAF-B956-918D508EC8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808B63-5E3B-47C6-B16C-FC1F34874B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E57041-E400-49D7-B44B-5D0BF13D93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4B81011-29C6-4F10-B1B7-010D75B161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A09ADA8-CA28-4608-BC34-6156B8911F63}"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A50F160-93BF-4540-8CD3-E61595914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Steve  Armstrong</dc:creator>
  <dc:description/>
  <dc:language>en-US</dc:language>
  <cp:lastModifiedBy>Javier Bustos Jiménez</cp:lastModifiedBy>
  <dcterms:modified xsi:type="dcterms:W3CDTF">2007-04-23T14:50:29Z</dcterms:modified>
  <cp:revision>37</cp:revision>
  <dc:subject/>
  <dc:title>Consistency and Replication</dc:title>
</cp:coreProperties>
</file>