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84632C-7EBA-485E-ACE0-2691A29D49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E208AC-3F71-4E03-A1AB-89FED71811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5B7E05-23CA-47EC-9A73-AB9990FCA4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BB55C5-0684-4CCB-BE2E-99068DDA21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DB8AE4-0CA1-46D3-9E44-4BFE54E0C4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BE5660-3421-40AA-BCB0-B20524EDA3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4F2E90-D8CD-4547-A2FB-C878A37B4D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D81A27-94D3-4328-A78D-B1FFFC7878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25F2C7-DAB3-4F47-9C28-B0906F0A15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518060-47AA-4269-AF82-A2E09EE51C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434411-A57C-4B8F-A4AA-C336C2454E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F1FF36-CC54-4F8E-8EED-5B45152A12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885765-F23D-40B3-8367-A0FE6A3B84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5CD6F5-ED7B-4ABA-88E3-ED023A8082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61A0B8-F5BC-42CE-A6F1-A4E7FBFFDD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A24CC1-CDF9-4507-8217-43FA2624F2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AE6A6D-1AA3-45F2-998B-0FAEFD9BB1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1A9CD2-608B-4224-88FE-DB52A14394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899B1A-AC8C-4B2A-80B6-4D1D30359B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761332-A9F5-4676-B5F9-BA1319164F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A4806C-86E8-4CCB-BBD3-C13B2E575F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3482C5-5B3D-4956-A576-FE5B4CD1E0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4AF6F7-27CB-4CA4-96FD-91BC99E01B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51645A-08F2-4206-837D-0610925829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49AF7-4149-4C14-90FA-C8B5D3B17F4F}"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78D92-3855-4C60-A8E1-24E513816DA9}"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07296A5-6810-49AC-B6BE-861E24F0BF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B730B56-D6EA-419B-94B5-43FDBE4AFC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38FC5FF-72E5-44A8-9860-FE3BF98245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7192674-B803-433E-A2D9-C829483369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E5226C1-3169-46C2-9EA5-4217935D40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DB9B4B2-CFA9-40D9-8134-2E570954E4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EFA844B-86A4-41BE-A33B-BBA40B6D0E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F6554BE6-1C4E-439C-B500-B51817FAEB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CFD8DF3-FB06-4875-AC79-2BE3A80FFD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DA15326-4E16-4DEB-B2D9-D5FC89FE65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7C3A622-F39F-4549-8054-0EEDB16543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644A7E8-7894-49E2-A553-50EFA0CDB0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4742BF4-D806-4102-B2E6-B93CDBF065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ED0D57C-E30F-465C-9F80-156015FAA6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ED13114-D1FF-4171-B8E6-9BC1106A29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40DBCFE-655A-4D85-91FE-7098444A03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02D231F-8B25-40D9-9EEE-2B8CDE8480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50F0C0B-C3A3-42C3-81C8-1291D04246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079ECB6-2D67-4FA0-B892-0E74497F65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D7394D8-4A06-4B1A-BB63-B454B9660C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052EC34-DC53-42F9-A6BD-C7C6ECFC4D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7C417BD-35D3-4618-825B-871E5A0903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72DF17F-9D7D-4621-B99F-B975AB2557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86C60FE-EEF3-43BF-A32A-9D6F637D3C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B51F0FF-D5D5-4B5D-A396-0502E86B68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FB60BC8-25FA-4C9E-B9E6-F902E45DEC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695C021-E6A1-4FC6-820A-E975C4A0CA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CD60803-3B10-4C7B-8EA7-CA9130730E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55F1BE5-5B7B-4E2A-AB16-456FF7F391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FA7E1D5-2DCC-4367-A54D-9486EB80A4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8024ED6-6454-43F3-9E45-6D5D234EBC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25646F7-9899-47DB-A246-76DE35A9A1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4930106-64DC-4803-893F-CD2A71FAA3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8332386-BA95-45BE-972F-B2D5F9E9A1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ECE6E27-4AFE-4024-BDB9-F576626FDD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B248BD5-62D8-4667-AC86-2C2EA3115E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1F4D4CE-190B-4886-8F1C-263E5699FA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0FE10AA-0DA1-4DC6-A612-FA0F330813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2078B9B2-7F09-43A7-A118-EAEC078B21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F1AEE19-EC17-4041-8F35-37CEA1AF96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87F7A33-0561-49B7-B766-B1DB835298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B3CF2CF-A795-4CFC-8479-31FE3F6F6A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4EBF07C-DA59-4A11-9945-A1A6560597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660FF1A-6FA1-4F66-9B03-EB71F70135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5BFE0DD-2C9B-4CCE-B6AD-0D58AEC8AD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DB61D50-ABFC-4CE3-8FF9-99FBC8B4D1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2B5B156-32EC-4523-8E12-B115BE733E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D408781-6C17-4A37-A1DA-3902260440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A7EE1A7-A447-41F9-AB9C-81689D34AE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AD9CF34-8348-4463-A38C-B00D8321AD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3605AF2-A81D-46C7-B9B6-0A67D3E0D2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FC734D0-68CD-409B-B2E9-92BAF7AA881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1687CC9-627C-41B5-8DFE-81165FCFEA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BC3530C4-87F6-4923-9FE4-4B25ACAFD68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FD8AF56-2314-475C-B804-1862DC9A2C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7ECFF18-A1FF-4BBB-962B-D405E83A6B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30C6839-A8AD-4A10-999C-2C05E97E5C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5029C80-6E3F-4E73-8F2B-F051051CCC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4168056-694B-460F-A086-D2C7867562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7AE7984-CEDA-4B0A-AE27-9A290E8FA7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0D8D219-03AA-4BF5-B257-3E9B7AF131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3E57F30-617B-4AB3-968A-CFFDE7366F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7BE5521-19AD-4C7B-889B-B58CDB14AC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F9D46DD-30DE-4D2F-94AA-5AA5D18B54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9607076-08A3-4F0D-BB2E-7A32D15C8F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C0CBD2D-4371-4D84-AD90-3414A6934B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A6FCCA8-C576-472A-81E6-55E771F15B1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5FBE5AC-9F01-4D89-B132-D0BAF456D0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DD3464B-CEC7-4AA5-9960-05436A5ABE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4568E7D-205C-43FF-93EF-C93AFD239C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6E9761F-C8FE-46E5-A5AB-B8AF4B027E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79850C1-B519-4B6F-A985-B7747BC89F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5C616FF-A1C0-4DD7-8F9F-26FA3CEACA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B8A9678-F464-4B51-9189-C00536F9BD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27EB367-8E76-4329-B08F-F7336390D5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0A2FF0B-2058-40F5-889A-38339CB07D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B3E829B-F917-4509-9F1B-8530AA50FA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318FA65-92A6-4B0C-8022-A6B80BC5E7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98E241B-350D-4A74-ACB6-B0C80AC40D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EBA7BBA-E722-45EE-AB20-2D13EC30390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6C0E523-32EF-47E2-B5ED-655469813A0D}"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E1D5C39-032F-452C-B2F5-77B6380DE1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Steve  Armstrong</dc:creator>
  <dc:description/>
  <dc:language>en-US</dc:language>
  <cp:lastModifiedBy>Javier Bustos Jiménez</cp:lastModifiedBy>
  <dcterms:modified xsi:type="dcterms:W3CDTF">2007-04-23T14:50:29Z</dcterms:modified>
  <cp:revision>37</cp:revision>
  <dc:subject/>
  <dc:title>Consistency and Replication</dc:title>
</cp:coreProperties>
</file>