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27AFC-C85D-44FF-906A-F8991297B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CB377-1218-4244-B75F-13B9CD8E1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3DDD3-374A-40EF-B7A8-093E7648E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28C0C-4064-4A38-A86F-A15977D9C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E5AA9E-9CC2-48B2-993A-90D035B41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4CC30-75DF-4E72-BA99-7D4291DB9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9006E-6B91-43C4-8C9D-DBB82B325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41A2C-96F7-4493-9488-AB794260A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BD971-7345-4F39-8142-204BD44AA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56833-14C4-45EC-B6D2-13F231CF7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C9F4A-C51E-4349-8FB0-E78CDE3EB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1597F-3796-4062-AB3D-15E3DD9F9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EF705-80FC-4DD6-8F14-734EBE7CB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7C822-8D10-47E2-A3CE-0D7546401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116AE-84EC-4E7F-9DAB-CE19D1EC2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9ED6D-B9A2-4822-8CB0-2DBBE63A07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AE929-AA02-490A-A833-2D2C14D3C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07B16-FBEE-40BE-AADC-4E133875A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B2CFE-19D9-4AE1-854D-518FC0998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19861-9F7E-4586-A094-0D65CC391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89370-D410-439E-BC56-74F79E3EF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3DD9C-24DA-471E-8EB4-594469CED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B8D2F-624E-4C24-8BEC-0EFE6F167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7FA7B-17AF-4EC5-B71C-351BF14DF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6BC9-2D33-41A0-BCC6-D3AEA59D6DCA}"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F72D-B39D-4517-8DCD-A89A31CE51C3}"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D05D3C3-F60D-4BDF-B2D6-3568023669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302B2EE-D721-4999-BB29-56357E1B02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080B5A3-94CE-45E0-912B-75FFBAF13A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87888FB-26A0-4EC6-8981-17C895DCDB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D8E9C39-526A-4C50-891E-A1BC07744B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ADC85D1-76AB-485C-BE71-00E5438849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35EC7CB-1357-4095-A4B1-EE2A756677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1949393-B7DB-4C3B-B4D5-132C284223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7F38D76C-E295-485B-A3BA-8EF043DC33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E82217E-84EF-442D-9B82-9D2B8864D6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0D123FF-0374-4490-BC4E-42BFBD8D66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E233E79-9CED-4DED-A5A2-38FD528DA5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901444A-2CCF-4168-9F3F-E1FF01876C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E8F2EA1D-AC1E-49C8-89F7-7E2F24D292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7F40CCE-51DE-468F-AA5A-9254500E21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B368B6E-CB9D-4694-88E2-7AB5AADB92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90185FF-2598-466F-8432-752320D988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83A046F-DACA-45CE-B53D-AE60A7B17C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F7783A6-7AAA-4FB6-9D37-2C8A77C9D3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D7DB82D5-A003-4B2D-A1A7-603FDE0EC8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0F1E2DE-B0E9-4860-8CCB-D7C8D9B007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8A049A5-1893-45FB-B7A3-16A7B26517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E13568AF-47C5-4155-BCE7-872F13949F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2E17633-B6F4-47ED-9D44-4802AB28D0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8662ADD-8DED-43B1-8F19-568BB10B251B}"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7D30B6F-FD8C-426C-ADB7-341340AE0A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81B2233-9D7F-4FF5-9C57-2E9AC64551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78EDE8B-7D58-4232-85A2-3967086B04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48465CD-D3B0-49E5-A4D6-58B39099A8A6}"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D187E8B-9893-4B01-BB55-A00C31DFC209}"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766E42E-463B-448F-8225-83DDE58574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Munehiro Fukuda</dc:creator>
  <dc:description/>
  <dc:language>en-US</dc:language>
  <cp:lastModifiedBy>Javier Bustos Jiménez</cp:lastModifiedBy>
  <cp:lastPrinted>1999-11-27T07:19:44Z</cp:lastPrinted>
  <dcterms:modified xsi:type="dcterms:W3CDTF">2007-05-02T21:37:14Z</dcterms:modified>
  <cp:revision>893</cp:revision>
  <dc:subject>Process Migration</dc:subject>
  <dc:title>CSS434: Parallel &amp; Distributed Computing</dc:title>
</cp:coreProperties>
</file>