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AB253-42DD-4F6A-BCA0-23737723E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396D6-A0E5-4439-9A91-ADB1DF91A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A3330-E63A-4F99-A141-13EE82B08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93B23-17C3-4F27-9CDD-AA5EF686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1FA4D-53DE-4175-B8F7-D53707CF4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129B7-20DE-4079-9CB9-1272B882C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6DA0A-ADEE-4642-934E-DEB425801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6C876-36C1-40A9-8EF1-CDD1901BC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FCF3E-AD36-48B8-A9C9-582249112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BBB69-E6CF-407D-8AFD-4C236D79F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9281D-2304-4F50-9367-323ECE46A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9B67-F7BE-4078-8C3F-369E70CC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426D-640E-4B81-9B36-F74C01C9A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3197E-515B-414B-B4E5-E3A908A90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DA189-8697-47D0-9E62-4C99EEBF6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3DD5B-41F6-4537-8A31-8CBA87EFB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0CFC0-BAAA-480E-A943-BDB8D2F1B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CB3A7-D285-4FAF-AE49-FA9278D96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BBF9-C349-45CA-82B1-415D0B3DE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5724-FACF-40A1-936E-F56C7BBF5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80534-5AE8-4C0A-AD17-2F814C97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4D41-8EA0-4687-8666-71B8ECDD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B4CA-A96F-4879-9138-C85CEF557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8BBB-03AE-4A65-99E4-8758001CC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F4DC-26BA-4205-B798-83E6248B672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5282-FB4D-4C54-AE4B-C1479D55CC1F}"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1BDD4A7-34B1-4F3B-AF26-45DB8397B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6AB3782-E510-4C3E-B457-7D224F0DE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0CDD36D-0941-43B2-935A-77EC9CEB5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1366782-930E-4C5A-9914-098565AD64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CE03377-31A7-4189-8B59-93A561FA5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D437E9A-5C2D-44C9-B053-32C2D2502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91B1375-D85E-4092-9900-4F6B3C394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A1010EE-6975-4BAE-AAB2-7B168FBC05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7304F84-71DD-48D4-85F9-EF67C9DF6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FEBCA45-591A-48C7-8EA4-87FE57388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9E958FD-4DA2-40A9-A470-1E93980960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C51CC62-C1AD-4F43-9E86-CAC589F70B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14FD431-3824-4D65-B62A-697B53EED8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0E90781-9BD3-4AB0-ACF2-404970532C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EFC324C-86B7-48EA-9688-7E464DBB5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EBAF495-12DE-4758-8802-9A6C3E3B3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2CB1424-1C01-4F1B-B561-E3D13F083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088E479-78B7-47A0-ABA9-593EED007E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4EE125D-E36F-48A5-A172-14B1559FB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FA90455-F9E4-452F-9D42-70894844AC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FBA6473-2526-4E3D-9195-941002A7A8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DF00040-7772-4081-ACA3-64EE400FF3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5A3FACB-CA10-408B-90FF-91C471141A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6A3CD79-E221-4AF0-A138-BCBCE1D4F5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3B1378D-EEC3-4EF4-996E-150C811A461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A59C615-08B1-4CFC-9BC3-D815F53D0C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A0D0B5E-D56A-4DD0-9301-864F57777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F7B1BE4-F04E-420C-A224-E057580DFB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1D76C9A-AB04-4BF2-BA44-02063A1FC581}"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3EEB65C-2A4B-4395-8663-C9FC327ADA29}"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E490D54-D468-4136-B98E-DD626E44D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Munehiro Fukuda</dc:creator>
  <dc:description/>
  <dc:language>en-US</dc:language>
  <cp:lastModifiedBy>Javier Bustos Jiménez</cp:lastModifiedBy>
  <cp:lastPrinted>1999-11-27T07:19:44Z</cp:lastPrinted>
  <dcterms:modified xsi:type="dcterms:W3CDTF">2007-05-02T21:37:14Z</dcterms:modified>
  <cp:revision>893</cp:revision>
  <dc:subject>Process Migration</dc:subject>
  <dc:title>CSS434: Parallel &amp; Distributed Computing</dc:title>
</cp:coreProperties>
</file>