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1BAB0-4FA0-4BB2-A8E7-440F35500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7E377-9FA8-4401-86C4-FEA8C5CED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96747-F808-4A27-B48A-A33A37A8F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B1F0F-3C3F-4A09-BAA9-9CB042D67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5FBEF-2020-4608-942C-2125B817F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95898-5B9B-4FF5-BCFF-FDBDCEC29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86BC5-CF70-47A4-8E84-7FC1DD2E0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2E28C-30DD-4851-A57C-C63E9BABB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01072-19E9-4D58-A1F9-614AF866F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C8D2A-D424-48D1-8B93-7BEF7B6F2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9135F-5BD6-4977-9BB4-B73FC1C54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D4D65-4324-455D-9D17-276783ECD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3E657-CE8A-4452-9010-C13562CF1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2B341-45BD-45AA-83CC-0EAE0C50E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F99A4-B54C-4278-84CF-3A794E167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C9039-2BFA-473F-938B-10C87EB0B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9723F-4AFC-42C4-9F75-0914547D0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7B6D0-AF9B-4ABE-99BC-648A32CC3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56C79-F1BA-4C8A-B9CD-19643609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51E3-9372-474B-8D4D-96867B858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12DB8-6D0D-4031-B3A4-8F9073F19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FCD7-8192-48EF-B1A6-369F856A0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C8263-AE00-4929-B56F-582794D86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2157-17A3-4B51-BE6D-66F7F9804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70A9-DE50-4A13-B202-424178328D4C}"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9D5A-1983-4236-8788-80981C5C0EB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F35D178-5E1C-4555-9AE3-18ACF76E62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D4FBD8E-EC21-4088-84AF-878358B6DF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A554A7F-DB39-4034-92C0-9DAE2A7607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229880D-8A3A-482A-9AB6-D8963BFEFB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D7B9BB2-8779-4866-8FA8-5C451B363C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11480A1-BFD3-45C9-BE25-7CFA18D419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72A2946-43DD-4D4A-AA48-91BAD8E3FE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CEB99F0-DB2C-40B4-9753-E1B14D5E76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9B1B551-1E44-40B4-8FD9-A5E48D82BF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925EC8C-9213-4274-8268-B1FD89959C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629AED1-F9BD-49C6-A21A-999D5F93B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ED3C6A9-8908-4090-A9EC-779C63170F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F589179-94EF-4A94-81CE-C4117CC071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FDFCE90-FB81-4577-B2D8-8DE9AEEFB8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18AC20E-1491-443D-8700-4F4CAD79B0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6A389C8-B002-4C4E-A7B3-4EB0820247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BF63BEB-14DC-4D38-AF45-A43A47973D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C35B128-A871-478B-B26F-631F22DCAD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D3ABC7C-A4FE-471A-BF97-3BDC58A02F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C0587A6-329F-4151-A8FC-CB1266B74F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1938B75-A4D0-4856-AE60-1C091B9D3C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D6D485C-45E3-42FD-8D20-38181A3571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B07F986-506D-4886-85E7-05E5CB894D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98C492B-FC2C-4496-B7BC-513E9AA35F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5459B85-8F3A-49D4-8333-43DBA744550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47D472A-3D29-4976-BD68-9710D34D5E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35F6E32-0867-46CC-8552-ED4A96AD77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4A75CC5-292D-4C71-B7A4-C20B505113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CDE5179-3646-4E01-984B-92B370604609}"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17B4793-7216-4DC2-83F3-A82BCBA13E2F}"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23D46D5-8DE5-470D-B236-F9FCC0608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Munehiro Fukuda</dc:creator>
  <dc:description/>
  <dc:language>en-US</dc:language>
  <cp:lastModifiedBy>Javier Bustos Jiménez</cp:lastModifiedBy>
  <cp:lastPrinted>1999-11-27T07:19:44Z</cp:lastPrinted>
  <dcterms:modified xsi:type="dcterms:W3CDTF">2007-05-02T21:37:14Z</dcterms:modified>
  <cp:revision>893</cp:revision>
  <dc:subject>Process Migration</dc:subject>
  <dc:title>CSS434: Parallel &amp; Distributed Computing</dc:title>
</cp:coreProperties>
</file>