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4441F-6147-4237-BEAE-BBE04DCF4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E9369-5520-4AAD-AE71-50F6AADD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7D251-7549-43C9-A6C0-E6AA154C3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2149C-B9B7-4E64-BB86-05CC03291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74766-B3F8-4E58-A9CC-21D24977F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96235-B8DC-4723-8954-7BC9FCBA9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50D44-DCEF-4E8A-AC5C-8751D2EBA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964B8-9E84-4999-AA6A-85550DEF0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D9A82-1E3D-42FE-B93A-86A3A4C27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DAE1-E572-4A30-BB6F-325B782A8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CED01-9E77-4E14-97DF-D787CD9FB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3B723-2BBE-44CC-96E6-B3361193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3FF9C-8E9F-4A41-A486-B51CED0E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4FBAB-8900-48F0-9263-46E68E14A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DCC98-49DB-4AD2-A081-A5B473990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A3E52-E35F-444D-AC4D-E6C840686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D9B9F-F6F7-4377-B1CD-79BCFB319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D9027-ADE7-4AC0-94AD-3CC53D05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4D39C-D38F-495D-AA79-D2868313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CEDF2-45D5-44C7-8033-03A902DDA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6671E-D992-499F-B6A4-DB5160E0A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D2E4-70F0-4B85-995A-3D02BDE3B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1603-4DAA-4441-86E6-55B4FD0D3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632B-3338-4269-9DFC-D8CF352CD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51A5-A663-4F8B-B30F-3445D32088C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A8EB-B7C1-4DF3-B806-46AD7219389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19DAFDA-91F0-4F8B-9193-444CF11E1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04CB8DE-C783-480A-8EEC-0F27DADC3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F52CF3B-39D8-4564-8B74-3CACD4E2F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01C915B-347C-4E2B-8BB4-AC358290B5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97F0E43-24B0-45C5-9ABD-3908E7540A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525CE10-274E-4BFA-A7FD-CBD50537EF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731B408-3D79-42CC-94E5-945E71CDB6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666E417-FDCD-4CF1-AD8A-DD1599C5BE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C67CB91-18B5-4672-9786-BB4B3F81DF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F56DAC0-8175-4D46-A22E-C76FEC51F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DD68AF3-D889-4DCD-A2DD-5AEBA4F68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645B522-DD80-4387-B1C5-12B91B9BB2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6F569F0-5179-486F-8819-96BF2492A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DABDA0D-6FFD-46B1-A553-D8CD759E19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671B5F6-EFE3-4FFB-9C96-41267C4756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E5AF0C1-8C0E-484A-B2EC-A1D9AE71E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76F5467-90BC-4CC0-A43A-689830CD0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A940EF3-7240-4A6B-9224-CE77B09588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64B47BB-DBBA-466C-992D-EB2A9B75C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F4436A1-D32F-4C3C-93FD-FA76AD68A1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305EB61-0A8C-41B8-AB5B-A26473D0E9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197C20C-18C0-4D69-9823-E3EC1F7E39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31EE85C-C997-4F1F-9197-52976B213D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A735272-2E91-441D-ABBA-E41708B3C3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30275D4-7241-4622-B258-843FED5583B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6E8131B-B566-4DB0-8C24-ED33BEA70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F480CF0-3118-4789-9D7A-E6B923AF2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0942A67-09B5-4622-9AFD-0DCFE4144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F3CEDD8-B87B-40B0-886B-2F402049EA2B}"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DB0D4A7-35E3-428C-997D-AD84509A6696}"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F5F86DF-D6D4-487A-ACFF-E6200875D0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Munehiro Fukuda</dc:creator>
  <dc:description/>
  <dc:language>en-US</dc:language>
  <cp:lastModifiedBy>Javier Bustos Jiménez</cp:lastModifiedBy>
  <cp:lastPrinted>1999-11-27T07:19:44Z</cp:lastPrinted>
  <dcterms:modified xsi:type="dcterms:W3CDTF">2007-05-02T21:37:14Z</dcterms:modified>
  <cp:revision>893</cp:revision>
  <dc:subject>Process Migration</dc:subject>
  <dc:title>CSS434: Parallel &amp; Distributed Computing</dc:title>
</cp:coreProperties>
</file>