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00E6E-BDF7-4A35-B5F4-8E0A02D5F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ADB3C-8BBE-4616-BBDD-CCB278BB1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1A4C7-AD65-4DBC-A66D-54D0DC77C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F9621-5F68-481A-94A0-561816B5B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259C50-FE7B-421A-BE33-567DDAAEC3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81E9F-09CD-4E15-8D63-BE6A7F5C7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F7B3B-255D-41DE-A594-6B2295784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F261D-28C7-493E-A47A-FC8950265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25B55-F286-4D1F-8263-5793D38A5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3B437-A3B6-4048-AB82-4DA1FDB46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66512-ED55-4A61-B900-D1F906021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206FD-8675-4A79-A655-108993303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BEABC-42AA-42A1-B4BC-6EA3F203E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71174-EDEE-440D-BF5E-E9DF221EA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CCCA5-A0DC-4738-A9A0-A123FE232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D47AEF-FF94-4AAE-8A1C-BE13C8334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30E71-B20C-4B3C-8311-50B7A6B6ED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D7C4A-49DB-4859-9BC3-2C68E5CDB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02C9D-2690-4BE0-B3C2-1962D4ED7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7A3E0-5CA2-49C0-94ED-76737292D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07EDA-804F-4281-B395-E9B1A093C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E1159-A4D9-4014-9D6E-9CC4D8E8E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781D8-1952-486C-9EBE-5A9519656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79287-8D04-4965-92AF-61088239A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A3A9-588D-4E04-A854-9D25AE4BFD8E}"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59605-57C8-4167-B239-C2B205BA356E}"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02D3D05-9538-4684-B006-88F161908E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9BEC080-6541-4A00-809E-BF64412F6C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7BF00E3-6630-4721-85B3-E7AFC0F503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1DF878C-4EAB-4ED7-B49D-A5FF8F92CC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9ACF80D-754B-412D-AB04-0294E135DA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B1BB9A0-60EE-4655-A7E1-9CAEC7FBC4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0E8B6CC-9E05-4CC8-A8F0-8D64AB47B5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06CF9CA-7DD1-4011-980E-3B87E52772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6CD9EFF-5A8B-4144-9395-01627DBD77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A8C8416-8034-4D72-A7C5-5601EEE89E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4F586FC-0297-4C00-A647-E70301B717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CCAC1C9-99FE-4AEA-B07C-50165A0169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25539E6-388D-4DA3-8289-D006E0522E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DD95061-9D83-477C-87C1-CD8266F04C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3339F05-1353-4D0D-AC7E-8B22152621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AF293CF5-8720-4896-BCB3-5FE0E2DF35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F2D2613-BF10-42F7-BFD2-F50F5C4F6A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75847F9-58BE-4D6E-A728-8502DAB648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02ABA0B-EC93-415C-A90F-05435D7377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C0645787-B9BE-450E-8D1F-77464E9585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4F8D6EC-A9D8-4894-921F-99BB32290B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2081EC2-7ACC-4273-901E-046F945A5D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1BDD847-C247-4691-958A-1939CD8AC2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F07CB1B7-53BD-4D08-97CB-E3F6CDFADF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9E3367DD-2B3A-4390-8BC9-14BE62F827EC}"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DB108EA-1E10-4884-9342-9311EC51C2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5AD5ED9-A74D-4A5C-9EB6-A849409B5C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C8F04A8-5DF8-4635-BA63-A360EDA22E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3199C6A-AE2D-4C10-9BFD-57921CCF8D44}"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8947833-DD29-409E-B883-B08B9C335650}"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A02D4BE2-C732-4369-89BD-25F0245458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Munehiro Fukuda</dc:creator>
  <dc:description/>
  <dc:language>en-US</dc:language>
  <cp:lastModifiedBy>Javier Bustos Jiménez</cp:lastModifiedBy>
  <cp:lastPrinted>1999-11-27T07:19:44Z</cp:lastPrinted>
  <dcterms:modified xsi:type="dcterms:W3CDTF">2007-05-02T21:37:14Z</dcterms:modified>
  <cp:revision>893</cp:revision>
  <dc:subject>Process Migration</dc:subject>
  <dc:title>CSS434: Parallel &amp; Distributed Computing</dc:title>
</cp:coreProperties>
</file>