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833-C3B8-44B6-B88C-9AEE74D2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F726-0849-4AA0-92FB-5523B4CF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C25-A31A-4C7B-88A5-386890B5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FDEE-022F-4EBA-AE6D-C6EE4508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B585-EE3D-4B2A-86BB-265A24E1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C3ED-7993-4D60-8409-BFBF4952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6110-EB4E-44C9-8EDF-3935A28E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D7F4-ABD9-4B69-895F-B4622BAF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BD77-C2F3-4C10-831A-4A00FF2C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D350-0788-4620-879F-95A25F5F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28F8-2F80-4051-9D1C-F343932B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99A-BA3B-49B0-89CB-227E9D95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3C5F-088B-4B39-8195-1179A2CD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E796-7BDE-4C9A-A19E-17235DB4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7E51-AEA0-40EE-B781-EB435326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E9F7-F9BC-4610-8206-D85ACBB3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1052-7796-4D76-B191-EADD135D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5407-F676-4510-89B8-AF6FAA8D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BA6F-82AE-4E44-B985-FFBD58F7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74A8-DC13-4184-B3EC-BEBFFA5F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11F-0BDE-444E-995C-E412C92A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8083-98FC-4998-A7DE-4EFA3739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FDC1-CCD1-4F67-984B-1B879FAE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C2C4-3ADA-4F47-86A6-182405E3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90E9-42D2-44B4-9FF3-FCD4AB5CE55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E646-F6B0-4F9C-ACF7-102EF93E357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8/UDP_encapsulation.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.bustos@inf.udp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gramación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istribuidos típ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es de sens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5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76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epaso de red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98" name="" descr="The OSI Mod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6385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4724280" y="3809880"/>
            <a:ext cx="4114800" cy="23338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684400" y="306216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odel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 de Red: Internet Protocol (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6816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Transmission Control Protocol (TC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293840" y="2602080"/>
            <a:ext cx="731664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User Datagram Protocol (UD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5257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odelos de 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ipo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unto a punto (un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ltipunto (mult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s de inter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iente/servid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Peer-to-p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ódigo móv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ecnologías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so de mensajes: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cke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lamada a procedimientos remotos (RP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vocación de métodos remotos (RMI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ecnologías de objetos distribuidos: CORBA, DCOM, EJ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rvicios web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Javier Bustos Jiménez</cp:lastModifiedBy>
  <dcterms:modified xsi:type="dcterms:W3CDTF">2008-07-30T13:13:51Z</dcterms:modified>
  <cp:revision>125</cp:revision>
  <dc:subject/>
  <dc:title>Sistemas Distribuídos</dc:title>
</cp:coreProperties>
</file>