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412-5D04-480B-B1D2-AE405F20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51E-946B-4A3E-9638-30DB8A6F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856-F2B9-4851-95F5-55280E7A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8A7-B8B7-4BE0-B86B-44C20261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000F-51D6-4E6C-9947-B62E321F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25C5-F17F-4E96-8904-0165E11E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0DCA-2ABF-44CB-B8AD-15514AB2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547B-BAE3-45C5-BF5F-716BCBBC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ADF3-E533-45B8-8D0B-F061CC43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95AF-A8DC-44C2-9D2C-1FD7C036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9D02-E36F-42F7-A501-E86311FB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C21-FCC9-4630-AE2F-F412842B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9AB5-FFE4-4127-A77E-B389B0E4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1AB2-9458-4B83-B108-C03C097F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9530-3DDC-42EF-889C-E997BC0E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93F6-3EEB-4AF9-94E8-2F516C04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1A9F-5859-43B8-A237-02D99DE7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C3E-2EEC-4F1C-A0D8-748320D3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32D-9E28-49AC-9DD5-40148A58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AF1-C6E5-4DD1-AB88-EDC6E794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388-856D-4DFC-A7DF-27C35CBA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541-2D73-449C-85E4-B8C36E2A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A76-9D14-46A6-8317-9E6A0405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B78-5855-4DC9-97C4-ABCDBE3B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D66F-10EB-4CDF-A53E-A7A43ADB8D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2F33-6A89-4228-A15A-104942403EA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8/UDP_encapsulation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.bustos@inf.udp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gramación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istribuidos típ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es de sen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5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76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epaso de re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98" name="" descr="The OSI Mod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6385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14800" cy="233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684400" y="306216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el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 de Red: Internet Protocol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816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Transmission Control Protocol (TC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293840" y="2602080"/>
            <a:ext cx="7316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User Datagram Protocol (U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257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odelos de 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nto a punto (un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ltipunto (mult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inter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/servid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ódigo móv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cnologías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so de mensajes: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lamada a procedimientos remotos (RP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ocación de métodos remotos (RM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cnologías de objetos distribuidos: CORBA, DCOM, EJ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rvicios web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8-07-30T13:13:51Z</dcterms:modified>
  <cp:revision>125</cp:revision>
  <dc:subject/>
  <dc:title>Sistemas Distribuídos</dc:title>
</cp:coreProperties>
</file>