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562-A536-445C-A6DE-29F2C644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CDF-B8C1-4496-A821-549843FF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5D7-82DC-48A5-826E-C36EC35A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CA7-0ABC-49C9-940A-C7429448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23A-E6DB-44CB-B312-F18B55A3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C39C-41B9-4695-AEA0-1900997A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D466-8DAA-48C5-8D94-51D11D9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FE7-599C-421E-BF0E-A78F916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58A2-3474-4138-840C-BCCCB28C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321E-C201-4774-A796-7D3B40FB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E31-AC41-4FDC-AD1B-E9750E7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C62-8E80-4B91-8F25-551C57CF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46B-51BE-425D-B75F-0764EE8A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F366-3FC5-4F4B-8F78-3A8E69E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F915-30A4-4BA1-AF97-09E26F05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6202-7C92-4406-8F32-9E248B6F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997A-160A-4F53-8524-5F06CC12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74A-E519-4FE4-96FD-6BCD8725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F9F-88A9-4505-B740-5D9670F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CAE-E16C-4252-A905-37B6590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74B-46C2-430E-877F-9D24A974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1B5-2EE4-45B5-BE16-1244EBF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8DA-E7B2-410C-B693-4AF10A0C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D9B-4178-448E-8168-7E8F214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9F5D-118C-428F-A74D-F0A4DA07A3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DE16-2858-4A84-9B8B-DA9D4A73F3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5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76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98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684400" y="306216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ata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7-30T13:13:51Z</dcterms:modified>
  <cp:revision>125</cp:revision>
  <dc:subject/>
  <dc:title>Sistemas Distribuídos</dc:title>
</cp:coreProperties>
</file>