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A6B-53E1-43BA-8EBA-213D7EBC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FF9-A0DC-44B8-889B-CF8C0DBF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2DC-B639-407C-BFAD-E2AD1F56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FDA-CCA0-4989-8839-4B323B6A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AB8F-B376-4267-83D0-4E077DA1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E2E2-3F26-4967-84AB-32B28114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1ADE-5DDE-4ACC-8D2A-2319D1D3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3D0C-D9C7-4A09-91FF-73983F8F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8DB3-949D-4AED-A4EA-76115EA3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E8C1-847E-49E2-85CF-B20205FC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8A16-ED68-4965-B8D5-C9FC9923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622-D632-46E0-BF68-9A07FAC2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6D8E-3863-487F-9E83-E3FD7BEA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3CC8-EACE-4C84-80EF-7865F6DA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3472-6B0F-4C5C-9BA2-A3177B45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9F91-D30A-4B2A-96D7-1B9D96F6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0030-3E9D-4F4F-AEAC-8F462B17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6F4-EF7B-41EF-89DC-88D96E41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73A0-741F-4A87-8E29-B4D6EE5C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29C-F806-47A8-AD4C-AD28B9C9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382-86CA-4B92-8E9E-A9E20940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D95-6648-4FE0-B365-572D37F9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E31-2542-4475-8F75-641E1CCE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954-F5E9-4117-B2CC-08B651F4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1D5A-47BE-4BC5-9388-85748D6284B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2FFC-C9B4-4754-8AA3-E86B6957E96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8/UDP_encapsulation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.bustos@inf.udp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gramación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istribuidos típ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es de sen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5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76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epaso de re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98" name="" descr="The OSI Mod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6385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14800" cy="233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684400" y="306216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el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 de Red: Internet Protocol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816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Transmission Control Protocol (TC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293840" y="2602080"/>
            <a:ext cx="7316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User Datagram Protocol (U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257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odelos de 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nto a punto (un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ltipunto (mult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inter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/servid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ódigo móv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cnologías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so de mensajes: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lamada a procedimientos remotos (RP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ocación de métodos remotos (RM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cnologías de objetos distribuidos: CORBA, DCOM, EJ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rvicios web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8-07-30T13:13:51Z</dcterms:modified>
  <cp:revision>125</cp:revision>
  <dc:subject/>
  <dc:title>Sistemas Distribuídos</dc:title>
</cp:coreProperties>
</file>