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2.jpeg" ContentType="image/jpeg"/>
  <Override PartName="/ppt/media/image4.png" ContentType="image/png"/>
  <Override PartName="/ppt/media/image12.wmf" ContentType="image/x-wmf"/>
  <Override PartName="/ppt/media/image30.jpeg" ContentType="image/jpeg"/>
  <Override PartName="/ppt/media/image7.wmf" ContentType="image/x-wmf"/>
  <Override PartName="/ppt/media/image29.jpeg" ContentType="image/jpeg"/>
  <Override PartName="/ppt/media/image13.wmf" ContentType="image/x-wmf"/>
  <Override PartName="/ppt/media/image27.png" ContentType="image/png"/>
  <Override PartName="/ppt/media/image33.jpeg" ContentType="image/jpeg"/>
  <Override PartName="/ppt/media/image8.wmf" ContentType="image/x-wmf"/>
  <Override PartName="/ppt/media/image9.wmf" ContentType="image/x-wmf"/>
  <Override PartName="/ppt/media/image32.jpeg" ContentType="image/jpeg"/>
  <Override PartName="/ppt/media/image6.wmf" ContentType="image/x-wmf"/>
  <Override PartName="/ppt/media/image11.png" ContentType="image/png"/>
  <Override PartName="/ppt/media/image34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35.wmf" ContentType="image/x-wmf"/>
  <Override PartName="/ppt/media/image5.wmf" ContentType="image/x-wmf"/>
  <Override PartName="/ppt/media/image16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D52-6528-485B-92D5-71C97048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ADD-FE38-486B-8FC0-C2C05634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30C-EEC9-405E-BB5E-71E5BB03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4D8-636B-44F8-91BD-F1CB8257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880-A1D1-4729-ABAF-773CD4C5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602-F8D9-4739-9E55-1650375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7E3F-1FD0-42AC-8E26-E0ABB375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D23-64D0-48BD-BBC8-138DEE5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380-E843-48D7-ABCB-2EED600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D5B-60AF-4394-BE0B-669D8F04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3C7-FC48-4AF3-87AB-64FF7DFA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F52-02E8-4ADF-BD14-4132A8EC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E881-B6E3-4C0A-BA56-E840E26B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ep algorithms for refinement / derefinement of trian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ría –Cecilia Riv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iversity of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AC7-D4AD-43DF-879E-B9C953D8492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xample: Use of a longest edge refineme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46280" y="1600200"/>
            <a:ext cx="76500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98C-612C-4B52-8266-F8E82A83F7F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refinement algorithms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1557360"/>
            <a:ext cx="7848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rst longest edge refinement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veloped for solving TRP I and  TR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developed for implementing adaptive multigrid software for finite eleme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based on the properties of the bisection of triangles by the longest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 edge Lepp bisection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mproved formulation of previous methods in terms of the concepts of terminal edges and Lepp-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use local refinement operations and maintain valid trian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9549-02AC-4ABA-9F77-FC0B7603DB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refinement algorithm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557360"/>
            <a:ext cx="784872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properties of the longest-edge bisection of triangles in 2-dimension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iterative bisection of a triangl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roduces son triangles t such that smallest angle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mallest angle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number of non-similar triangles is p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senberg-Stenger 1975, Kearfott, Stynes 1979, 1980 Adler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other kind of improvement also ho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884-1856-4AC8-8B09-D52C637E10E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refinement algorithms (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557360"/>
            <a:ext cx="7848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d for finite element applications in 2 and 3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hms behave well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mathematical properties have not been proved in 3-dimensions (Open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6CF-6010-4D9B-841E-819EF00E281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Quality triangulation problem (QT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lanar straight line graph (PSLG) geometry 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iangle quality measure q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 = minimun angle of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gle toleranc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triangulation T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covers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q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has optimal size (minimun number of vert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E9F-2325-4BDF-BFFC-D8821C3D33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cremental algorithms for quality trian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put (geometry D, angle toleranc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constrained Delaunay triangulatio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f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re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lect a point P for triangl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form constrained Delaunay insertion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ops when, for each t in T, smallest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pp-Delaunay is an incremental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CBD-FA10-4C42-ACBD-7A6F5D96EC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733920" y="251460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1712880" cy="1905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4640" y="1052640"/>
            <a:ext cx="77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pp-Delaunay: automatic quality triangulation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48360" y="4427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62E2-3373-480F-A386-2F9F5FB3084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04360" y="2370240"/>
            <a:ext cx="6738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hematical properties of the long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dge bisection of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BF2-148C-4D3C-B05F-6663E3BF7D3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hematical properties of the iterative longest edge bisection of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study the process of generating new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pler and stronger revisite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uld these techniques be generalized to 3-dimens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introduce a classification of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. Gutierrez F. Gutierrez MC.Rivara, TCS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5EE-D6B6-4967-ABBC-642F16DD6D0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66960" y="1671480"/>
            <a:ext cx="7210080" cy="305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97840" y="906480"/>
            <a:ext cx="676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lassification of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of triangle AB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F1B-1FCF-40F2-A3FB-AF78BD434CD8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tivation, problems and algorithms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riangulation refinement problems (TR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quality triangulation problems (QT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roduction to longest edge algorithms for T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troduction to incremental Delaunay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thematical properties of the longest edge bisection of tri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pen problems on the longest edge bisection in 3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minal edge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pp bi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epp Delau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pp- bisection (terminal edge)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themat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ght triangle bintree triangulations and multiresolution represent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pp Delaunay algorithm for the quality triangulation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 a generalization of Lepp-bisection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thematical prope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811-E405-4B19-907E-5134B219B2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057880" cy="2305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19280" y="285264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tep of type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924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tep of type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3429000"/>
            <a:ext cx="6480000" cy="26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ep of typ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es 3 non-similar triangles, and stops inside triangle D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study bisection of triangle A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tep of  type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es 3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study bisection of triangles ADC, C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80200" y="349200"/>
            <a:ext cx="669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e consider two kind of partition ste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C07-3A71-4183-949F-872FB6EDA2F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210440" cy="5344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5840" y="351000"/>
            <a:ext cx="585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sification of triang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longest edge AB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tion of vertex C defines regions I to 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545-D8DD-422C-A1BE-2EC2EF8FDD97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115240" cy="6010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94680" y="351000"/>
            <a:ext cx="62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sification of triangles of longest edge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d partition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3FDD-82BA-4BB6-A388-1ABCAA88441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cent result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iangle behavior wrt longest edge bi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most produces 4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most produces 5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w triangle ADC is in region II or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.7 log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 6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teps, the only new triangle is in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IV or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fter no mo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2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teps, the only new triangle is non-obtuse (in I or II or 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 in region 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w triangle is in reg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3FA-FA96-4D31-98E9-AFD8077F902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5353200" cy="2971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35480" y="276120"/>
            <a:ext cx="354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les of region 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836640"/>
            <a:ext cx="750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terative longest edge bisection of triangles of region I (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st) produce four non-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epting the first median, the new edges are parallel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le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F81-C5E7-4FB1-AF40-F3ACF603C9BA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56000" y="907920"/>
            <a:ext cx="396216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15080" y="228600"/>
            <a:ext cx="60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ted graph illustrating Theorem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4437000"/>
            <a:ext cx="75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w triangles follow the path in the graph possible staying in the nodes several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utierrez-Gutierrez-Rivara, TCS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016-DFAD-475A-AB31-8492200B6AAE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09320" y="204840"/>
            <a:ext cx="445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lassical results revisi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1125360"/>
            <a:ext cx="75614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ny new triangle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Smallest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mallest angle (ABC) 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2) For triangles below arc C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obtuse 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Smallest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mallest angle (A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) Define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 the maximum longest edge of triangles of level j of the bisection tree.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 2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–j/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small constan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3E9-A635-486D-9CAA-CB181A10BE25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14000" y="204840"/>
            <a:ext cx="472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of Sketch of Theorem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125360"/>
            <a:ext cx="756144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1) and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only case where smallest angle diminishes is in region I (quasi-equilateral 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worst case is the equilater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es the area of triangle ABC and its bisection s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each bisection level, the area decreases by a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8F6-00ED-4614-8A89-4D203F8E1851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43680" y="2565360"/>
            <a:ext cx="6870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in 3-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d open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85B-D998-4951-B778-FEA35DBD168C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07160" y="204840"/>
            <a:ext cx="687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in 3-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1413000"/>
            <a:ext cx="7561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nd midpoint P of the longest edge AB of tetrahedron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isect t by the plane defined by P and the two opposite 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3500280"/>
            <a:ext cx="2735280" cy="1224000"/>
          </a:xfrm>
          <a:custGeom>
            <a:avLst/>
            <a:gdLst/>
            <a:ahLst/>
            <a:rect l="l" t="t" r="r" b="b"/>
            <a:pathLst>
              <a:path w="1723" h="771">
                <a:moveTo>
                  <a:pt x="0" y="454"/>
                </a:moveTo>
                <a:lnTo>
                  <a:pt x="453" y="0"/>
                </a:lnTo>
                <a:lnTo>
                  <a:pt x="1723" y="454"/>
                </a:lnTo>
                <a:lnTo>
                  <a:pt x="680" y="771"/>
                </a:lnTo>
                <a:lnTo>
                  <a:pt x="0" y="45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3500280"/>
            <a:ext cx="647640" cy="1224000"/>
          </a:xfrm>
          <a:custGeom>
            <a:avLst/>
            <a:gdLst/>
            <a:ahLst/>
            <a:rect l="l" t="t" r="r" b="b"/>
            <a:pathLst>
              <a:path w="408" h="771">
                <a:moveTo>
                  <a:pt x="0" y="0"/>
                </a:moveTo>
                <a:lnTo>
                  <a:pt x="227" y="771"/>
                </a:lnTo>
                <a:lnTo>
                  <a:pt x="408" y="4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68360" y="422100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88920" y="4170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44560" y="3881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5080" y="41497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06840" y="418140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14880" y="46864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D8A-0E07-4F36-A7CC-5AF82D8FE270}" type="slidenum">
              <a:t>2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tivation, mesh generation problems and introduction to the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CD6-A473-4A53-AF4F-15C51102370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07160" y="204840"/>
            <a:ext cx="687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bisection in 3-dimen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125360"/>
            <a:ext cx="756144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n question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n the iterative longest edge bisection of a tetrahedr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 we state a bound on the solid angle of the tetrahedra gene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n we state a bound on the tetrahedron quality using another qualtiy meas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es a finite number of non-similar tetrahedra exist, for any tetrahedr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s more difficult to deal with than in 2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555280" y="3645000"/>
            <a:ext cx="2996280" cy="703800"/>
            <a:chOff x="2555280" y="3645000"/>
            <a:chExt cx="2996280" cy="703800"/>
          </a:xfrm>
        </p:grpSpPr>
        <p:sp>
          <p:nvSpPr>
            <p:cNvPr id="141" name=""/>
            <p:cNvSpPr/>
            <p:nvPr/>
          </p:nvSpPr>
          <p:spPr>
            <a:xfrm>
              <a:off x="2555280" y="3855960"/>
              <a:ext cx="103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q(t) =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59400" y="3645000"/>
              <a:ext cx="189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olume of 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longest edge)</a:t>
              </a:r>
              <a:r>
                <a:rPr b="0" lang="es-ES_tradnl" sz="20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6160" y="400536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B00-E17A-4F7B-9A8A-A6745A0E8B30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404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rical and theoretical evidence in 3 -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1840" y="1119240"/>
            <a:ext cx="794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1052640"/>
            <a:ext cx="7848360" cy="56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bisection algorithm and previous 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ve been sussessfully used in practice in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mesh quality is reasonably  good as the refinement proc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ave been parallelized and used for the generation of huge mes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 small number of tetrahedra, it has been proved that a finite number of tetrahedra is gener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 symmetric longest edge bisection, the equilateral tetrahedra produces a finite number of tetrahe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. Gutierrez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In the triangular faces of the tetrahedron, the 2D algorithm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B04-9BE7-4579-AD9A-1CC5ED8ECA2E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050920" y="2997360"/>
            <a:ext cx="47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edg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840" y="1119240"/>
            <a:ext cx="7940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9AC-9CE5-428E-A7D3-983DDE9063F7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 edge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bisection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Delaunay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grated formulation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ving TRP I and TRP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ving the quality triangulation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mulated in terms of Lepp and terminal edge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00B-7177-41B2-B1D1-F14FDF702B3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6880" y="692280"/>
            <a:ext cx="684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-Edge: key concept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h improvement and mesh refin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48200" y="2208240"/>
            <a:ext cx="631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-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triangulati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ecial edge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longest-edge of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ment that shares 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519360"/>
            <a:ext cx="1066680" cy="60984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288"/>
                </a:moveTo>
                <a:lnTo>
                  <a:pt x="240" y="0"/>
                </a:lnTo>
                <a:lnTo>
                  <a:pt x="672" y="96"/>
                </a:lnTo>
                <a:lnTo>
                  <a:pt x="432" y="384"/>
                </a:lnTo>
                <a:lnTo>
                  <a:pt x="0" y="2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657600" y="367200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6720" y="33577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59568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422100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star: set of elements (triangles in 2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hedra in 3D) that share a  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vara 1996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7B92-D52A-4616-A831-5776BBA7D900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25880" y="1773360"/>
            <a:ext cx="5702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Propagation Path (t)      Lepp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th of increasing triangles by the longest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20760" y="2895480"/>
            <a:ext cx="2561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{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89548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92"/>
                </a:moveTo>
                <a:lnTo>
                  <a:pt x="96" y="0"/>
                </a:lnTo>
                <a:lnTo>
                  <a:pt x="624" y="0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28954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192"/>
                </a:moveTo>
                <a:lnTo>
                  <a:pt x="96" y="624"/>
                </a:lnTo>
                <a:lnTo>
                  <a:pt x="624" y="0"/>
                </a:lnTo>
                <a:lnTo>
                  <a:pt x="1056" y="288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3352680"/>
            <a:ext cx="1524240" cy="83844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336"/>
                </a:moveTo>
                <a:lnTo>
                  <a:pt x="720" y="528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55000" y="28306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5500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712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7120" y="37450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24240" y="3821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0760" y="31352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1040" y="421308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3733920"/>
            <a:ext cx="317520" cy="533160"/>
          </a:xfrm>
          <a:custGeom>
            <a:avLst/>
            <a:gdLst/>
            <a:ahLst/>
            <a:rect l="l" t="t" r="r" b="b"/>
            <a:pathLst>
              <a:path w="344" h="384">
                <a:moveTo>
                  <a:pt x="0" y="384"/>
                </a:moveTo>
                <a:cubicBezTo>
                  <a:pt x="116" y="320"/>
                  <a:pt x="232" y="256"/>
                  <a:pt x="288" y="192"/>
                </a:cubicBezTo>
                <a:cubicBezTo>
                  <a:pt x="344" y="128"/>
                  <a:pt x="340" y="64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06520" y="4800600"/>
            <a:ext cx="44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(ti) &gt; longest-edge (ti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62064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p(t): a key concept for fi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-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5373720"/>
            <a:ext cx="67168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identifies terminal-edge AB  associated to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4F3-99D2-42CE-91F8-EDB95F030C8D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3880" y="500040"/>
            <a:ext cx="6219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minal edge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mon basic idea: refinement of  Terminal-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put: Set S of target elements to be improved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ed in mesh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ind Lepp(t) and associated terminal-edg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Select point P to be inserted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 the 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 a terminal-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nsert point P in mesh 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09640" y="4724280"/>
            <a:ext cx="508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(*) Refinement </a:t>
            </a:r>
            <a:r>
              <a:rPr b="0" lang="es-ES_tradnl" sz="2000" spc="-1" strike="noStrike">
                <a:solidFill>
                  <a:srgbClr val="1b5391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 longest-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(*) Improvement </a:t>
            </a:r>
            <a:r>
              <a:rPr b="0" lang="es-ES_tradnl" sz="2000" spc="-1" strike="noStrike">
                <a:solidFill>
                  <a:srgbClr val="1b5391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1b5391"/>
                </a:solidFill>
                <a:latin typeface="Arial"/>
              </a:rPr>
              <a:t> Delaunay point 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F07-C900-4904-A729-86ECC9C805BD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bisection algorith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4FA-A410-43B2-9643-1908B5E085B4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4312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859280" y="3789360"/>
            <a:ext cx="3457800" cy="36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761080" cy="27766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19000" y="3740040"/>
            <a:ext cx="7287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{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 interior terminal edge                 CD boundary 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terminal triangles                    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erminal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14200" y="525600"/>
            <a:ext cx="676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propagating path Lepp(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494172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bisection algorithm performs longest edge bisection of     terminal triangles, a local operation that maintains a valid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EFA-8F85-499A-ADEF-675CDF2BABD8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43160" y="1947960"/>
            <a:ext cx="6457680" cy="2962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22760" y="420840"/>
            <a:ext cx="748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bisection algorithm: used for refining 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77400" y="4965840"/>
            <a:ext cx="78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gure (a): First point 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gure (b): Refined subtriangulation, three points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 the order shown in the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4F5-EC98-47F4-9F34-2E368403E4E5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otivation: different practical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sical finite element analysis of physical problems modelled by P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eeds adequate discretization of the associated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aptive and multigrid finite elemen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re sequences of locally refined quality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s that requiere evolving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res refinement /derefinement of the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s with moving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uter graphic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rain modeling of hug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AA3-4C99-428A-9B7D-1928D00B2B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1120" y="1666800"/>
            <a:ext cx="7994520" cy="341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492720" y="549360"/>
            <a:ext cx="178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83C-DC9F-4A08-84AB-E3ADC1599A13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056360" cy="39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B6F-CDAD-40C2-B00C-46E498D1D4E4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ple: adaptive triangulation obtained with the refinemen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962160" cy="355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00A-CD30-4A8C-AD6B-F8CE6D42B2A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finement / Derefinement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791320" cy="4400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623200" y="590076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JNME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EF20-A50E-4F9D-8A3B-BFFACB65E19A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ongest edge algorithms for solving p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82720" y="168768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daptive f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39080" y="1687680"/>
            <a:ext cx="304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 1984, 1986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nes – Plassmann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ambiar et al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thukrishnan et al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4280" y="3714840"/>
            <a:ext cx="303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ltigrid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refinefinemen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lle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82720" y="3714840"/>
            <a:ext cx="4217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 1984, 19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 1987, Jones-Plassman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nes – Plassmann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taños – Savage 1999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vara-Calderón – Fedorov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risochoides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94AB-298C-4894-A51C-B0CED024C9F3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ngest edge refinement / derefinement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2120" y="2220840"/>
            <a:ext cx="769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s of nested triangulations are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itable for multigrid methods (Rivara 1984, 19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s of adaptive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cal differences between consecutive meshes can b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ted with multiresolution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4CC-93C6-4C62-ABD5-C627C49ECAA1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erties of Lepp-bisection algorithm in 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duces triangle with smallest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/2 whe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the smallest angle of the initial trian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solving TRP I and II, the refinement propagates towards triangles not involved in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r in the refinement region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tes in a finite number of steps (progapates towards bigger triang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y triangulation constructed is smooth:  the transition between small and big triangles is smoo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ractal property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terative refinement around a vertex produces a fixed angle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0E4-D173-454F-B726-C535B058A2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19280" y="1305000"/>
            <a:ext cx="7705440" cy="424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92000" y="260280"/>
            <a:ext cx="83520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ractal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rst iterative refinements around Q produces fixed angle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fter that, the geometry is repeated (fractal behavi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64A-976A-41C7-BC4A-CEF3D3828AB4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bisectio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lementation and pract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lly automatic algorithm (no heuristic criteria nee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y local refinemen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valid mesh in maintained throughout the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hm is free of non-robustness iss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hm can be easily paralle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cost of inserting K new vertices in the mesh is linear in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A10-3FBC-4667-9D1A-D0DD3B832390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tudy on the algorithm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37A-CE52-40BD-862D-EC4192C4570E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ometry Triangulation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a set of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a given geometry (polygon, PSLG, solid ob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9BB-4652-4CF4-84AA-78A0CB89CBC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620640"/>
            <a:ext cx="7848360" cy="25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lgorithm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use an amortized cost analysis.  Motiv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ement of triangle t (figure a) can refine the whole triangulation (figure b) in on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terative refinemen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f triangles of vertex C i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ery loca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de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086600" cy="2562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372720" y="5516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det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D2F-3591-49DD-984A-E97847C74D00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st study for solving TRP I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P II:  refine triangle t in 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 while longest edge (t) 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several refinement ste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916360" y="2349360"/>
            <a:ext cx="1944720" cy="1693800"/>
            <a:chOff x="2916360" y="2349360"/>
            <a:chExt cx="1944720" cy="1693800"/>
          </a:xfrm>
        </p:grpSpPr>
        <p:sp>
          <p:nvSpPr>
            <p:cNvPr id="214" name=""/>
            <p:cNvSpPr/>
            <p:nvPr/>
          </p:nvSpPr>
          <p:spPr>
            <a:xfrm>
              <a:off x="2916360" y="2458800"/>
              <a:ext cx="1577880" cy="1233720"/>
            </a:xfrm>
            <a:custGeom>
              <a:avLst/>
              <a:gdLst/>
              <a:ahLst/>
              <a:rect l="l" t="t" r="r" b="b"/>
              <a:pathLst>
                <a:path w="994" h="777">
                  <a:moveTo>
                    <a:pt x="289" y="305"/>
                  </a:moveTo>
                  <a:cubicBezTo>
                    <a:pt x="287" y="296"/>
                    <a:pt x="261" y="326"/>
                    <a:pt x="255" y="319"/>
                  </a:cubicBezTo>
                  <a:cubicBezTo>
                    <a:pt x="250" y="313"/>
                    <a:pt x="241" y="315"/>
                    <a:pt x="234" y="312"/>
                  </a:cubicBezTo>
                  <a:cubicBezTo>
                    <a:pt x="215" y="303"/>
                    <a:pt x="189" y="292"/>
                    <a:pt x="173" y="278"/>
                  </a:cubicBezTo>
                  <a:cubicBezTo>
                    <a:pt x="103" y="216"/>
                    <a:pt x="159" y="256"/>
                    <a:pt x="112" y="224"/>
                  </a:cubicBezTo>
                  <a:cubicBezTo>
                    <a:pt x="114" y="201"/>
                    <a:pt x="114" y="178"/>
                    <a:pt x="119" y="156"/>
                  </a:cubicBezTo>
                  <a:cubicBezTo>
                    <a:pt x="122" y="142"/>
                    <a:pt x="142" y="128"/>
                    <a:pt x="153" y="122"/>
                  </a:cubicBezTo>
                  <a:cubicBezTo>
                    <a:pt x="221" y="84"/>
                    <a:pt x="290" y="46"/>
                    <a:pt x="363" y="21"/>
                  </a:cubicBezTo>
                  <a:cubicBezTo>
                    <a:pt x="459" y="0"/>
                    <a:pt x="611" y="33"/>
                    <a:pt x="682" y="41"/>
                  </a:cubicBezTo>
                  <a:cubicBezTo>
                    <a:pt x="753" y="49"/>
                    <a:pt x="757" y="53"/>
                    <a:pt x="790" y="68"/>
                  </a:cubicBezTo>
                  <a:cubicBezTo>
                    <a:pt x="802" y="103"/>
                    <a:pt x="844" y="117"/>
                    <a:pt x="878" y="129"/>
                  </a:cubicBezTo>
                  <a:cubicBezTo>
                    <a:pt x="897" y="186"/>
                    <a:pt x="925" y="224"/>
                    <a:pt x="973" y="258"/>
                  </a:cubicBezTo>
                  <a:cubicBezTo>
                    <a:pt x="994" y="317"/>
                    <a:pt x="964" y="356"/>
                    <a:pt x="946" y="407"/>
                  </a:cubicBezTo>
                  <a:cubicBezTo>
                    <a:pt x="940" y="530"/>
                    <a:pt x="889" y="546"/>
                    <a:pt x="824" y="644"/>
                  </a:cubicBezTo>
                  <a:cubicBezTo>
                    <a:pt x="810" y="692"/>
                    <a:pt x="792" y="723"/>
                    <a:pt x="749" y="726"/>
                  </a:cubicBezTo>
                  <a:cubicBezTo>
                    <a:pt x="645" y="757"/>
                    <a:pt x="565" y="761"/>
                    <a:pt x="451" y="766"/>
                  </a:cubicBezTo>
                  <a:cubicBezTo>
                    <a:pt x="419" y="777"/>
                    <a:pt x="390" y="752"/>
                    <a:pt x="356" y="759"/>
                  </a:cubicBezTo>
                  <a:cubicBezTo>
                    <a:pt x="231" y="750"/>
                    <a:pt x="309" y="753"/>
                    <a:pt x="234" y="753"/>
                  </a:cubicBezTo>
                  <a:cubicBezTo>
                    <a:pt x="215" y="723"/>
                    <a:pt x="114" y="690"/>
                    <a:pt x="79" y="678"/>
                  </a:cubicBezTo>
                  <a:cubicBezTo>
                    <a:pt x="40" y="641"/>
                    <a:pt x="43" y="650"/>
                    <a:pt x="24" y="597"/>
                  </a:cubicBezTo>
                  <a:cubicBezTo>
                    <a:pt x="33" y="570"/>
                    <a:pt x="0" y="524"/>
                    <a:pt x="24" y="509"/>
                  </a:cubicBezTo>
                  <a:cubicBezTo>
                    <a:pt x="66" y="447"/>
                    <a:pt x="10" y="520"/>
                    <a:pt x="58" y="482"/>
                  </a:cubicBezTo>
                  <a:cubicBezTo>
                    <a:pt x="65" y="477"/>
                    <a:pt x="65" y="466"/>
                    <a:pt x="72" y="461"/>
                  </a:cubicBezTo>
                  <a:cubicBezTo>
                    <a:pt x="80" y="456"/>
                    <a:pt x="90" y="457"/>
                    <a:pt x="99" y="454"/>
                  </a:cubicBezTo>
                  <a:cubicBezTo>
                    <a:pt x="159" y="432"/>
                    <a:pt x="210" y="415"/>
                    <a:pt x="275" y="407"/>
                  </a:cubicBezTo>
                  <a:cubicBezTo>
                    <a:pt x="311" y="394"/>
                    <a:pt x="310" y="377"/>
                    <a:pt x="316" y="339"/>
                  </a:cubicBezTo>
                  <a:cubicBezTo>
                    <a:pt x="290" y="323"/>
                    <a:pt x="310" y="283"/>
                    <a:pt x="289" y="305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80000" y="2349360"/>
              <a:ext cx="1081080" cy="1693800"/>
            </a:xfrm>
            <a:custGeom>
              <a:avLst/>
              <a:gdLst/>
              <a:ahLst/>
              <a:rect l="l" t="t" r="r" b="b"/>
              <a:pathLst>
                <a:path w="681" h="1067">
                  <a:moveTo>
                    <a:pt x="353" y="0"/>
                  </a:moveTo>
                  <a:cubicBezTo>
                    <a:pt x="339" y="46"/>
                    <a:pt x="347" y="28"/>
                    <a:pt x="333" y="54"/>
                  </a:cubicBezTo>
                  <a:lnTo>
                    <a:pt x="0" y="1067"/>
                  </a:lnTo>
                  <a:lnTo>
                    <a:pt x="363" y="1067"/>
                  </a:lnTo>
                  <a:lnTo>
                    <a:pt x="681" y="69"/>
                  </a:lnTo>
                  <a:lnTo>
                    <a:pt x="353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08360" y="2674800"/>
              <a:ext cx="144360" cy="144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19640" y="3466800"/>
              <a:ext cx="144360" cy="1447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1640" y="31734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81280" y="23810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4360" y="4076640"/>
            <a:ext cx="7848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t is not convenient to use the worst case analysis in one refinemen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to perform an amortized cos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consider two cases:  R={vertex},   R = 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F30-3C31-4F74-A3DA-624B13B216D8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mma 1 (cost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the Vertex Refinement Problem (refine around vertex Q until triangle size i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number N of points is introduce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&lt; K (Log (L 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is constant, L is the longest geometry interior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357720"/>
            <a:ext cx="8064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of sketch: to state the bound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ractal property implies a fixed angle molecule around Q shared at     most by 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riangles (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smallest initial angle) and longest edge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is bounded by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ong L at most Log (L 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points are introduced (binary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602136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98968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60640" y="5981760"/>
            <a:ext cx="6984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7BD-DA8D-451C-8F24-B28470635F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mma 2 (cost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6920" y="1557360"/>
            <a:ext cx="763272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the Circle Refinement Problem (refinement region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a circle interior to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number of points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interior to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and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exterior to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are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lt; 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(r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        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r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 Log (L /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here L is the longest distance from boundary (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undary (T), r is the radius of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A1E4-59B6-48F8-8CB8-F290C0E63B8B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mma 3 (cost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21456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solving the Vertex Refinement Problem, the algorithm is linear in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solving the Circle Refinement Problem, the algorithm is linear in (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r &gt;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hen the algorithm is linear in 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, if r &gt;&gt;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he points inserted by propagation refinement is far less than the points required in the interior of R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FA0-BD96-471F-B589-B5F8666D0C3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ight triangle bintree triangulations and multiresolution represen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8EC-97EA-429D-B936-E1AF72222A8D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ight triangle bintree meshes and terrain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55160" indent="-15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 case of longest edge me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5160" indent="-155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isosceles right-triangle trian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bisection algorithm produces idem meshes (isosceles right triangle is a specia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ria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computation of the longest edge is avoided (refinement follows by the newest ve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intree data structure can be used (multiresolution tree repres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4760" indent="-12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itable for terrain gri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BAB-4813-4F57-8A45-F00393DD8F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481040" y="1285920"/>
            <a:ext cx="6181920" cy="4286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55640" y="3333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ght-triangle bintree representation extracts information from the gri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370-3757-4136-B6AB-047CE68CEE72}" type="slidenum">
              <a:t>5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3695760" cy="3629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042920" y="4724280"/>
            <a:ext cx="7345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inement of t implies refinement of terminal triangles ABC, ADB (belong to the same bintree level).    Split and merge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mple refinement / derefinemen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DE2-2858-451B-B831-281AEBB932DC}" type="slidenum">
              <a:t>5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ltiresolution mesh re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752480"/>
            <a:ext cx="777240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a: Simple base mesh together with a sequence of local correction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ricted to meshes with subdivision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undsberg et al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 arbitrary mesh M is aproximated by a mesh M</a:t>
            </a:r>
            <a:r>
              <a:rPr b="0" lang="es-CL" sz="20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ck et al 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 edge algorithms are hierarchical related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ght triangulations (for terrain appli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chaineau et al 1997, Pajarola 2002, Velho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E59-BD57-4437-A76E-A0D3AB37741A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elaunay triangulation (D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: Given a point set P,  construct a triangulation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 = { point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is a DT of P if the circuncircle of every triangle t in T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 include any vertex of P in its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and t* are locally Delaunay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4267080" y="3809880"/>
            <a:ext cx="1295640" cy="1447920"/>
            <a:chOff x="4267080" y="3809880"/>
            <a:chExt cx="1295640" cy="1447920"/>
          </a:xfrm>
        </p:grpSpPr>
        <p:sp>
          <p:nvSpPr>
            <p:cNvPr id="53" name=""/>
            <p:cNvSpPr/>
            <p:nvPr/>
          </p:nvSpPr>
          <p:spPr>
            <a:xfrm>
              <a:off x="4267080" y="3809880"/>
              <a:ext cx="1295640" cy="1195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24280" y="3809880"/>
              <a:ext cx="838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267080" y="3809880"/>
              <a:ext cx="45720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267080" y="4376160"/>
              <a:ext cx="1295640" cy="1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947840" y="4376520"/>
              <a:ext cx="614520" cy="8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4502160"/>
              <a:ext cx="68112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63800" y="4008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800240" y="4636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212840" y="5308560"/>
            <a:ext cx="50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DT maximizes the minimun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231-9F14-419B-8B6C-82D3F67639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rge scale terrain applications: real time rendering and multiresolution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2276640"/>
            <a:ext cx="77724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adtree based triangulations (with restri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ight triangles (longest edge) based trian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ynamic mesh representation based on triangle bin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chaineau et al 1997, Pajarola 2002, Velho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AM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all time optimally adaptive meshes for terrain da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uchaineau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0EE-73A4-4AAD-A9E1-12D6B7C40ADB}" type="slidenum">
              <a:t>6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ight triangles bintree meshing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752480"/>
            <a:ext cx="69343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nly isosceles right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 edge partitio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ight similar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ntre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licit use of Lepp search for finding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le split and merge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sh can be recursively refined / derefined o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suitable fos scanned data, height field regular data (terrain mode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58BF-6C98-42ED-A6D5-52B78F3A56F7}" type="slidenum">
              <a:t>6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057320" y="762120"/>
            <a:ext cx="6410160" cy="518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352C-3C5E-48C6-9D91-21327854836D}" type="slidenum">
              <a:t>6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76200" y="1438200"/>
            <a:ext cx="6591600" cy="39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911-E0D6-4F50-80FC-B5CA3DC72A14}" type="slidenum">
              <a:t>6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143000" y="1262160"/>
            <a:ext cx="6858000" cy="433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1096-85BD-4F53-B097-D73DC49D5B56}" type="slidenum">
              <a:t>6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47640" y="3068640"/>
            <a:ext cx="662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Delaunay algorithm for quality triangu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1FD-D9AE-40EF-93CB-1A548D6CD69F}" type="slidenum">
              <a:t>6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78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pp Delaunay quality triangulation algorithm 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erminal edge midpoi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d on selecting terminal edges midpoints associated to bad quality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lization of previous longest edge algorith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rminal edge is a special longest edge in a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launay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51D-561A-43C4-861E-24C360C1477B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terminal edge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47640" y="1844640"/>
            <a:ext cx="723924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terminal edge: longest edge of both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re Delaunlay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487692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48000" y="3716280"/>
            <a:ext cx="172872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359160" y="3867120"/>
            <a:ext cx="1714320" cy="584280"/>
          </a:xfrm>
          <a:custGeom>
            <a:avLst/>
            <a:gdLst/>
            <a:ahLst/>
            <a:rect l="l" t="t" r="r" b="b"/>
            <a:pathLst>
              <a:path w="1080" h="368">
                <a:moveTo>
                  <a:pt x="0" y="368"/>
                </a:moveTo>
                <a:lnTo>
                  <a:pt x="656" y="364"/>
                </a:lnTo>
                <a:lnTo>
                  <a:pt x="1080" y="364"/>
                </a:lnTo>
                <a:lnTo>
                  <a:pt x="228" y="0"/>
                </a:lnTo>
                <a:lnTo>
                  <a:pt x="0" y="36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78240" y="4438800"/>
            <a:ext cx="1676520" cy="1174680"/>
          </a:xfrm>
          <a:custGeom>
            <a:avLst/>
            <a:gdLst/>
            <a:ahLst/>
            <a:rect l="l" t="t" r="r" b="b"/>
            <a:pathLst>
              <a:path w="1056" h="740">
                <a:moveTo>
                  <a:pt x="0" y="0"/>
                </a:moveTo>
                <a:lnTo>
                  <a:pt x="560" y="740"/>
                </a:lnTo>
                <a:lnTo>
                  <a:pt x="1056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60720" y="43657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8160" y="436572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00320" y="4508640"/>
            <a:ext cx="24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94160" y="364500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9960" y="4076640"/>
            <a:ext cx="2494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9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AB8-5B13-422E-B7F6-70A7B46A95AF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43000" y="914400"/>
            <a:ext cx="695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Delaunay terminal edge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1828800"/>
            <a:ext cx="6424560" cy="41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put:  constrained Delaunay triangulation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toleranc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set S of triangles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Lepp (t) and associated terminal 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 point P to be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orm (constrained) Delaunay in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e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  In general P is midpoint of a terminal edge excepting for constrain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640-2032-4CE2-8F7F-4A83670A2F67}" type="slidenum">
              <a:t>6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05120" y="0"/>
            <a:ext cx="6002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 Delaunay algorith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1360440"/>
            <a:ext cx="1600200" cy="167652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768"/>
                </a:moveTo>
                <a:lnTo>
                  <a:pt x="480" y="1056"/>
                </a:lnTo>
                <a:lnTo>
                  <a:pt x="1008" y="528"/>
                </a:lnTo>
                <a:lnTo>
                  <a:pt x="336" y="0"/>
                </a:lnTo>
                <a:lnTo>
                  <a:pt x="0" y="76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1360440"/>
            <a:ext cx="53352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1360440"/>
            <a:ext cx="106668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36920" y="136044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342960" y="18511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647520" y="21556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120560" y="23623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3600" y="2046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46600" y="14479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73400" y="17524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09320" y="10890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TARGET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48520" y="139392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DELAUN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INSE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76720" y="402732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60600" y="40273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1108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962520" y="4408560"/>
            <a:ext cx="28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4865760"/>
            <a:ext cx="1600200" cy="8492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410364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52440" y="428940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44845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4027320"/>
            <a:ext cx="106668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336" y="0"/>
                </a:moveTo>
                <a:lnTo>
                  <a:pt x="0" y="288"/>
                </a:lnTo>
                <a:lnTo>
                  <a:pt x="432" y="528"/>
                </a:lnTo>
                <a:lnTo>
                  <a:pt x="672" y="288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9880" y="40273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740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91960" y="440856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1096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4941720"/>
            <a:ext cx="1600200" cy="8384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494172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417996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45608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24480" y="410364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91320" y="410364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96" y="48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336" y="28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1320" y="4560840"/>
            <a:ext cx="1066680" cy="1800"/>
          </a:xfrm>
          <a:custGeom>
            <a:avLst/>
            <a:gdLst/>
            <a:ahLst/>
            <a:rect l="l" t="t" r="r" b="b"/>
            <a:pathLst>
              <a:path w="672" h="1">
                <a:moveTo>
                  <a:pt x="0" y="0"/>
                </a:moveTo>
                <a:lnTo>
                  <a:pt x="384" y="0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41799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41760" y="6423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782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90960" y="421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01880" y="43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14960" y="273204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4484520"/>
            <a:ext cx="228600" cy="123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97360" y="1358640"/>
            <a:ext cx="129960" cy="8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09320" y="2201400"/>
            <a:ext cx="125280" cy="84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4484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12440" y="3112920"/>
            <a:ext cx="143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idpoin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he 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144792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  <a:lnTo>
                  <a:pt x="576" y="9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248520" y="19807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6294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324480" y="22856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1447920"/>
            <a:ext cx="685800" cy="1523880"/>
          </a:xfrm>
          <a:custGeom>
            <a:avLst/>
            <a:gdLst/>
            <a:ahLst/>
            <a:rect l="l" t="t" r="r" b="b"/>
            <a:pathLst>
              <a:path w="432" h="960">
                <a:moveTo>
                  <a:pt x="288" y="0"/>
                </a:moveTo>
                <a:lnTo>
                  <a:pt x="0" y="288"/>
                </a:lnTo>
                <a:lnTo>
                  <a:pt x="384" y="528"/>
                </a:lnTo>
                <a:lnTo>
                  <a:pt x="48" y="720"/>
                </a:lnTo>
                <a:lnTo>
                  <a:pt x="432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248520" y="228600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19051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14479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lnTo>
                  <a:pt x="48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248520" y="1752480"/>
            <a:ext cx="3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63048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9200" y="19810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87800" y="1295280"/>
            <a:ext cx="241200" cy="2286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104" y="0"/>
                </a:moveTo>
                <a:cubicBezTo>
                  <a:pt x="52" y="12"/>
                  <a:pt x="0" y="24"/>
                  <a:pt x="8" y="48"/>
                </a:cubicBezTo>
                <a:cubicBezTo>
                  <a:pt x="16" y="72"/>
                  <a:pt x="84" y="108"/>
                  <a:pt x="15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5B6-CBB9-4635-9902-67FA4CF15CBF}" type="slidenum">
              <a:t>6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strained Delaunay triangulation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DT in 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CDT includes fixed edges to be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relaxation of the Delaunay triangulation conditions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kind of visibilit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AB is a constrained edge, then the circuncircle of t doesn´t see the point Q inside the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038480"/>
            <a:ext cx="160020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26708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1008" y="240"/>
                </a:lnTo>
                <a:lnTo>
                  <a:pt x="144" y="0"/>
                </a:lnTo>
                <a:lnTo>
                  <a:pt x="0" y="28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2600" y="4419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47242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781680" y="464796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2760" y="4572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9800" y="5029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34320" y="4529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2920" y="4267080"/>
            <a:ext cx="386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is concept allow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general polyg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SL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0C4-17C5-48E4-8CEB-5CBE813524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733920" y="251460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1712880" cy="1905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1825920" y="1082520"/>
            <a:ext cx="69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utomatic quality triangulatio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48360" y="4427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8EED-5EBD-40DB-91D0-CE1DBEF722E3}" type="slidenum">
              <a:t>7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1752840" cy="174456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752480" cy="17445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>
            <a:lum bright="-36000"/>
          </a:blip>
          <a:srcRect l="23532" t="39394" r="17649" b="18183"/>
          <a:stretch/>
        </p:blipFill>
        <p:spPr>
          <a:xfrm>
            <a:off x="6400800" y="2819520"/>
            <a:ext cx="1676520" cy="1706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1966320" y="803160"/>
            <a:ext cx="322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other example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0472-6E41-4553-B176-C956790885C4}" type="slidenum">
              <a:t>7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lgorithm stu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oint selection over constrained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 on the largest angles of Delaunay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haracterization of Delaunay terminal triangles by longest 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ounds on smallest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ounds on distance to previou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tion of too-obtuse (non terminal)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pen problem: optimal size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90F-22E4-4550-8655-1595D9A64645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99240" y="609480"/>
            <a:ext cx="63878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CA is a constrained edg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0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 30º or 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lt; 30º then insert midpoint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 edge 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029200" cy="27799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3760" y="4869000"/>
            <a:ext cx="894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b5391"/>
                </a:solidFill>
                <a:latin typeface="Arial"/>
              </a:rPr>
              <a:t>Remark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ver constrained edge CA, the insertion of M and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imilar to triangle BAC; (b) Insertion of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voids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09920" y="136440"/>
            <a:ext cx="566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trained edge point inse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2720" y="29718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30800" y="34290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AE03-3CF8-42EC-A854-354432F6CF6A}" type="slidenum">
              <a:t>7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680000" cy="2781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66560" y="4292640"/>
            <a:ext cx="81241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heorem 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or any pair of Delaunay terminal-triangles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haring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nconstrained terminal ed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est angle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3 for i = 1,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of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C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D.   Vertex D in regi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120º, triangle  ADB equilateral and |ZO| = r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44760" y="333360"/>
            <a:ext cx="61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aint on the largest angle of Delaun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l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69080" y="2060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917C-6169-4BFC-B378-58A095F6789F}" type="slidenum">
              <a:t>7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938400" y="350532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43200" y="274320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6880" y="2471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449440" y="3386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62680" y="3375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24360" y="3467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429000" y="2233080"/>
            <a:ext cx="1287360" cy="51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6360" y="2233440"/>
            <a:ext cx="312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62520" y="2233440"/>
            <a:ext cx="753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78200" y="2195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8560" y="189000"/>
            <a:ext cx="784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ssumption to avoid unfrequent LOOP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(to simplify the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67120" y="1525680"/>
            <a:ext cx="256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to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22.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69520" y="3754440"/>
            <a:ext cx="543708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op case can happen under the cons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BA terminal edge of midpoint 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CA terminal edge of midpoint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22.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+ some constrained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iangle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to triangle B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95800" y="289548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48800" y="3124080"/>
            <a:ext cx="39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2746440"/>
            <a:ext cx="57168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62320" y="3076560"/>
            <a:ext cx="748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D68-0F2F-47C3-B70D-84620C68D3AC}" type="slidenum">
              <a:t>7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1550880" y="1986120"/>
            <a:ext cx="2895840" cy="2328840"/>
            <a:chOff x="1550880" y="1986120"/>
            <a:chExt cx="2895840" cy="2328840"/>
          </a:xfrm>
        </p:grpSpPr>
        <p:sp>
          <p:nvSpPr>
            <p:cNvPr id="363" name=""/>
            <p:cNvSpPr/>
            <p:nvPr/>
          </p:nvSpPr>
          <p:spPr>
            <a:xfrm>
              <a:off x="3063960" y="30196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44640" y="2257560"/>
              <a:ext cx="228600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80"/>
                  </a:moveTo>
                  <a:lnTo>
                    <a:pt x="1440" y="480"/>
                  </a:lnTo>
                  <a:lnTo>
                    <a:pt x="432" y="0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44640" y="3019680"/>
              <a:ext cx="2286000" cy="1295280"/>
            </a:xfrm>
            <a:custGeom>
              <a:avLst/>
              <a:gdLst/>
              <a:ahLst/>
              <a:rect l="l" t="t" r="r" b="b"/>
              <a:pathLst>
                <a:path w="1440" h="816">
                  <a:moveTo>
                    <a:pt x="0" y="0"/>
                  </a:moveTo>
                  <a:lnTo>
                    <a:pt x="720" y="816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30440" y="2257560"/>
              <a:ext cx="533160" cy="2057400"/>
            </a:xfrm>
            <a:custGeom>
              <a:avLst/>
              <a:gdLst/>
              <a:ahLst/>
              <a:rect l="l" t="t" r="r" b="b"/>
              <a:pathLst>
                <a:path w="336" h="1296">
                  <a:moveTo>
                    <a:pt x="0" y="0"/>
                  </a:moveTo>
                  <a:lnTo>
                    <a:pt x="336" y="480"/>
                  </a:lnTo>
                  <a:lnTo>
                    <a:pt x="288" y="12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07960" y="1986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50880" y="2900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63760" y="2889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025800" y="2981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7194960" y="30574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75280" y="229536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75280" y="3057480"/>
            <a:ext cx="2286000" cy="1295280"/>
          </a:xfrm>
          <a:custGeom>
            <a:avLst/>
            <a:gdLst/>
            <a:ahLst/>
            <a:rect l="l" t="t" r="r" b="b"/>
            <a:pathLst>
              <a:path w="1440" h="816">
                <a:moveTo>
                  <a:pt x="0" y="0"/>
                </a:moveTo>
                <a:lnTo>
                  <a:pt x="720" y="816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1080" y="229536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0"/>
                </a:moveTo>
                <a:lnTo>
                  <a:pt x="336" y="480"/>
                </a:lnTo>
                <a:lnTo>
                  <a:pt x="288" y="12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38960" y="202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81520" y="2938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94760" y="2927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56440" y="3019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97280" y="2735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61080" y="1785960"/>
            <a:ext cx="128736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3960" y="1636560"/>
            <a:ext cx="1434960" cy="831960"/>
          </a:xfrm>
          <a:custGeom>
            <a:avLst/>
            <a:gdLst/>
            <a:ahLst/>
            <a:rect l="l" t="t" r="r" b="b"/>
            <a:pathLst>
              <a:path w="904" h="524">
                <a:moveTo>
                  <a:pt x="0" y="524"/>
                </a:moveTo>
                <a:lnTo>
                  <a:pt x="90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99320" y="1661760"/>
            <a:ext cx="1695240" cy="5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948440" y="1785960"/>
            <a:ext cx="312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7194600" y="1785960"/>
            <a:ext cx="753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910640" y="1747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37520" y="476280"/>
            <a:ext cx="771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insertion of terminal edge mid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2600" y="14889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wo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77280" y="4583160"/>
            <a:ext cx="2730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-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58720" y="458316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 of edge sw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73680" y="5543640"/>
            <a:ext cx="526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 will study involved geometr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129528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lnTo>
                  <a:pt x="240" y="0"/>
                </a:lnTo>
                <a:lnTo>
                  <a:pt x="720" y="192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48120" y="1600200"/>
            <a:ext cx="1143000" cy="45720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0" y="0"/>
                </a:moveTo>
                <a:lnTo>
                  <a:pt x="384" y="288"/>
                </a:ln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31160" y="1295280"/>
            <a:ext cx="289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ADA-B739-493D-8E7B-A5546CB04C46}" type="slidenum">
              <a:t>7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05880" y="404640"/>
            <a:ext cx="809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haracterization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198080" y="1306440"/>
            <a:ext cx="53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sumption:  second longest edge CA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2690640"/>
            <a:ext cx="2362320" cy="838440"/>
          </a:xfrm>
          <a:custGeom>
            <a:avLst/>
            <a:gdLst/>
            <a:ahLst/>
            <a:rect l="l" t="t" r="r" b="b"/>
            <a:pathLst>
              <a:path w="1488" h="528">
                <a:moveTo>
                  <a:pt x="0" y="528"/>
                </a:moveTo>
                <a:lnTo>
                  <a:pt x="336" y="0"/>
                </a:lnTo>
                <a:lnTo>
                  <a:pt x="1488" y="0"/>
                </a:lnTo>
                <a:lnTo>
                  <a:pt x="0" y="5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33920" y="26906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35480" y="2343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13120" y="3529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6744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64240" y="2617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9840" y="267192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9760" y="3592440"/>
            <a:ext cx="334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rgest angl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120º  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C Delaunay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midpoint of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90920" y="3897360"/>
            <a:ext cx="44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94120" y="3897360"/>
            <a:ext cx="32832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aints on</a:t>
            </a:r>
            <a:r>
              <a:rPr b="1" lang="es-CL" sz="18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71640" y="170352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a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654-F202-4D12-B983-1A12D784DCED}" type="slidenum">
              <a:t>7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116000" y="4581360"/>
            <a:ext cx="7391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C is geometrical place for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’F’N is geometrical place for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267080" cy="2978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414880" y="260280"/>
            <a:ext cx="419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aracterization of Delaun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erminal triang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E268-413F-45F3-9488-8372374DE284}" type="slidenum">
              <a:t>7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87280" y="3141720"/>
            <a:ext cx="739152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        and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obtus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an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83720" y="2602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rst longest edge bi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00000" y="5084640"/>
            <a:ext cx="8064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a sequence of improved triangles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vertex B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909440" y="836640"/>
            <a:ext cx="4791960" cy="2361600"/>
            <a:chOff x="1909440" y="836640"/>
            <a:chExt cx="4791960" cy="2361600"/>
          </a:xfrm>
        </p:grpSpPr>
        <p:sp>
          <p:nvSpPr>
            <p:cNvPr id="414" name=""/>
            <p:cNvSpPr/>
            <p:nvPr/>
          </p:nvSpPr>
          <p:spPr>
            <a:xfrm>
              <a:off x="2262240" y="1258560"/>
              <a:ext cx="4085280" cy="1693440"/>
            </a:xfrm>
            <a:custGeom>
              <a:avLst/>
              <a:gdLst/>
              <a:ahLst/>
              <a:rect l="l" t="t" r="r" b="b"/>
              <a:pathLst>
                <a:path w="2087" h="726">
                  <a:moveTo>
                    <a:pt x="0" y="726"/>
                  </a:moveTo>
                  <a:lnTo>
                    <a:pt x="2087" y="726"/>
                  </a:lnTo>
                  <a:lnTo>
                    <a:pt x="590" y="0"/>
                  </a:lnTo>
                  <a:lnTo>
                    <a:pt x="0" y="7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3417120" y="1258560"/>
              <a:ext cx="888480" cy="16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42440" y="295200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0944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40360" y="836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5720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3680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0028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66400" y="2347560"/>
              <a:ext cx="36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C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54800" y="252936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01080" y="136584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5F7-DDEA-489C-B4F5-08E8A266A3FC}" type="slidenum">
              <a:t>7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ulation Refinement Problem I (TRP 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quality acceptable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with angl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set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of triangles to be r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locally refined valid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≈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les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re refi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peat for further 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fined by the application (adaptive or interactive 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566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5157720"/>
            <a:ext cx="1511280" cy="935280"/>
          </a:xfrm>
          <a:custGeom>
            <a:avLst/>
            <a:gdLst/>
            <a:ahLst/>
            <a:rect l="l" t="t" r="r" b="b"/>
            <a:pathLst>
              <a:path w="952" h="589">
                <a:moveTo>
                  <a:pt x="0" y="317"/>
                </a:moveTo>
                <a:lnTo>
                  <a:pt x="317" y="0"/>
                </a:lnTo>
                <a:lnTo>
                  <a:pt x="952" y="317"/>
                </a:lnTo>
                <a:lnTo>
                  <a:pt x="453" y="589"/>
                </a:lnTo>
                <a:lnTo>
                  <a:pt x="0" y="3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566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5157720"/>
            <a:ext cx="1511280" cy="935280"/>
          </a:xfrm>
          <a:custGeom>
            <a:avLst/>
            <a:gdLst/>
            <a:ahLst/>
            <a:rect l="l" t="t" r="r" b="b"/>
            <a:pathLst>
              <a:path w="952" h="589">
                <a:moveTo>
                  <a:pt x="0" y="317"/>
                </a:moveTo>
                <a:lnTo>
                  <a:pt x="317" y="0"/>
                </a:lnTo>
                <a:lnTo>
                  <a:pt x="952" y="317"/>
                </a:lnTo>
                <a:lnTo>
                  <a:pt x="453" y="589"/>
                </a:lnTo>
                <a:lnTo>
                  <a:pt x="0" y="31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3640" y="5157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1640" y="522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93280" y="522288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n-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E3F-8E97-4162-8A92-4161ACB8FAC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2362320" y="1098720"/>
            <a:ext cx="3809880" cy="24066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143000" y="3657600"/>
            <a:ext cx="7010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acute triang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º  (B in CIH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B in CVW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8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49920" y="422280"/>
            <a:ext cx="25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gle b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BDA-FFBC-40C0-99B5-A59A768FDA13}" type="slidenum">
              <a:t>8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542160" y="422280"/>
            <a:ext cx="79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ounds on distance from M to previous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1687680"/>
            <a:ext cx="5708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(M) = minimum distance from M to 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acut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obtus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4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0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0.5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5A2-C4B1-45A6-BFFC-CC6110F74F03}" type="slidenum">
              <a:t>8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144160" y="422280"/>
            <a:ext cx="47268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rovement of triangles t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42920" y="1557360"/>
            <a:ext cx="70754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sequence of improved triangl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eliminating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o edges smaller than previous edges are inserted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n edge at most 0.66 times the size of neighbor previous edge, can be occassionaly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n this case a quality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 and process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BF0-FDFB-43E0-AFC2-B1A77E05680B}" type="slidenum">
              <a:t>8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042920" y="3716280"/>
            <a:ext cx="739152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wo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here exists vertex V  inside CC(MAC) but outside CC(BAC).  Then swapping of CA applies by inserting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new point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ill be inserted in CC(MAC) (we need to study this case)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midpoint of a terminal edge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69640" y="174600"/>
            <a:ext cx="8458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b5391"/>
                </a:solidFill>
                <a:latin typeface="Arial"/>
              </a:rPr>
              <a:t>Elimination of too-obtuse triangle MAC (</a:t>
            </a:r>
            <a:r>
              <a:rPr b="0" lang="es-CL" sz="3000" spc="-1" strike="noStrike">
                <a:solidFill>
                  <a:srgbClr val="1b5391"/>
                </a:solidFill>
                <a:latin typeface="Symbol"/>
                <a:ea typeface="Symbol"/>
              </a:rPr>
              <a:t></a:t>
            </a:r>
            <a:r>
              <a:rPr b="0" lang="es-CL" sz="3000" spc="-1" strike="noStrike">
                <a:solidFill>
                  <a:srgbClr val="1b5391"/>
                </a:solidFill>
                <a:latin typeface="Arial"/>
              </a:rPr>
              <a:t> &gt; 120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5320" y="838080"/>
            <a:ext cx="2361960" cy="2283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05000" y="2286000"/>
            <a:ext cx="2057400" cy="735120"/>
          </a:xfrm>
          <a:custGeom>
            <a:avLst/>
            <a:gdLst/>
            <a:ahLst/>
            <a:rect l="l" t="t" r="r" b="b"/>
            <a:pathLst>
              <a:path w="1344" h="480">
                <a:moveTo>
                  <a:pt x="0" y="480"/>
                </a:moveTo>
                <a:lnTo>
                  <a:pt x="1344" y="480"/>
                </a:lnTo>
                <a:lnTo>
                  <a:pt x="288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62200" y="2314440"/>
            <a:ext cx="704880" cy="7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2990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95480" y="91440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2057400"/>
            <a:ext cx="37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678040" y="28875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91120" y="3086280"/>
            <a:ext cx="3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995720" y="28875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4CB-46B3-4445-BC35-96181DFE082D}" type="slidenum">
              <a:t>8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38440" y="252576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800" y="4292640"/>
            <a:ext cx="837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DA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(or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DC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) terminal edge implies that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CMR6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must belong to region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XY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where angle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JCA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= angle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XY A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= angle 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CY Z 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= 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CMMI9"/>
              </a:rPr>
              <a:t>/</a:t>
            </a:r>
            <a:r>
              <a:rPr b="0" lang="es-ES" sz="2000" spc="-1" strike="noStrike">
                <a:solidFill>
                  <a:srgbClr val="000000"/>
                </a:solidFill>
                <a:latin typeface="CMR9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809880" cy="2711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054440" y="404640"/>
            <a:ext cx="65631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 first constraint on the situation of M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F55-8ABD-45D9-B7CD-37061C9EA69E}" type="slidenum">
              <a:t>8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61080" y="1197000"/>
            <a:ext cx="8332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a) If 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MA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=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20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, then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JC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is tangent to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MA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at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see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10(a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b) If 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MA &gt;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20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, then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JC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intersects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MAC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at a point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G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Figure 10(b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(c) If 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CMA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=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50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, then the triangle 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GCA </a:t>
            </a:r>
            <a:r>
              <a:rPr b="0" lang="es-ES" sz="2000" spc="-1" strike="noStrike">
                <a:solidFill>
                  <a:srgbClr val="000000"/>
                </a:solidFill>
                <a:latin typeface="CMTI10"/>
              </a:rPr>
              <a:t>is isosceles with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30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30</a:t>
            </a:r>
            <a:r>
              <a:rPr b="0" lang="es-ES" sz="2000" spc="-1" strike="noStrike">
                <a:solidFill>
                  <a:srgbClr val="000000"/>
                </a:solidFill>
                <a:latin typeface="CMMI10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CMR10"/>
              </a:rPr>
              <a:t>120</a:t>
            </a:r>
            <a:r>
              <a:rPr b="0" lang="es-CL" sz="2000" spc="-1" strike="noStrike">
                <a:solidFill>
                  <a:srgbClr val="000000"/>
                </a:solidFill>
                <a:latin typeface="CMTI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905120" y="3438360"/>
            <a:ext cx="6019560" cy="26672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80760" y="487440"/>
            <a:ext cx="717912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 second constraint on the situation of M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DE2-0B1D-4D56-8081-9352E63B227A}" type="slidenum">
              <a:t>8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188720" y="1197000"/>
            <a:ext cx="47599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too-obtuse triangle MAC,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ed close to C, A (neither to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47240" y="642960"/>
            <a:ext cx="1450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00400" y="2705040"/>
            <a:ext cx="1752480" cy="171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2819520"/>
            <a:ext cx="1190520" cy="1371600"/>
          </a:xfrm>
          <a:custGeom>
            <a:avLst/>
            <a:gdLst/>
            <a:ahLst/>
            <a:rect l="l" t="t" r="r" b="b"/>
            <a:pathLst>
              <a:path w="750" h="804">
                <a:moveTo>
                  <a:pt x="0" y="0"/>
                </a:moveTo>
                <a:lnTo>
                  <a:pt x="360" y="804"/>
                </a:lnTo>
                <a:lnTo>
                  <a:pt x="75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7920" y="4172040"/>
            <a:ext cx="1467000" cy="581040"/>
          </a:xfrm>
          <a:custGeom>
            <a:avLst/>
            <a:gdLst/>
            <a:ahLst/>
            <a:rect l="l" t="t" r="r" b="b"/>
            <a:pathLst>
              <a:path w="924" h="366">
                <a:moveTo>
                  <a:pt x="924" y="0"/>
                </a:moveTo>
                <a:lnTo>
                  <a:pt x="150" y="0"/>
                </a:lnTo>
                <a:lnTo>
                  <a:pt x="0" y="366"/>
                </a:lnTo>
                <a:lnTo>
                  <a:pt x="0" y="366"/>
                </a:lnTo>
                <a:lnTo>
                  <a:pt x="92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018960" y="3257280"/>
            <a:ext cx="46692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71800" y="272412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876840" y="2905200"/>
            <a:ext cx="7452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057560" y="4381560"/>
            <a:ext cx="74880" cy="74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95720" y="4106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57920" y="44560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662360" y="4145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C62-65AC-422F-8F82-D713E2158B14}" type="slidenum">
              <a:t>8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heorem 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non-constrained triang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y skinny terminal triangle is replaced by a better triangle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with C &gt; 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For too-obtuse triangle MAC, after a finite small number of point insertions inside circumcircle CC(MAC), significant angle improvement is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514600" y="2743200"/>
            <a:ext cx="1828800" cy="533520"/>
          </a:xfrm>
          <a:custGeom>
            <a:avLst/>
            <a:gdLst/>
            <a:ahLst/>
            <a:rect l="l" t="t" r="r" b="b"/>
            <a:pathLst>
              <a:path w="1152" h="336">
                <a:moveTo>
                  <a:pt x="0" y="336"/>
                </a:moveTo>
                <a:lnTo>
                  <a:pt x="192" y="0"/>
                </a:lnTo>
                <a:lnTo>
                  <a:pt x="1152" y="240"/>
                </a:lnTo>
                <a:lnTo>
                  <a:pt x="0" y="3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1952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60680" y="2595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199040" y="308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00560" y="316224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337200" y="31989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90800" y="296532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00160" y="2930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11520" y="290844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116000" y="21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DD8-506A-4E51-827C-104954410F6D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77840" y="812880"/>
            <a:ext cx="8753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of  sketch (b) Only finite n bad quality triangles analogous to 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orst than MAC are introdu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points inserted inside CC(MAC) and close to its boundary, 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finite n, an interior terminal edge is intro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429000" y="3676680"/>
            <a:ext cx="1828800" cy="2052720"/>
            <a:chOff x="3429000" y="3676680"/>
            <a:chExt cx="1828800" cy="2052720"/>
          </a:xfrm>
        </p:grpSpPr>
        <p:sp>
          <p:nvSpPr>
            <p:cNvPr id="477" name=""/>
            <p:cNvSpPr/>
            <p:nvPr/>
          </p:nvSpPr>
          <p:spPr>
            <a:xfrm>
              <a:off x="3429000" y="3676680"/>
              <a:ext cx="1828800" cy="173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74800" y="4272120"/>
              <a:ext cx="35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CL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79800" y="3755880"/>
              <a:ext cx="35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CL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51360" y="4300560"/>
              <a:ext cx="3556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es-CL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19720" y="4648320"/>
              <a:ext cx="114120" cy="104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133880" y="408780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991040" y="417348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6960" y="4268880"/>
              <a:ext cx="76320" cy="83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753080" y="5240160"/>
              <a:ext cx="7596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81400" y="4097160"/>
              <a:ext cx="609840" cy="119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867120" y="525924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286160" y="5373720"/>
              <a:ext cx="76320" cy="8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98920" y="5262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61240" y="545292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89440" y="5303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8BB-50CB-4926-A0E7-E1655AD63E3D}" type="slidenum">
              <a:t>8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1258920" y="1413000"/>
            <a:ext cx="655308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heorem:  Assuming PSLG geometry does not have constrained angle less than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, an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he algorithm ter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are working on a simpler proof of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62064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ED5-5764-42F3-9A32-84B23EB99B4E}" type="slidenum">
              <a:t>8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ulation Refinement Problem II (TRP I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quality acceptable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ith angles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refinement regi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size tolerance paramete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ct a refined valid triangulation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_tradnl" sz="2000" spc="-1" strike="noStrike">
                <a:solidFill>
                  <a:srgbClr val="000000"/>
                </a:solidFill>
                <a:latin typeface="Trebuchet MS"/>
              </a:rPr>
              <a:t>≈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(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 edg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t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04D-0F2A-4890-ABBC-F30A4EA749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258920" y="1413000"/>
            <a:ext cx="6553080" cy="28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pen question:  an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ptimal size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quality triangulation is obt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ted with the termination 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points close to previous points are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need clever geometrical expla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AA5-9BC6-41A4-BDF5-AB64B21086DD}" type="slidenum">
              <a:t>9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258920" y="1413000"/>
            <a:ext cx="6553080" cy="33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 Rivara-Calderón GMP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 introduce a terminal centroid algorithm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oves the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iminates the LOOP CASE (restriction 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compare midpoint and centroid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we compare with circumcenter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centroid behaves better than previous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256-8C29-460A-B428-87FE998FA4F8}" type="slidenum">
              <a:t>9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 IJNME 1984, SIAM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 edge Lepp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 IJNME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-Hitschfeld-Simpson CA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oved and revisited properties of longest 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. Gutierrez, F. Gutierrez, Rivara, TCS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ew on 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, submitted APNUM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vara-Calderon, GMP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FED-5D78-49B0-84CC-F8FC506BBC0F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033560" y="2119320"/>
            <a:ext cx="7076880" cy="26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31D1-FB47-42BD-A346-A9272CAC9F8D}" type="slidenum">
              <a:t>9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Tutorial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6:09:56Z</dcterms:created>
  <dc:creator>pedrito</dc:creator>
  <dc:description/>
  <dc:language>en-US</dc:language>
  <cp:lastModifiedBy>mcrivara</cp:lastModifiedBy>
  <dcterms:modified xsi:type="dcterms:W3CDTF">2008-09-01T16:53:55Z</dcterms:modified>
  <cp:revision>45</cp:revision>
  <dc:subject/>
  <dc:title>Diapositiva 1</dc:title>
</cp:coreProperties>
</file>