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B20BA004-CB10-4FF8-8616-6AD12A3240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87CAF67-2CE7-4997-A5FB-03874BDC4D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algn="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36800" y="779400"/>
            <a:ext cx="5091120" cy="38181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857840"/>
            <a:ext cx="525456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F658-73E4-486E-AF2D-CEA4B68B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63D-BCB3-4063-AB75-A0FCEDF8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9C5-A841-4990-9FC9-9FC4D1D3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462-6113-4CF5-9531-B6D8540F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B83-B843-4247-BF07-1DEFE2C1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65D-F91A-4AD4-B2F3-C087499A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231-C17C-474A-9B4C-0513FBD1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5751-E6EE-4CF1-B654-96840431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723-72FD-42BE-82BC-65C8B2DA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383-37F7-4740-9F69-B75BC84F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1BC8-234E-4D74-B2C1-91D77BA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9A1-0474-4BF4-8D69-C886038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AAEC-D544-470F-BF7E-124F5F9AE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5320" y="2263320"/>
            <a:ext cx="74916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pp Delaunay algorithms for quality trian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141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ría Cecilia Riv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iversity of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ptem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4CA-2A64-411A-801B-F0FDE5EB83C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94440" y="1905120"/>
            <a:ext cx="596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•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ngest-Edge Propagation Path (t)      Lepp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20760" y="2895480"/>
            <a:ext cx="256176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= {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identif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sociated to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895480"/>
            <a:ext cx="990720" cy="304920"/>
          </a:xfrm>
          <a:custGeom>
            <a:avLst/>
            <a:gdLst/>
            <a:ahLst/>
            <a:rect l="l" t="t" r="r" b="b"/>
            <a:pathLst>
              <a:path w="624" h="192">
                <a:moveTo>
                  <a:pt x="0" y="192"/>
                </a:moveTo>
                <a:lnTo>
                  <a:pt x="96" y="0"/>
                </a:lnTo>
                <a:lnTo>
                  <a:pt x="624" y="0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895480"/>
            <a:ext cx="1676520" cy="990720"/>
          </a:xfrm>
          <a:custGeom>
            <a:avLst/>
            <a:gdLst/>
            <a:ahLst/>
            <a:rect l="l" t="t" r="r" b="b"/>
            <a:pathLst>
              <a:path w="1056" h="624">
                <a:moveTo>
                  <a:pt x="0" y="192"/>
                </a:moveTo>
                <a:lnTo>
                  <a:pt x="96" y="624"/>
                </a:lnTo>
                <a:lnTo>
                  <a:pt x="624" y="0"/>
                </a:lnTo>
                <a:lnTo>
                  <a:pt x="1056" y="288"/>
                </a:lnTo>
                <a:lnTo>
                  <a:pt x="9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3352680"/>
            <a:ext cx="152424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336"/>
                </a:moveTo>
                <a:lnTo>
                  <a:pt x="720" y="528"/>
                </a:lnTo>
                <a:lnTo>
                  <a:pt x="96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55000" y="28306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5500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7120" y="321156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7120" y="3745080"/>
            <a:ext cx="28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24240" y="38210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00760" y="313524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1040" y="421308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733920"/>
            <a:ext cx="317520" cy="533160"/>
          </a:xfrm>
          <a:custGeom>
            <a:avLst/>
            <a:gdLst/>
            <a:ahLst/>
            <a:rect l="l" t="t" r="r" b="b"/>
            <a:pathLst>
              <a:path w="344" h="384">
                <a:moveTo>
                  <a:pt x="0" y="384"/>
                </a:moveTo>
                <a:cubicBezTo>
                  <a:pt x="116" y="320"/>
                  <a:pt x="232" y="256"/>
                  <a:pt x="288" y="192"/>
                </a:cubicBezTo>
                <a:cubicBezTo>
                  <a:pt x="344" y="128"/>
                  <a:pt x="340" y="64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7680" y="4800600"/>
            <a:ext cx="432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&gt; longest-edge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914400"/>
            <a:ext cx="7086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(t): a key concept for find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CB7-4182-4BC6-AB25-E1177C6687B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352440"/>
            <a:ext cx="7086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mprovement of triangulations and automatic construction of quality triang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2133720"/>
            <a:ext cx="784872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aunay triangul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edges associated to bad quality elements (triangl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) are good places for point insertion (original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oint selection criterion can be developed (points clo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terminal edge mid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p(t):  for bad quality triangle t, allows to find associ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ed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912-F92A-4AF6-9B05-A2D8170998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/ Terminal edge midpoint Delaunay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773360"/>
            <a:ext cx="7086600" cy="40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ed and studied by Rivara, Simpson,Hitschfeld 199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97, 2001, 2006 in a rather intuitive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generalization  of longest edge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st edge bisection algorithm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h q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serting terminal edge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unay insertion of M improve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the ed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metrical properties have been 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416-2623-4F64-BDDC-B343934A072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62064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(terminal edge) 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1700280"/>
            <a:ext cx="64245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ed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 as midpoint of 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midpoint of a terminal edge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1E6-0987-4BE3-9BBE-8E03D6097C2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064960" y="168120"/>
            <a:ext cx="598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 Delaunay algorithm</a:t>
            </a:r>
            <a:r>
              <a:rPr b="1" lang="es-ES_tradnl" sz="2500" spc="-1" strike="noStrike">
                <a:solidFill>
                  <a:srgbClr val="1b5391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1360440"/>
            <a:ext cx="1600200" cy="1676520"/>
          </a:xfrm>
          <a:custGeom>
            <a:avLst/>
            <a:gdLst/>
            <a:ahLst/>
            <a:rect l="l" t="t" r="r" b="b"/>
            <a:pathLst>
              <a:path w="1008" h="1056">
                <a:moveTo>
                  <a:pt x="0" y="768"/>
                </a:moveTo>
                <a:lnTo>
                  <a:pt x="480" y="1056"/>
                </a:lnTo>
                <a:lnTo>
                  <a:pt x="1008" y="528"/>
                </a:lnTo>
                <a:lnTo>
                  <a:pt x="336" y="0"/>
                </a:lnTo>
                <a:lnTo>
                  <a:pt x="0" y="76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1360440"/>
            <a:ext cx="53352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360440"/>
            <a:ext cx="106668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6920" y="136044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42960" y="18511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47520" y="21556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20560" y="236232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2046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46600" y="14479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3400" y="17524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9320" y="10890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TARGET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48520" y="1393920"/>
            <a:ext cx="105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DELAUN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ff"/>
                </a:solidFill>
                <a:latin typeface="Arial"/>
              </a:rPr>
              <a:t>INSER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402732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336" y="0"/>
                </a:lnTo>
                <a:lnTo>
                  <a:pt x="96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60600" y="4027320"/>
            <a:ext cx="296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1108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408560"/>
            <a:ext cx="284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865760"/>
            <a:ext cx="1600200" cy="8492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410364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440" y="428940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4845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027320"/>
            <a:ext cx="106704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027320"/>
            <a:ext cx="1066680" cy="83844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336" y="0"/>
                </a:moveTo>
                <a:lnTo>
                  <a:pt x="0" y="288"/>
                </a:lnTo>
                <a:lnTo>
                  <a:pt x="432" y="528"/>
                </a:lnTo>
                <a:lnTo>
                  <a:pt x="672" y="288"/>
                </a:lnTo>
                <a:lnTo>
                  <a:pt x="33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4027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7400" y="433224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91960" y="440856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10960" y="425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576" y="4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4941720"/>
            <a:ext cx="1600200" cy="83844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240"/>
                </a:moveTo>
                <a:lnTo>
                  <a:pt x="528" y="528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941720"/>
            <a:ext cx="1522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4179960"/>
            <a:ext cx="1447560" cy="1143000"/>
          </a:xfrm>
          <a:custGeom>
            <a:avLst/>
            <a:gdLst/>
            <a:ahLst/>
            <a:rect l="l" t="t" r="r" b="b"/>
            <a:pathLst>
              <a:path w="912" h="720">
                <a:moveTo>
                  <a:pt x="0" y="720"/>
                </a:moveTo>
                <a:lnTo>
                  <a:pt x="432" y="48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456084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4103640"/>
            <a:ext cx="1526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91320" y="4103640"/>
            <a:ext cx="533160" cy="1219320"/>
          </a:xfrm>
          <a:custGeom>
            <a:avLst/>
            <a:gdLst/>
            <a:ahLst/>
            <a:rect l="l" t="t" r="r" b="b"/>
            <a:pathLst>
              <a:path w="336" h="768">
                <a:moveTo>
                  <a:pt x="0" y="768"/>
                </a:moveTo>
                <a:lnTo>
                  <a:pt x="0" y="288"/>
                </a:lnTo>
                <a:lnTo>
                  <a:pt x="96" y="48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410364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336" y="288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91320" y="4560840"/>
            <a:ext cx="1066680" cy="1800"/>
          </a:xfrm>
          <a:custGeom>
            <a:avLst/>
            <a:gdLst/>
            <a:ahLst/>
            <a:rect l="l" t="t" r="r" b="b"/>
            <a:pathLst>
              <a:path w="672" h="1">
                <a:moveTo>
                  <a:pt x="0" y="0"/>
                </a:moveTo>
                <a:lnTo>
                  <a:pt x="384" y="0"/>
                </a:lnTo>
                <a:lnTo>
                  <a:pt x="67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17996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41760" y="64231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8200" y="4941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0960" y="42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1880" y="43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960" y="2732040"/>
            <a:ext cx="77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4484520"/>
            <a:ext cx="228600" cy="123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97360" y="1358640"/>
            <a:ext cx="129960" cy="84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09320" y="2201400"/>
            <a:ext cx="125280" cy="843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44845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440" y="3112920"/>
            <a:ext cx="143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idpoint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he Terminal-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1447920"/>
            <a:ext cx="1067040" cy="838080"/>
          </a:xfrm>
          <a:custGeom>
            <a:avLst/>
            <a:gdLst/>
            <a:ahLst/>
            <a:rect l="l" t="t" r="r" b="b"/>
            <a:pathLst>
              <a:path w="672" h="528">
                <a:moveTo>
                  <a:pt x="0" y="0"/>
                </a:moveTo>
                <a:lnTo>
                  <a:pt x="96" y="528"/>
                </a:lnTo>
                <a:lnTo>
                  <a:pt x="672" y="528"/>
                </a:lnTo>
                <a:lnTo>
                  <a:pt x="576" y="9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248520" y="19807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629400" y="16002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324480" y="2285640"/>
            <a:ext cx="8384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1447920"/>
            <a:ext cx="685800" cy="1523880"/>
          </a:xfrm>
          <a:custGeom>
            <a:avLst/>
            <a:gdLst/>
            <a:ahLst/>
            <a:rect l="l" t="t" r="r" b="b"/>
            <a:pathLst>
              <a:path w="432" h="960">
                <a:moveTo>
                  <a:pt x="288" y="0"/>
                </a:moveTo>
                <a:lnTo>
                  <a:pt x="0" y="288"/>
                </a:lnTo>
                <a:lnTo>
                  <a:pt x="384" y="528"/>
                </a:lnTo>
                <a:lnTo>
                  <a:pt x="48" y="720"/>
                </a:lnTo>
                <a:lnTo>
                  <a:pt x="432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48520" y="228600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19051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144792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8" y="0"/>
                </a:moveTo>
                <a:lnTo>
                  <a:pt x="48" y="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752480"/>
            <a:ext cx="304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30480" y="1828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59200" y="1981080"/>
            <a:ext cx="272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7800" y="1295280"/>
            <a:ext cx="241200" cy="228600"/>
          </a:xfrm>
          <a:custGeom>
            <a:avLst/>
            <a:gdLst/>
            <a:ahLst/>
            <a:rect l="l" t="t" r="r" b="b"/>
            <a:pathLst>
              <a:path w="152" h="144">
                <a:moveTo>
                  <a:pt x="104" y="0"/>
                </a:moveTo>
                <a:cubicBezTo>
                  <a:pt x="52" y="12"/>
                  <a:pt x="0" y="24"/>
                  <a:pt x="8" y="48"/>
                </a:cubicBezTo>
                <a:cubicBezTo>
                  <a:pt x="16" y="72"/>
                  <a:pt x="84" y="108"/>
                  <a:pt x="15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AA7-B151-487D-84F3-46F2A5AE1A1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3733920" y="2514600"/>
            <a:ext cx="164448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47920" y="2514600"/>
            <a:ext cx="164304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943600" y="2438280"/>
            <a:ext cx="171288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184760" y="1125360"/>
            <a:ext cx="6933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48360" y="4427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n angl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6F0-1C84-4DED-98E2-07A5392CB65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2819520"/>
            <a:ext cx="1752840" cy="1744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752480" cy="1744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>
            <a:lum bright="-36000"/>
          </a:blip>
          <a:srcRect l="23532" t="39394" r="17649" b="18183"/>
          <a:stretch/>
        </p:blipFill>
        <p:spPr>
          <a:xfrm>
            <a:off x="6400800" y="2819520"/>
            <a:ext cx="1676520" cy="170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65240" y="803160"/>
            <a:ext cx="305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nother exa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2306-C27E-45B8-A028-38F79D6A528B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9240" y="609480"/>
            <a:ext cx="6387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f CA is a constrained edg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0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&lt; 30º or  </a:t>
            </a:r>
            <a:r>
              <a:rPr b="0" i="1" lang="es-E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lt; 30º then insert midpoint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f edge 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5029200" cy="2779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1200" y="5178600"/>
            <a:ext cx="894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1b5391"/>
                </a:solidFill>
                <a:latin typeface="Arial"/>
              </a:rPr>
              <a:t>Remark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ver constrained edge CA, the insertion of M and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du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angl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imilar to triangle BAC; (b) Insertion of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oids this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09920" y="136440"/>
            <a:ext cx="5664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trained edge point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2720" y="29718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30800" y="3429000"/>
            <a:ext cx="30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MR7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E719-6257-4C34-86AA-AF807B71E57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38400" y="350532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274320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6880" y="2471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49440" y="3386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62680" y="3375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467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429000" y="2233080"/>
            <a:ext cx="1287360" cy="51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2233440"/>
            <a:ext cx="312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962520" y="2233440"/>
            <a:ext cx="753840" cy="1271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78200" y="2195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8560" y="189000"/>
            <a:ext cx="784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ssumption to avoid unfrequent LOOP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to simplify the analysi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67120" y="1525680"/>
            <a:ext cx="2560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tol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22.2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69520" y="3754440"/>
            <a:ext cx="543708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op case can happen under the constra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BA terminal edge of midpoint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CA terminal edge of midpoint 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22.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- + some constrained i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iangle 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to triangle B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95800" y="2895480"/>
            <a:ext cx="355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48800" y="3124080"/>
            <a:ext cx="39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2746440"/>
            <a:ext cx="57168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62320" y="3076560"/>
            <a:ext cx="7488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78B-07C5-46E2-BD0F-58C4AA51C09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97200" y="2185920"/>
            <a:ext cx="7421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Geometrical properties of th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terminal edge 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C1E-7DFE-4198-B8DC-E28CF49A3D94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55760" y="1028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0"/>
            <a:ext cx="806472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ic concepts on longest edge and 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triangulation problem, terminal edge and Lepp concept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Delaunay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etrical properties of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Delaunay centroid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ometrical properties of the centroid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irical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Lepp-centroid versus Lepp-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Lepp-centroid versus Circum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23F-9590-44B4-87D4-F2A94D4AE15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50880" y="1986120"/>
            <a:ext cx="2895840" cy="2328840"/>
            <a:chOff x="1550880" y="1986120"/>
            <a:chExt cx="2895840" cy="2328840"/>
          </a:xfrm>
        </p:grpSpPr>
        <p:sp>
          <p:nvSpPr>
            <p:cNvPr id="214" name=""/>
            <p:cNvSpPr/>
            <p:nvPr/>
          </p:nvSpPr>
          <p:spPr>
            <a:xfrm>
              <a:off x="3063960" y="3019680"/>
              <a:ext cx="30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44640" y="2257560"/>
              <a:ext cx="2286000" cy="762120"/>
            </a:xfrm>
            <a:custGeom>
              <a:avLst/>
              <a:gdLst/>
              <a:ahLst/>
              <a:rect l="l" t="t" r="r" b="b"/>
              <a:pathLst>
                <a:path w="1440" h="480">
                  <a:moveTo>
                    <a:pt x="0" y="480"/>
                  </a:moveTo>
                  <a:lnTo>
                    <a:pt x="1440" y="480"/>
                  </a:lnTo>
                  <a:lnTo>
                    <a:pt x="432" y="0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44640" y="3019680"/>
              <a:ext cx="2286000" cy="1295280"/>
            </a:xfrm>
            <a:custGeom>
              <a:avLst/>
              <a:gdLst/>
              <a:ahLst/>
              <a:rect l="l" t="t" r="r" b="b"/>
              <a:pathLst>
                <a:path w="1440" h="816">
                  <a:moveTo>
                    <a:pt x="0" y="0"/>
                  </a:moveTo>
                  <a:lnTo>
                    <a:pt x="720" y="816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30440" y="2257560"/>
              <a:ext cx="533160" cy="2057400"/>
            </a:xfrm>
            <a:custGeom>
              <a:avLst/>
              <a:gdLst/>
              <a:ahLst/>
              <a:rect l="l" t="t" r="r" b="b"/>
              <a:pathLst>
                <a:path w="336" h="1296">
                  <a:moveTo>
                    <a:pt x="0" y="0"/>
                  </a:moveTo>
                  <a:lnTo>
                    <a:pt x="336" y="480"/>
                  </a:lnTo>
                  <a:lnTo>
                    <a:pt x="288" y="12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7960" y="19861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0880" y="29005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63760" y="2889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5800" y="298152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194960" y="30574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75280" y="229536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1440" y="480"/>
                </a:lnTo>
                <a:lnTo>
                  <a:pt x="432" y="0"/>
                </a:lnTo>
                <a:lnTo>
                  <a:pt x="0" y="48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75280" y="3057480"/>
            <a:ext cx="2286000" cy="1295280"/>
          </a:xfrm>
          <a:custGeom>
            <a:avLst/>
            <a:gdLst/>
            <a:ahLst/>
            <a:rect l="l" t="t" r="r" b="b"/>
            <a:pathLst>
              <a:path w="1440" h="816">
                <a:moveTo>
                  <a:pt x="0" y="0"/>
                </a:moveTo>
                <a:lnTo>
                  <a:pt x="720" y="816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61080" y="2295360"/>
            <a:ext cx="53352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0" y="0"/>
                </a:moveTo>
                <a:lnTo>
                  <a:pt x="336" y="480"/>
                </a:lnTo>
                <a:lnTo>
                  <a:pt x="288" y="12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38960" y="20239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81520" y="29383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4760" y="29275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56440" y="3019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97280" y="2735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b5391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661080" y="1785960"/>
            <a:ext cx="1287360" cy="51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03960" y="1636560"/>
            <a:ext cx="1434960" cy="831960"/>
          </a:xfrm>
          <a:custGeom>
            <a:avLst/>
            <a:gdLst/>
            <a:ahLst/>
            <a:rect l="l" t="t" r="r" b="b"/>
            <a:pathLst>
              <a:path w="904" h="524">
                <a:moveTo>
                  <a:pt x="0" y="524"/>
                </a:moveTo>
                <a:lnTo>
                  <a:pt x="90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799320" y="1661760"/>
            <a:ext cx="1695240" cy="53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48440" y="1785960"/>
            <a:ext cx="312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194600" y="1785960"/>
            <a:ext cx="753840" cy="1271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10640" y="1747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81880" y="476280"/>
            <a:ext cx="771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launay insertion of terminal edge 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2600" y="1488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wo ste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77280" y="4583160"/>
            <a:ext cx="27302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ngest-edge bi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58720" y="458316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quence of edge swapp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72240" y="5543640"/>
            <a:ext cx="476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e present some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1295280"/>
            <a:ext cx="1143000" cy="304920"/>
          </a:xfrm>
          <a:custGeom>
            <a:avLst/>
            <a:gdLst/>
            <a:ahLst/>
            <a:rect l="l" t="t" r="r" b="b"/>
            <a:pathLst>
              <a:path w="720" h="192">
                <a:moveTo>
                  <a:pt x="0" y="192"/>
                </a:moveTo>
                <a:lnTo>
                  <a:pt x="240" y="0"/>
                </a:lnTo>
                <a:lnTo>
                  <a:pt x="720" y="192"/>
                </a:lnTo>
                <a:lnTo>
                  <a:pt x="0" y="1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1600200"/>
            <a:ext cx="1143000" cy="45720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lnTo>
                  <a:pt x="384" y="288"/>
                </a:lnTo>
                <a:lnTo>
                  <a:pt x="7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31160" y="1295280"/>
            <a:ext cx="289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505-96CF-43CE-88F4-E37E9700FD0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4680000" cy="2781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6560" y="4292640"/>
            <a:ext cx="8124120" cy="23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heorem 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For any pair of Delaunay terminal-triangles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haring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nconstrained terminal ed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est angle(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3 for i = 1,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of: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C,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ABD.   Vertex D in region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120º, triangle  ADB equilateral and |ZO| = r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44760" y="333360"/>
            <a:ext cx="61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traint on the largest angle of Delaun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l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69080" y="206064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80808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9B-3980-4E2C-B678-82761042450F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05880" y="404640"/>
            <a:ext cx="8097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98080" y="1306440"/>
            <a:ext cx="535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sumption:  second longest edge CA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690640"/>
            <a:ext cx="2362320" cy="838440"/>
          </a:xfrm>
          <a:custGeom>
            <a:avLst/>
            <a:gdLst/>
            <a:ahLst/>
            <a:rect l="l" t="t" r="r" b="b"/>
            <a:pathLst>
              <a:path w="1488" h="528">
                <a:moveTo>
                  <a:pt x="0" y="528"/>
                </a:moveTo>
                <a:lnTo>
                  <a:pt x="336" y="0"/>
                </a:lnTo>
                <a:lnTo>
                  <a:pt x="1488" y="0"/>
                </a:lnTo>
                <a:lnTo>
                  <a:pt x="0" y="5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6906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35480" y="2343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13120" y="3529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6744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64240" y="2617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39840" y="2671920"/>
            <a:ext cx="351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49760" y="3592440"/>
            <a:ext cx="334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rgest angl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120º  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C Delaunay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midpoint of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90920" y="3897360"/>
            <a:ext cx="44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94120" y="3897360"/>
            <a:ext cx="32832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aints on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raints on</a:t>
            </a:r>
            <a:r>
              <a:rPr b="1" lang="es-CL" sz="1800" spc="-1" strike="noStrike">
                <a:solidFill>
                  <a:srgbClr val="1b5391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gl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1703520"/>
            <a:ext cx="23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a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D796-64C9-459D-8401-5EAC5D9A1A4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434340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C is geometrical place for vertex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’F’N is geometrical place for midpo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514600" y="990720"/>
            <a:ext cx="4267080" cy="2977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37400" y="179280"/>
            <a:ext cx="809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haracterization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AFB-9A01-4323-878C-E87A5D01E8E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839080" cy="365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77F0-B72A-46DE-BED3-BCE9F1A8B31E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87280" y="3141720"/>
            <a:ext cx="739152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        and  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obtus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and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3720" y="2602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rst longest edge bi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5084640"/>
            <a:ext cx="8064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a sequence of improved triangles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f vertex B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909440" y="836640"/>
            <a:ext cx="4791960" cy="2361600"/>
            <a:chOff x="1909440" y="836640"/>
            <a:chExt cx="4791960" cy="2361600"/>
          </a:xfrm>
        </p:grpSpPr>
        <p:sp>
          <p:nvSpPr>
            <p:cNvPr id="270" name=""/>
            <p:cNvSpPr/>
            <p:nvPr/>
          </p:nvSpPr>
          <p:spPr>
            <a:xfrm>
              <a:off x="2262240" y="1258560"/>
              <a:ext cx="4085280" cy="1693440"/>
            </a:xfrm>
            <a:custGeom>
              <a:avLst/>
              <a:gdLst/>
              <a:ahLst/>
              <a:rect l="l" t="t" r="r" b="b"/>
              <a:pathLst>
                <a:path w="2087" h="726">
                  <a:moveTo>
                    <a:pt x="0" y="726"/>
                  </a:moveTo>
                  <a:lnTo>
                    <a:pt x="2087" y="726"/>
                  </a:lnTo>
                  <a:lnTo>
                    <a:pt x="590" y="0"/>
                  </a:lnTo>
                  <a:lnTo>
                    <a:pt x="0" y="72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417120" y="1258560"/>
              <a:ext cx="888480" cy="169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42440" y="2952000"/>
              <a:ext cx="285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0944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360" y="8366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5720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36800" y="284652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0280" y="2105280"/>
              <a:ext cx="2642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66400" y="2347560"/>
              <a:ext cx="36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CL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54800" y="252936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01080" y="1365840"/>
              <a:ext cx="3009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0C24-7E8C-4895-B8A7-F6E8E19BC31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362320" y="1098720"/>
            <a:ext cx="3809880" cy="2406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143000" y="3657600"/>
            <a:ext cx="7010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acute triang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30º  (B in CIH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B in CVW)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0.88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920" y="422280"/>
            <a:ext cx="251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ngle bo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657D-81C7-45C2-962D-31A4F53A6BD8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42160" y="422280"/>
            <a:ext cx="790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ounds on distance from M to previous po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687680"/>
            <a:ext cx="57085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(M) = minimum distance from M to ver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A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For obtus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4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|BC|     C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gt; 0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º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(M)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0.5 |BC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978-F48B-4651-84E4-1D4B9929FD6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166840" y="422280"/>
            <a:ext cx="47070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d results on 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mprovement of triangles t</a:t>
            </a:r>
            <a:r>
              <a:rPr b="0" lang="es-CL" sz="3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42920" y="1557360"/>
            <a:ext cx="70754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orem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quence of improved triangl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eliminating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no edges smaller than previous edges are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14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n edge at most 0.66 times the size of neighbor previous edge, can be occassionaly inse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in this case a quality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obtained and process st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8A-137B-47BD-829A-3423C9F8FC5E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0720" y="28692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Theorem TRIANGL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non-constrained triang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ny skinny terminal triangle is replaced by a better triangle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with C &gt; 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b) For too-obtuse triangle MAC, after a finite small number of point insertions inside circumcircle CC(MAC), significant angle improvement is achie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2743200"/>
            <a:ext cx="1828800" cy="533520"/>
          </a:xfrm>
          <a:custGeom>
            <a:avLst/>
            <a:gdLst/>
            <a:ahLst/>
            <a:rect l="l" t="t" r="r" b="b"/>
            <a:pathLst>
              <a:path w="1152" h="336">
                <a:moveTo>
                  <a:pt x="0" y="336"/>
                </a:moveTo>
                <a:lnTo>
                  <a:pt x="192" y="0"/>
                </a:lnTo>
                <a:lnTo>
                  <a:pt x="1152" y="240"/>
                </a:lnTo>
                <a:lnTo>
                  <a:pt x="0" y="33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27432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60680" y="2595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9040" y="3081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00560" y="3162240"/>
            <a:ext cx="75960" cy="763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37200" y="31989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90800" y="296532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00160" y="2930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11520" y="2908440"/>
            <a:ext cx="325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CL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16000" y="21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955-0038-4FEB-B7C4-6EE7EFCF250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sic concepts: longest-edge refinement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7086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ious longest edge refinement algorithms (Rivara 84, 87, 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veloped for adaptive f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y allow the local refinement of the triangulations by maintaining the quality of the input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d on the longest-edge bisection of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86640" y="5421240"/>
            <a:ext cx="629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 A terminal-edge is a special longest-edg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trian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4419720"/>
            <a:ext cx="2209680" cy="685800"/>
          </a:xfrm>
          <a:custGeom>
            <a:avLst/>
            <a:gdLst/>
            <a:ahLst/>
            <a:rect l="l" t="t" r="r" b="b"/>
            <a:pathLst>
              <a:path w="1392" h="432">
                <a:moveTo>
                  <a:pt x="0" y="432"/>
                </a:moveTo>
                <a:lnTo>
                  <a:pt x="432" y="0"/>
                </a:lnTo>
                <a:lnTo>
                  <a:pt x="1392" y="336"/>
                </a:lnTo>
                <a:lnTo>
                  <a:pt x="0" y="43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44197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2680" y="4224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52880" y="48340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57600" y="5062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14600" y="50626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78C-96D5-4B50-835B-595BCC33F0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738440" y="2525760"/>
            <a:ext cx="18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48960" y="2205000"/>
            <a:ext cx="587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pp Delaunay centroid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1A22-2007-4909-A592-2C198D26BFD0}" type="slidenum">
              <a:t>3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58920" y="62064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Delaunay (terminal edge) centroid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03280" y="1700280"/>
            <a:ext cx="64245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put:  constrained Delaunay triangulation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mallest angle tolerance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set S of triangles with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&lt;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or each t in S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While t remains in the mesh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d Lepp (t) and associated terminal triang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 point P to be inserted as centroid of terminal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orm (constrained) Delaunay inser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e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  In general P is centroid of a pair of  terminal triangles excepting for constrain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1BE-58CA-4880-9FC3-B13AD3871858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32000" y="2205000"/>
            <a:ext cx="6095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ometrical properties of the centroid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4C3-4238-418A-BED5-9CB4B38B1292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79640" y="2165400"/>
            <a:ext cx="4680000" cy="41338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971640" y="981000"/>
            <a:ext cx="691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Coordinates system: origin a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axis along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entroid Q 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55680" y="404640"/>
            <a:ext cx="668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AC, BDA terminal Delaunay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770-72AB-4E36-93A3-5BB06818C9B7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900000" y="33336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Bounds on the cordinates of centroid Q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00000" y="1125360"/>
            <a:ext cx="748980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(0,0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(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0), C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D(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coordinate of U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x-coordinate of W =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4 &lt;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l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 +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4                    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4 &lt; 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lt; (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067280" y="3541680"/>
            <a:ext cx="3097080" cy="273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FA2-A3DC-40D9-AF30-E297E56C2C02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00000" y="83664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irs of Delaunay terminal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26920" y="1989000"/>
            <a:ext cx="74901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ollary 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r any pair of terminal triangles involving a pair of (obtuse, acute) terminal triangles, the quad centroid is situated in the interior of the acute tri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E01-90CD-42F9-AA61-89954690248A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900000" y="476280"/>
            <a:ext cx="6913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centroid inser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00000" y="1341360"/>
            <a:ext cx="7489800" cy="39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o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shortest edge obtained from centroid insertion is long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an the shortest edge obtained from terminal edge 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centroid algorithm does not suffer of looping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of:  The centroid is not aligned with the vertice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00000" y="522936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mark:  We expect that centroid algorithm behaves better in practice  than 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8FB7-4FA3-4DA2-8E14-06C2F2C54B61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mpirical comparison between Lepp-midpoint and Lepp centroid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92C-EEDB-4A28-A87A-27EC60AD1D5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609480" y="1700280"/>
            <a:ext cx="7285320" cy="24494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2548440" y="4653000"/>
            <a:ext cx="33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g. 7 Initial triangulations for the test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42920" y="0"/>
            <a:ext cx="712944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We consider three test ca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itial Delaunay triangul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DE0-97B8-46AA-B906-751CDCECB879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We stud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h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mallest angl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malized area quality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olution of average smallest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rmalized minimum edg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wrt minimun edge size input me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EF1-237D-4CE2-8F17-FBDE4DDDFFA6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operties of longest-edge bi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560" y="12679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iterative longest-edge bisection of a triangl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ssures that min angle (t)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min angle of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finite set of similary distinct triangles is produ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ngest-edge refinement algorithms inherit thes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ractal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QUALITY OF THE MESHES DEPEND ON THE QUALITY OF THE INITIAL TRIANG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CF1C-CEA4-46D7-9690-4C645A30483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computes significantly smaller triangulations than Lepp-mid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terminates for highe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produces triangulations having better distribution of triangles than Lepp-midpoint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482-3312-4C44-8187-0D7DC81A462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rmalized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quality mesure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29600" cy="2613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2318040" y="5151600"/>
            <a:ext cx="102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(t)=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51240" y="501336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ea 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ongest edge)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6720" y="5373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207-65B6-480C-9F99-63DFC91ABA7E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 centroid versus Lepp-midpoint algorithms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verage smallest ang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457200" y="2556000"/>
            <a:ext cx="8229600" cy="26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DBD-A3FB-4C22-98C5-759D4EB792CA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29600" cy="4093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07680" y="549360"/>
            <a:ext cx="811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rea quality 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Lepp-midpoint algorith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031-3F51-4B32-BA92-B3342CDAB5D6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Comparison between Lepp-centroid algorithm and circumcenter method (Triangle softwar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26920" y="2637000"/>
            <a:ext cx="777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mcenter method:  Delaunay inserts the circumcenter of b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ality processing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214-DA3C-4252-851E-BA7D201353A4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Test probl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26920" y="2133720"/>
            <a:ext cx="777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e three previous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 A-test case included with Triangle Software (a small triangu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D00-1315-4792-A08E-681FA76F2845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Lepp-centroid versus Circum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2133720"/>
            <a:ext cx="777744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 centroid worked well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up 36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rcumcenter worked well up 35º but increasing highly the number of points inserted for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&gt; 25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nly for the A-test case the behavior is similar.  Here we are indeed testing the boundary point inser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273-8BC8-4A8C-9C29-A20402CF1BDA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7200" y="1144440"/>
            <a:ext cx="8229600" cy="411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B3B-B79B-4C8E-80FF-68D5E01980B5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66840" y="274680"/>
            <a:ext cx="661032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B0B-B4FC-4601-B3A3-10C40E489282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1116000" y="1989000"/>
          <a:ext cx="6843600" cy="4235760"/>
        </p:xfrm>
        <a:graphic>
          <a:graphicData uri="http://schemas.openxmlformats.org/drawingml/2006/table">
            <a:tbl>
              <a:tblPr/>
              <a:tblGrid>
                <a:gridCol w="1008000"/>
                <a:gridCol w="719280"/>
                <a:gridCol w="865080"/>
                <a:gridCol w="576360"/>
                <a:gridCol w="863640"/>
                <a:gridCol w="647640"/>
                <a:gridCol w="792000"/>
                <a:gridCol w="648000"/>
                <a:gridCol w="723600"/>
              </a:tblGrid>
              <a:tr h="406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umber of points ad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imum mesh 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(degre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quare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ircles2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ctangle1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-ca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ntroid Triang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8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6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971640" y="476280"/>
            <a:ext cx="74880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epp-centroid versus circumcenter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Quantitative compari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5F0-F0FE-45F9-92A3-6AFBC29139F5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finement / Derefinement algorith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791320" cy="4400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623200" y="590076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JNME 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219C-372E-40A8-9AEB-41FEDB4A0F1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improves in practice Lepp-midpoint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pp-centroid behaves better than circumcirc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36º with less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ss triangles since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o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25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earch in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oved geometrical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 prove that optimal size triangulations are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BA1-7EE2-47D3-A97A-A14FA2506C4F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elaunay triangulation (D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blem: Given a point set P,  construct a triangulation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 = { points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is a DT of P if the circuncircle of every triangle t in T do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t include any vertex of P in its i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 and t* are locally Delaunay tri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4267080" y="3809880"/>
            <a:ext cx="1295640" cy="1447920"/>
            <a:chOff x="4267080" y="3809880"/>
            <a:chExt cx="1295640" cy="1447920"/>
          </a:xfrm>
        </p:grpSpPr>
        <p:sp>
          <p:nvSpPr>
            <p:cNvPr id="69" name=""/>
            <p:cNvSpPr/>
            <p:nvPr/>
          </p:nvSpPr>
          <p:spPr>
            <a:xfrm>
              <a:off x="4267080" y="3809880"/>
              <a:ext cx="1295640" cy="11955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24280" y="3809880"/>
              <a:ext cx="838440" cy="56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7080" y="3809880"/>
              <a:ext cx="457200" cy="69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267080" y="4376160"/>
              <a:ext cx="1295640" cy="12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947840" y="4376520"/>
              <a:ext cx="614520" cy="88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67080" y="4502160"/>
              <a:ext cx="68112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63800" y="40082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0240" y="4636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212840" y="5308560"/>
            <a:ext cx="504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mark:  DT maximizes the minimun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5BE-192C-4F29-BF97-36D6385419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onstrained Delaunay triangulation </a:t>
            </a:r>
            <a:br>
              <a:rPr sz="3000"/>
            </a:b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CDT in 2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DT includes fixed edges to be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relaxation of the Delaunay triangulation conditions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kind of visibility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f AB is a constrained edge, then the circuncircle of t doesn´t see the point Q inside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038480"/>
            <a:ext cx="1600200" cy="14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4267080"/>
            <a:ext cx="1600200" cy="457200"/>
          </a:xfrm>
          <a:custGeom>
            <a:avLst/>
            <a:gdLst/>
            <a:ahLst/>
            <a:rect l="l" t="t" r="r" b="b"/>
            <a:pathLst>
              <a:path w="1008" h="288">
                <a:moveTo>
                  <a:pt x="0" y="288"/>
                </a:moveTo>
                <a:lnTo>
                  <a:pt x="1008" y="240"/>
                </a:lnTo>
                <a:lnTo>
                  <a:pt x="144" y="0"/>
                </a:lnTo>
                <a:lnTo>
                  <a:pt x="0" y="28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02600" y="4419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7242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781680" y="4647960"/>
            <a:ext cx="9907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2760" y="4572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9800" y="5029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34320" y="45291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2920" y="4267080"/>
            <a:ext cx="386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his concept allow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angulation of general polyg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PSL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F14-A72D-45E9-894B-CDEC52B877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01400"/>
            <a:ext cx="70866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Automatic Quality triangulation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ven a 2D or 3D bounded object, construct a quality triangulation of thi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ditional points need to be inserted in order to improve the poi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point selection criteria + a point insertion strategy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2A4-0A30-4EA9-A76E-3B99EA886F3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52600" y="625320"/>
            <a:ext cx="730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erminal-Edge: key concept f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esh improvement and mesh refin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97200" y="1905120"/>
            <a:ext cx="631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rminal-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triangulatio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pecial edge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s longest-edge of e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ment that shares edge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124080"/>
            <a:ext cx="1066680" cy="60984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288"/>
                </a:moveTo>
                <a:lnTo>
                  <a:pt x="240" y="0"/>
                </a:lnTo>
                <a:lnTo>
                  <a:pt x="672" y="96"/>
                </a:lnTo>
                <a:lnTo>
                  <a:pt x="432" y="384"/>
                </a:lnTo>
                <a:lnTo>
                  <a:pt x="0" y="28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276720"/>
            <a:ext cx="10666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5520" y="3075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32004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267080"/>
            <a:ext cx="647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-star: set of elements (triangles in 2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rahedra in 3D) that share a  comm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l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C7F-71E1-4A74-954E-0F207E2B4BAF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ivara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23:12:11Z</dcterms:created>
  <dc:creator>PUBLISIGA</dc:creator>
  <dc:description/>
  <dc:language>en-US</dc:language>
  <cp:lastModifiedBy>mcrivara</cp:lastModifiedBy>
  <dcterms:modified xsi:type="dcterms:W3CDTF">2008-09-01T16:55:04Z</dcterms:modified>
  <cp:revision>30</cp:revision>
  <dc:subject/>
  <dc:title>titulo</dc:title>
</cp:coreProperties>
</file>