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8AC188D-5877-4BE4-8AE0-4BC5E906BB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37368C2-FF6B-4C50-9230-C7E4714E1C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36800" y="779400"/>
            <a:ext cx="5091120" cy="38181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857840"/>
            <a:ext cx="525456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539-4333-47DE-9EB2-35B63E1A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D61-BA17-4E3A-AC11-4A2BB626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F2A-0BA1-4E2A-9C9B-08A28A9E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16E-D1ED-4116-B10B-AA5F60B2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DCD-7D0E-4732-8BAA-7B537238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111-5756-4813-BB9B-D6BE2283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37D-B498-4F2A-A4CF-3FDDFE8D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B1C-D76D-404C-8412-E8DA3062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FC5-64E6-4C10-96BE-233F5AB3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ED2-99E4-49F2-B23E-3FC574B9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868-ADC0-4545-AAB7-0ABFE3B2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9B0-8829-482A-9041-D29DFE56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9143-6D3D-476B-BEA0-833798C16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5320" y="2263320"/>
            <a:ext cx="7491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pp Delaunay algorithms for quality trian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ría Cecilia Riv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ty of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676-4331-44FB-BE50-569DFBF4EEB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94440" y="1905120"/>
            <a:ext cx="596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ngest-Edge Propagation Path (t)      Lepp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20760" y="2895480"/>
            <a:ext cx="256176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{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identi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-edge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sociated to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2895480"/>
            <a:ext cx="990720" cy="30492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0" y="192"/>
                </a:moveTo>
                <a:lnTo>
                  <a:pt x="96" y="0"/>
                </a:lnTo>
                <a:lnTo>
                  <a:pt x="624" y="0"/>
                </a:lnTo>
                <a:lnTo>
                  <a:pt x="0" y="1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28954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192"/>
                </a:moveTo>
                <a:lnTo>
                  <a:pt x="96" y="624"/>
                </a:lnTo>
                <a:lnTo>
                  <a:pt x="624" y="0"/>
                </a:lnTo>
                <a:lnTo>
                  <a:pt x="1056" y="288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352680"/>
            <a:ext cx="1524240" cy="838440"/>
          </a:xfrm>
          <a:custGeom>
            <a:avLst/>
            <a:gdLst/>
            <a:ahLst/>
            <a:rect l="l" t="t" r="r" b="b"/>
            <a:pathLst>
              <a:path w="960" h="528">
                <a:moveTo>
                  <a:pt x="0" y="336"/>
                </a:moveTo>
                <a:lnTo>
                  <a:pt x="720" y="528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55000" y="283068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55000" y="321156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7120" y="321156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7120" y="374508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24240" y="38210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00760" y="31352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1040" y="421308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rminal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3733920"/>
            <a:ext cx="317520" cy="533160"/>
          </a:xfrm>
          <a:custGeom>
            <a:avLst/>
            <a:gdLst/>
            <a:ahLst/>
            <a:rect l="l" t="t" r="r" b="b"/>
            <a:pathLst>
              <a:path w="344" h="384">
                <a:moveTo>
                  <a:pt x="0" y="384"/>
                </a:moveTo>
                <a:cubicBezTo>
                  <a:pt x="116" y="320"/>
                  <a:pt x="232" y="256"/>
                  <a:pt x="288" y="192"/>
                </a:cubicBezTo>
                <a:cubicBezTo>
                  <a:pt x="344" y="128"/>
                  <a:pt x="340" y="64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7680" y="4800600"/>
            <a:ext cx="432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-edge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&gt; longest-edge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91440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(t): a key concept for fi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l-ed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EFB-E6D9-4132-9994-5ECFA51C6E9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352440"/>
            <a:ext cx="7086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mprovement of triangulations and automatic construction of quality triangu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2133720"/>
            <a:ext cx="784872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aunay triangu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edges associated to bad quality elements (triang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hedra) are good places for point insertion (original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point selection criterion can be developed (points clo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erminal edge mid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pp(t):  for bad quality triangle t, allows to find associ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ed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501-7DFF-4E43-BE9A-9C4764B84BB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/ Terminal edge midpoint Delaunay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773360"/>
            <a:ext cx="7086600" cy="40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ed and studied by Rivara, Simpson,Hitschfeld 199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97, 2001, 2006 in a rather intuitive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generalization  of longest edge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st edge bisection algorithm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h q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nserting terminal edge midpoin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unay insertion of M improve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ng the ed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ical properties have been 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E8A-615D-4245-9FFF-4DD7493F39A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62064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Delaunay (terminal edge) midpoint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700280"/>
            <a:ext cx="64245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put:  constrained Delaunay triangulation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mallest angle toleranc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set S of triangles with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each t in 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hile t remains in the mesh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Lepp (t) and associated terminal ed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 point P to be inserted as midpoint of terminal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orm (constrained) Delaunay inser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e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  In general P is midpoint of a terminal edge excepting for constraine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952-4687-412A-88DC-5C178CDAB48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64960" y="168120"/>
            <a:ext cx="598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iangle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l-edge Delaunay algorithm</a:t>
            </a:r>
            <a:r>
              <a:rPr b="1" lang="es-ES_tradnl" sz="2500" spc="-1" strike="noStrike">
                <a:solidFill>
                  <a:srgbClr val="1b5391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360440"/>
            <a:ext cx="1600200" cy="1676520"/>
          </a:xfrm>
          <a:custGeom>
            <a:avLst/>
            <a:gdLst/>
            <a:ahLst/>
            <a:rect l="l" t="t" r="r" b="b"/>
            <a:pathLst>
              <a:path w="1008" h="1056">
                <a:moveTo>
                  <a:pt x="0" y="768"/>
                </a:moveTo>
                <a:lnTo>
                  <a:pt x="480" y="1056"/>
                </a:lnTo>
                <a:lnTo>
                  <a:pt x="1008" y="528"/>
                </a:lnTo>
                <a:lnTo>
                  <a:pt x="336" y="0"/>
                </a:lnTo>
                <a:lnTo>
                  <a:pt x="0" y="76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360440"/>
            <a:ext cx="53352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336" y="0"/>
                </a:lnTo>
                <a:lnTo>
                  <a:pt x="96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360440"/>
            <a:ext cx="106668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6920" y="136044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2960" y="185112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47520" y="21556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20560" y="236232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2046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46600" y="144792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73400" y="17524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9320" y="108900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TARGET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48520" y="139392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DELAUN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INSE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4027320"/>
            <a:ext cx="53316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336" y="0"/>
                </a:lnTo>
                <a:lnTo>
                  <a:pt x="96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027320"/>
            <a:ext cx="106704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60600" y="402732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11080" y="433224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408560"/>
            <a:ext cx="284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865760"/>
            <a:ext cx="1600200" cy="84924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240"/>
                </a:moveTo>
                <a:lnTo>
                  <a:pt x="528" y="528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4103640"/>
            <a:ext cx="144756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720"/>
                </a:moveTo>
                <a:lnTo>
                  <a:pt x="432" y="480"/>
                </a:lnTo>
                <a:lnTo>
                  <a:pt x="9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440" y="428940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4845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027320"/>
            <a:ext cx="106704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027320"/>
            <a:ext cx="106668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336" y="0"/>
                </a:moveTo>
                <a:lnTo>
                  <a:pt x="0" y="288"/>
                </a:lnTo>
                <a:lnTo>
                  <a:pt x="432" y="528"/>
                </a:lnTo>
                <a:lnTo>
                  <a:pt x="672" y="288"/>
                </a:lnTo>
                <a:lnTo>
                  <a:pt x="336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40273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7400" y="433224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91960" y="440856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10960" y="42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941720"/>
            <a:ext cx="1600200" cy="83844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240"/>
                </a:moveTo>
                <a:lnTo>
                  <a:pt x="528" y="528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94172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179960"/>
            <a:ext cx="144756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720"/>
                </a:moveTo>
                <a:lnTo>
                  <a:pt x="432" y="480"/>
                </a:lnTo>
                <a:lnTo>
                  <a:pt x="9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56084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410364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4103640"/>
            <a:ext cx="53316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96" y="48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336" y="28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4560840"/>
            <a:ext cx="1066680" cy="1800"/>
          </a:xfrm>
          <a:custGeom>
            <a:avLst/>
            <a:gdLst/>
            <a:ahLst/>
            <a:rect l="l" t="t" r="r" b="b"/>
            <a:pathLst>
              <a:path w="672" h="1">
                <a:moveTo>
                  <a:pt x="0" y="0"/>
                </a:moveTo>
                <a:lnTo>
                  <a:pt x="384" y="0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417996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41760" y="6423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7820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0960" y="421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1880" y="43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960" y="273204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4484520"/>
            <a:ext cx="228600" cy="123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97360" y="1358640"/>
            <a:ext cx="129960" cy="8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09320" y="2201400"/>
            <a:ext cx="125280" cy="84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44845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440" y="3112920"/>
            <a:ext cx="143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idpoin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he Terminal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44792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  <a:lnTo>
                  <a:pt x="576" y="9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248520" y="19807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6294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324480" y="228564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1447920"/>
            <a:ext cx="685800" cy="1523880"/>
          </a:xfrm>
          <a:custGeom>
            <a:avLst/>
            <a:gdLst/>
            <a:ahLst/>
            <a:rect l="l" t="t" r="r" b="b"/>
            <a:pathLst>
              <a:path w="432" h="960">
                <a:moveTo>
                  <a:pt x="288" y="0"/>
                </a:moveTo>
                <a:lnTo>
                  <a:pt x="0" y="288"/>
                </a:lnTo>
                <a:lnTo>
                  <a:pt x="384" y="528"/>
                </a:lnTo>
                <a:lnTo>
                  <a:pt x="48" y="720"/>
                </a:lnTo>
                <a:lnTo>
                  <a:pt x="432" y="9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228600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19051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144792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lnTo>
                  <a:pt x="48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752480"/>
            <a:ext cx="30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3048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59200" y="19810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87800" y="1295280"/>
            <a:ext cx="241200" cy="228600"/>
          </a:xfrm>
          <a:custGeom>
            <a:avLst/>
            <a:gdLst/>
            <a:ahLst/>
            <a:rect l="l" t="t" r="r" b="b"/>
            <a:pathLst>
              <a:path w="152" h="144">
                <a:moveTo>
                  <a:pt x="104" y="0"/>
                </a:moveTo>
                <a:cubicBezTo>
                  <a:pt x="52" y="12"/>
                  <a:pt x="0" y="24"/>
                  <a:pt x="8" y="48"/>
                </a:cubicBezTo>
                <a:cubicBezTo>
                  <a:pt x="16" y="72"/>
                  <a:pt x="84" y="108"/>
                  <a:pt x="152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717-B18C-4431-B528-3E7F0FB4AAA5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3733920" y="2514600"/>
            <a:ext cx="164448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943600" y="2438280"/>
            <a:ext cx="171288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84760" y="1125360"/>
            <a:ext cx="69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utomatic quality triangulation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48360" y="44276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n angl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568-9A05-41F7-83E7-26F58475687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1752840" cy="1744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752480" cy="1744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>
            <a:lum bright="-36000"/>
          </a:blip>
          <a:srcRect l="23532" t="39394" r="17649" b="18183"/>
          <a:stretch/>
        </p:blipFill>
        <p:spPr>
          <a:xfrm>
            <a:off x="6400800" y="2819520"/>
            <a:ext cx="1676520" cy="1706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65240" y="803160"/>
            <a:ext cx="30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128-793F-47A8-9896-CCF2BA8A1CDB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9240" y="609480"/>
            <a:ext cx="63878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CA is a constrained edg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MR7"/>
              </a:rPr>
              <a:t>0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 30º or 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MR7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&lt; 30º then insert midpoint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f edge 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029200" cy="2779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1200" y="5178600"/>
            <a:ext cx="894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b5391"/>
                </a:solidFill>
                <a:latin typeface="Arial"/>
              </a:rPr>
              <a:t>Remark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ver constrained edge CA, the insertion of M and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du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ang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imilar to triangle BAC; (b) Insertion of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voids this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9920" y="136440"/>
            <a:ext cx="5664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trained edge point inser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2720" y="2971800"/>
            <a:ext cx="30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MR7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30800" y="3429000"/>
            <a:ext cx="30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MR7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883-DF0A-441C-94EA-63C60B7A8D87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38400" y="3505320"/>
            <a:ext cx="35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274320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1440" y="480"/>
                </a:lnTo>
                <a:lnTo>
                  <a:pt x="432" y="0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6880" y="2471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49440" y="33861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62680" y="3375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467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429000" y="2233080"/>
            <a:ext cx="1287360" cy="51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2233440"/>
            <a:ext cx="312840" cy="127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962520" y="2233440"/>
            <a:ext cx="753840" cy="127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78200" y="2195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8560" y="189000"/>
            <a:ext cx="784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ssumption to avoid unfrequent LOOP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(to simplify the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67120" y="1525680"/>
            <a:ext cx="256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to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22.2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69520" y="3754440"/>
            <a:ext cx="543708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op case can happen under the constra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BA terminal edge of midpoint 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CA terminal edge of midpoint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22.2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+ some constrained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iangle 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ilar to triangle B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95800" y="2895480"/>
            <a:ext cx="35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48800" y="3124080"/>
            <a:ext cx="39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2746440"/>
            <a:ext cx="57168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62320" y="3076560"/>
            <a:ext cx="748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BD3-739C-4880-9889-D6038AD9F140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97200" y="2185920"/>
            <a:ext cx="7421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eometrical properties of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aunay terminal edge midpoint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5B4-6BDC-4B55-9BFC-00B32444DC1F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55760" y="1028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0"/>
            <a:ext cx="806472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ic concepts on longest edge and Delaunay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triangulation problem, terminal edge and Lepp concept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Delaunay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idpoi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entro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midpoi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metrical properties of midpoi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Delaunay centro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metrical properties of the centroid 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piric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Lepp-centroid versus Lepp-mi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Lepp-centroid versus Circum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860-03AE-450A-B6CE-3778C08478D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550880" y="1986120"/>
            <a:ext cx="2895840" cy="2328840"/>
            <a:chOff x="1550880" y="1986120"/>
            <a:chExt cx="2895840" cy="2328840"/>
          </a:xfrm>
        </p:grpSpPr>
        <p:sp>
          <p:nvSpPr>
            <p:cNvPr id="214" name=""/>
            <p:cNvSpPr/>
            <p:nvPr/>
          </p:nvSpPr>
          <p:spPr>
            <a:xfrm>
              <a:off x="3063960" y="301968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44640" y="2257560"/>
              <a:ext cx="2286000" cy="76212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80"/>
                  </a:moveTo>
                  <a:lnTo>
                    <a:pt x="1440" y="480"/>
                  </a:lnTo>
                  <a:lnTo>
                    <a:pt x="432" y="0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44640" y="3019680"/>
              <a:ext cx="2286000" cy="1295280"/>
            </a:xfrm>
            <a:custGeom>
              <a:avLst/>
              <a:gdLst/>
              <a:ahLst/>
              <a:rect l="l" t="t" r="r" b="b"/>
              <a:pathLst>
                <a:path w="1440" h="816">
                  <a:moveTo>
                    <a:pt x="0" y="0"/>
                  </a:moveTo>
                  <a:lnTo>
                    <a:pt x="720" y="816"/>
                  </a:ln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30440" y="2257560"/>
              <a:ext cx="533160" cy="2057400"/>
            </a:xfrm>
            <a:custGeom>
              <a:avLst/>
              <a:gdLst/>
              <a:ahLst/>
              <a:rect l="l" t="t" r="r" b="b"/>
              <a:pathLst>
                <a:path w="336" h="1296">
                  <a:moveTo>
                    <a:pt x="0" y="0"/>
                  </a:moveTo>
                  <a:lnTo>
                    <a:pt x="336" y="480"/>
                  </a:lnTo>
                  <a:lnTo>
                    <a:pt x="288" y="12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07960" y="19861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0880" y="2900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63760" y="2889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5800" y="29815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194960" y="30574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75280" y="229536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1440" y="480"/>
                </a:lnTo>
                <a:lnTo>
                  <a:pt x="432" y="0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75280" y="3057480"/>
            <a:ext cx="2286000" cy="1295280"/>
          </a:xfrm>
          <a:custGeom>
            <a:avLst/>
            <a:gdLst/>
            <a:ahLst/>
            <a:rect l="l" t="t" r="r" b="b"/>
            <a:pathLst>
              <a:path w="1440" h="816">
                <a:moveTo>
                  <a:pt x="0" y="0"/>
                </a:moveTo>
                <a:lnTo>
                  <a:pt x="720" y="816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61080" y="229536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0"/>
                </a:moveTo>
                <a:lnTo>
                  <a:pt x="336" y="480"/>
                </a:lnTo>
                <a:lnTo>
                  <a:pt x="288" y="12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38960" y="202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81520" y="29383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94760" y="29275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56440" y="3019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97280" y="2735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661080" y="1785960"/>
            <a:ext cx="128736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1636560"/>
            <a:ext cx="1434960" cy="831960"/>
          </a:xfrm>
          <a:custGeom>
            <a:avLst/>
            <a:gdLst/>
            <a:ahLst/>
            <a:rect l="l" t="t" r="r" b="b"/>
            <a:pathLst>
              <a:path w="904" h="524">
                <a:moveTo>
                  <a:pt x="0" y="524"/>
                </a:moveTo>
                <a:lnTo>
                  <a:pt x="90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799320" y="1661760"/>
            <a:ext cx="1695240" cy="53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48440" y="1785960"/>
            <a:ext cx="312840" cy="127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194600" y="1785960"/>
            <a:ext cx="753840" cy="127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10640" y="1747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1880" y="476280"/>
            <a:ext cx="771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aunay insertion of terminal edge midpo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2600" y="14889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wo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77280" y="4583160"/>
            <a:ext cx="2730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ngest-edge bi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f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58720" y="4583160"/>
            <a:ext cx="34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quence of edge sw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72240" y="5543640"/>
            <a:ext cx="47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 present some geometr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1295280"/>
            <a:ext cx="1143000" cy="3049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0" y="192"/>
                </a:moveTo>
                <a:lnTo>
                  <a:pt x="240" y="0"/>
                </a:lnTo>
                <a:lnTo>
                  <a:pt x="720" y="192"/>
                </a:lnTo>
                <a:lnTo>
                  <a:pt x="0" y="1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1600200"/>
            <a:ext cx="1143000" cy="457200"/>
          </a:xfrm>
          <a:custGeom>
            <a:avLst/>
            <a:gdLst/>
            <a:ahLst/>
            <a:rect l="l" t="t" r="r" b="b"/>
            <a:pathLst>
              <a:path w="720" h="288">
                <a:moveTo>
                  <a:pt x="0" y="0"/>
                </a:moveTo>
                <a:lnTo>
                  <a:pt x="384" y="288"/>
                </a:lnTo>
                <a:lnTo>
                  <a:pt x="7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31160" y="1295280"/>
            <a:ext cx="289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F31-5034-424F-A5C4-1E980BF5D822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680000" cy="2781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6560" y="4292640"/>
            <a:ext cx="812412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heorem 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or any pair of Delaunay terminal-triangles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haring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nconstrained terminal ed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est angle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3 for i = 1,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of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ABC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ABD.   Vertex D in regio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120º, triangle  ADB equilateral and |ZO| = r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4760" y="333360"/>
            <a:ext cx="61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raint on the largest angle of Delaun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minal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69080" y="206064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78C-7D3B-4221-8AE3-3CEAA457BDC6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5880" y="404640"/>
            <a:ext cx="809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haracterization of Delaunay terminal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98080" y="1306440"/>
            <a:ext cx="53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sumption:  second longest edge CA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2690640"/>
            <a:ext cx="2362320" cy="838440"/>
          </a:xfrm>
          <a:custGeom>
            <a:avLst/>
            <a:gdLst/>
            <a:ahLst/>
            <a:rect l="l" t="t" r="r" b="b"/>
            <a:pathLst>
              <a:path w="1488" h="528">
                <a:moveTo>
                  <a:pt x="0" y="528"/>
                </a:moveTo>
                <a:lnTo>
                  <a:pt x="336" y="0"/>
                </a:lnTo>
                <a:lnTo>
                  <a:pt x="1488" y="0"/>
                </a:lnTo>
                <a:lnTo>
                  <a:pt x="0" y="52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6906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35480" y="2343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13120" y="3529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6744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64240" y="2617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39840" y="267192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49760" y="3592440"/>
            <a:ext cx="334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rgest angl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120º    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C Delaunay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 midpoint of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90920" y="3897360"/>
            <a:ext cx="44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94120" y="3897360"/>
            <a:ext cx="32832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aints on vertex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aints on midpoin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aints on</a:t>
            </a:r>
            <a:r>
              <a:rPr b="1" lang="es-CL" sz="18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1703520"/>
            <a:ext cx="23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mallest angle a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3B0-B66F-4578-812D-AF20F2A74983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19320" y="434340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C is geometrical place for vertex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’F’N is geometrical place for midpoin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267080" cy="2977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37400" y="179280"/>
            <a:ext cx="8097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haracterization of Delaunay terminal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F90-1839-4B85-9653-2200B503BFC4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83908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5EA-9404-465E-BF52-674C523083C4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87280" y="3141720"/>
            <a:ext cx="739152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2        and  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obtus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an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83720" y="2602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rst longest edge bi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5084640"/>
            <a:ext cx="8064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:  a sequence of improved triangles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f vertex B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909440" y="836640"/>
            <a:ext cx="4791960" cy="2361600"/>
            <a:chOff x="1909440" y="836640"/>
            <a:chExt cx="4791960" cy="2361600"/>
          </a:xfrm>
        </p:grpSpPr>
        <p:sp>
          <p:nvSpPr>
            <p:cNvPr id="270" name=""/>
            <p:cNvSpPr/>
            <p:nvPr/>
          </p:nvSpPr>
          <p:spPr>
            <a:xfrm>
              <a:off x="2262240" y="1258560"/>
              <a:ext cx="4085280" cy="1693440"/>
            </a:xfrm>
            <a:custGeom>
              <a:avLst/>
              <a:gdLst/>
              <a:ahLst/>
              <a:rect l="l" t="t" r="r" b="b"/>
              <a:pathLst>
                <a:path w="2087" h="726">
                  <a:moveTo>
                    <a:pt x="0" y="726"/>
                  </a:moveTo>
                  <a:lnTo>
                    <a:pt x="2087" y="726"/>
                  </a:lnTo>
                  <a:lnTo>
                    <a:pt x="590" y="0"/>
                  </a:lnTo>
                  <a:lnTo>
                    <a:pt x="0" y="7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417120" y="1258560"/>
              <a:ext cx="888480" cy="16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42440" y="295200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09440" y="28465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0360" y="836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57200" y="2105280"/>
              <a:ext cx="264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36800" y="28465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00280" y="2105280"/>
              <a:ext cx="264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66400" y="2347560"/>
              <a:ext cx="36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C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54800" y="2529360"/>
              <a:ext cx="3009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01080" y="1365840"/>
              <a:ext cx="3009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3A7-31CA-4A92-99F7-41B9C7C62764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362320" y="1098720"/>
            <a:ext cx="3809880" cy="2406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143000" y="3657600"/>
            <a:ext cx="70102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acute triang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0º  (B in CIH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.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B in CVW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.8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9920" y="422280"/>
            <a:ext cx="25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ngle b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EAD-F99A-49BC-9495-F2A72EC2F595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42160" y="422280"/>
            <a:ext cx="79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ounds on distance from M to previous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1687680"/>
            <a:ext cx="57085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(M) = minimum distance from M to ve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or acute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0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|BC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or obtuse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4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0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0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0.5 |BC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7FE-B532-438C-BD0F-1A2CDEB5314B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66840" y="422280"/>
            <a:ext cx="4707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proved results on 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provement of triangles t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42920" y="1557360"/>
            <a:ext cx="70754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sequence of improved triangl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eliminating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no edges smaller than previous edges are inserted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4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gt; 14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n edge at most 0.66 times the size of neighbor previous edge, can be occassionaly in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in this case a quality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obtained and process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358-FF7A-45BB-B7DA-17269E10BB39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0720" y="286920"/>
            <a:ext cx="770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heorem TRIANGLE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non-constrained triang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y skinny terminal triangle is replaced by a better triangle with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with C &gt; 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For too-obtuse triangle MAC, after a finite small number of point insertions inside circumcircle CC(MAC), significant angle improvement is ach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2743200"/>
            <a:ext cx="1828800" cy="533520"/>
          </a:xfrm>
          <a:custGeom>
            <a:avLst/>
            <a:gdLst/>
            <a:ahLst/>
            <a:rect l="l" t="t" r="r" b="b"/>
            <a:pathLst>
              <a:path w="1152" h="336">
                <a:moveTo>
                  <a:pt x="0" y="336"/>
                </a:moveTo>
                <a:lnTo>
                  <a:pt x="192" y="0"/>
                </a:lnTo>
                <a:lnTo>
                  <a:pt x="1152" y="240"/>
                </a:lnTo>
                <a:lnTo>
                  <a:pt x="0" y="3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2743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60680" y="2595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9040" y="3081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00560" y="316224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37200" y="319896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90800" y="2965320"/>
            <a:ext cx="32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00160" y="2930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11520" y="2908440"/>
            <a:ext cx="32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21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CA5-017B-4941-A4FA-2E51A79A016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01400"/>
            <a:ext cx="70866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asic concepts: longest-edge refinement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ious longest edge refinement algorithms (Rivara 84, 87, 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veloped for adaptive f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y allow the local refinement of the triangulations by maintaining the quality of the input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d on the longest-edge bisection of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86640" y="5421240"/>
            <a:ext cx="629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mark:  A terminal-edge is a special longest-edg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trian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4419720"/>
            <a:ext cx="2209680" cy="685800"/>
          </a:xfrm>
          <a:custGeom>
            <a:avLst/>
            <a:gdLst/>
            <a:ahLst/>
            <a:rect l="l" t="t" r="r" b="b"/>
            <a:pathLst>
              <a:path w="1392" h="432">
                <a:moveTo>
                  <a:pt x="0" y="432"/>
                </a:moveTo>
                <a:lnTo>
                  <a:pt x="432" y="0"/>
                </a:lnTo>
                <a:lnTo>
                  <a:pt x="1392" y="336"/>
                </a:lnTo>
                <a:lnTo>
                  <a:pt x="0" y="4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4197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2680" y="4224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52880" y="4834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57600" y="50626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4600" y="50626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43A-D1D5-4B5F-B83F-6D5ADA4E43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38440" y="252576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48960" y="2205000"/>
            <a:ext cx="587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pp Delaunay centroid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306-3BAC-4EB0-A767-D6A4B21B4310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58920" y="62064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Delaunay (terminal edge) centroid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03280" y="1700280"/>
            <a:ext cx="64245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put:  constrained Delaunay triangulation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mallest angle toleranc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set S of triangles with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each t in 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hile t remains in the mesh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Lepp (t) and associated terminal triang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 point P to be inserted as centroid of terminal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orm (constrained) Delaunay inser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e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  In general P is centroid of a pair of  terminal triangles excepting for constraine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079-859C-4B67-B538-C5ECA5E2D2E0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332000" y="220500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ometrical properties of the centroid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999-2CA1-406A-A65A-FA6A5DA79FBD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79640" y="2165400"/>
            <a:ext cx="4680000" cy="41338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971640" y="981000"/>
            <a:ext cx="69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pecial Coordinates system: origin at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-axis along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entroid Q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55680" y="404640"/>
            <a:ext cx="668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AC, BDA terminal Delaunay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D92-AE34-453C-B3A3-0B2F4B30E39D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00000" y="333360"/>
            <a:ext cx="691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ounds on the cordinates of centroid 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00000" y="1125360"/>
            <a:ext cx="748980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(0,0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(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0), C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D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-coordinate of U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-coordinate of W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/4 &lt;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lt; 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2 +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4                    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4 &lt;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lt; (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067280" y="3541680"/>
            <a:ext cx="3097080" cy="273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E60-4030-4C6B-BCE8-95FB34457E61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0000" y="836640"/>
            <a:ext cx="691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irs of Delaunay terminal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26920" y="1989000"/>
            <a:ext cx="7490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ollary 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any pair of terminal triangles involving a pair of (obtuse, acute) terminal triangles, the quad centroid is situated in the interior of the acute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378-4F24-4BF3-AEA7-CA42FCE2EBD2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0000" y="476280"/>
            <a:ext cx="691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perties of centroid inser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1341360"/>
            <a:ext cx="7489800" cy="39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o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shortest edge obtained from centroid insertion is lon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an the shortest edge obtained from terminal edge mi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centroid algorithm does not suffer of looping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of:  The centroid is not aligned with the vertice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522936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mark:  We expect that centroid algorithm behaves better in practice  than midpoi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013-0AA2-4E41-A389-AC5B47242309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mpirical comparison between Lepp-midpoint and Lepp centroid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EDA-348F-4312-A030-2BA16912AB44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09480" y="1700280"/>
            <a:ext cx="7285320" cy="24494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548440" y="4653000"/>
            <a:ext cx="33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g. 7 Initial triangulations for the test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0"/>
            <a:ext cx="712944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e consider three test ca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itial Delaunay triangu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181-5DE6-4F76-BD5B-14F84613AC0E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centroid versus Lepp-midpoint algorith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 stu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mallest angl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rmalized area quality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olution of average smalles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rmalized minimum edge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wrt minimun edge size input me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AE0-3293-41E3-A34E-243818063A2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perties of longest-edge bi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560" y="12679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iterative longest-edge bisection of a triangl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sures that min angle 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min angle of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set of similary distinct triangles is produ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-edge refinement algorithms inherit thes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ractal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QUALITY OF THE MESHES DEPEND ON THE QUALITY OF THE INITIAL TRIAN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CCF-231E-4A55-B87B-56762C46AA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centroid versus Lepp-midpo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centroid computes significantly smaller triangulations than Lepp-mid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centroid terminates for highe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centroid produces triangulations having better distribution of triangles than Lepp-midpoi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1CE-42BF-4AF3-95BC-5D4B619352E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rmalize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quality mesure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centroid versus Lepp-midpoint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29600" cy="2613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318040" y="515160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1240" y="501336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ea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ongest edge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5373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556-8380-4754-A5EC-4CF9881AD9D3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centroid versus Lepp-midpoint algorithms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verage smallest an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57200" y="2556000"/>
            <a:ext cx="8229600" cy="261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BC7-90D5-4165-AB99-D1EBE6F88704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29600" cy="4093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07680" y="549360"/>
            <a:ext cx="811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rea quality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centroid versus Lepp-midpoint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825-5001-4980-90C3-D056C5671E8F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Comparison between Lepp-centroid algorithm and circumcenter method (Triangle softwar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6920" y="2637000"/>
            <a:ext cx="777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cumcenter method:  Delaunay inserts the circumcenter of b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processing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DA8-09DA-4AE8-BFD6-908E41870D1B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Test 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26920" y="2133720"/>
            <a:ext cx="7777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three previou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 A-test case included with Triangle Software (a small triangu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C13-D5E1-47F6-BD31-D815E0B53228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Lepp-centroid versus Circumcen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2133720"/>
            <a:ext cx="777744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centroid worked well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up 36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cumcenter worked well up 35º but increasing highly the number of points inserted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gt; 25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nly for the A-test case the behavior is similar.  Here we are indeed testing the boundary point inser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D41-877F-4D99-AA27-38133FEF5FF9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7200" y="1144440"/>
            <a:ext cx="8229600" cy="41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65F-1233-43BE-9DF6-95FCC744A454}" type="slidenum">
              <a:t>4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266840" y="274680"/>
            <a:ext cx="661032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BA9-82A3-4319-A06C-2DFB4A33F3B9}" type="slidenum">
              <a:t>4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116000" y="1989000"/>
          <a:ext cx="6843600" cy="4235760"/>
        </p:xfrm>
        <a:graphic>
          <a:graphicData uri="http://schemas.openxmlformats.org/drawingml/2006/table">
            <a:tbl>
              <a:tblPr/>
              <a:tblGrid>
                <a:gridCol w="1008000"/>
                <a:gridCol w="719280"/>
                <a:gridCol w="865080"/>
                <a:gridCol w="576360"/>
                <a:gridCol w="863640"/>
                <a:gridCol w="647640"/>
                <a:gridCol w="792000"/>
                <a:gridCol w="648000"/>
                <a:gridCol w="723600"/>
              </a:tblGrid>
              <a:tr h="406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mber of points ad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imum mesh a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degre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quare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ntroid Tria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rcles24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ntroid Tria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ctangle1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ntroid Tria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-ca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ntroid Tria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8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6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971640" y="476280"/>
            <a:ext cx="74880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centroid versus circumcenter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Quantitative compari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FE8-8161-41B7-BFFF-AB3DA9DEF3DF}" type="slidenum">
              <a:t>4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finement / Derefinement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791320" cy="440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23200" y="590076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JNME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0C9-3A23-4A91-AD28-EDF5B3AE96C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centroid improves in practice Lepp-midpoint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centroid behaves better than circumcircl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36º with less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ss triangles sinc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25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earch in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oved geometr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 prove that optimal size triangulations are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255-23C0-4A24-8200-43046B43D465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elaunay triangulation (D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: Given a point set P,  construct a triangulation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 = { point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 is a DT of P if the circuncircle of every triangle t in T d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 include any vertex of P in its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 and t* are locally Delaunay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267080" y="3809880"/>
            <a:ext cx="1295640" cy="1447920"/>
            <a:chOff x="4267080" y="3809880"/>
            <a:chExt cx="1295640" cy="1447920"/>
          </a:xfrm>
        </p:grpSpPr>
        <p:sp>
          <p:nvSpPr>
            <p:cNvPr id="69" name=""/>
            <p:cNvSpPr/>
            <p:nvPr/>
          </p:nvSpPr>
          <p:spPr>
            <a:xfrm>
              <a:off x="4267080" y="3809880"/>
              <a:ext cx="1295640" cy="1195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3809880"/>
              <a:ext cx="83844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7080" y="3809880"/>
              <a:ext cx="457200" cy="6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267080" y="4376160"/>
              <a:ext cx="1295640" cy="12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947840" y="4376520"/>
              <a:ext cx="614520" cy="8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67080" y="4502160"/>
              <a:ext cx="68112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63800" y="4008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0240" y="4636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t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212840" y="5308560"/>
            <a:ext cx="504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:  DT maximizes the minimun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E9E-C098-4942-92DB-58158E8E43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01400"/>
            <a:ext cx="70866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strained Delaunay triangulation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DT in 2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CDT includes fixed edges to be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relaxation of the Delaunay triangulation conditions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kind of visibility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 AB is a constrained edge, then the circuncircle of t doesn´t see the point Q inside the cir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4038480"/>
            <a:ext cx="160020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426708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288"/>
                </a:moveTo>
                <a:lnTo>
                  <a:pt x="1008" y="240"/>
                </a:lnTo>
                <a:lnTo>
                  <a:pt x="144" y="0"/>
                </a:lnTo>
                <a:lnTo>
                  <a:pt x="0" y="28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02600" y="4419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72428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781680" y="4647960"/>
            <a:ext cx="9907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2760" y="4572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9800" y="5029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34320" y="4529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2920" y="4267080"/>
            <a:ext cx="386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is concept allow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tion of general polyg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SL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86F-0674-4FE2-B4CA-2A3BC57F3E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01400"/>
            <a:ext cx="70866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utomatic Quality triangulation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ven a 2D or 3D bounded object, construct a quality triangulation of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itional points need to be inserted in order to improve the poi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oint selection criteria + a point insertion strategy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11A-8385-490C-AF74-D2290FAAC0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52600" y="625320"/>
            <a:ext cx="730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l-Edge: key concept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sh improvement and mesh refine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97200" y="1905120"/>
            <a:ext cx="631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-Edg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triangulatio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pecial edge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longest-edge of e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ment that shares edg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124080"/>
            <a:ext cx="1066680" cy="60984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0" y="288"/>
                </a:moveTo>
                <a:lnTo>
                  <a:pt x="240" y="0"/>
                </a:lnTo>
                <a:lnTo>
                  <a:pt x="672" y="96"/>
                </a:lnTo>
                <a:lnTo>
                  <a:pt x="432" y="384"/>
                </a:lnTo>
                <a:lnTo>
                  <a:pt x="0" y="28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327672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5520" y="3075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200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4267080"/>
            <a:ext cx="647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star: set of elements (triangles in 2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hedra in 3D) that share a  com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699-D879-43E8-8D97-7EE16907FDD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23:12:11Z</dcterms:created>
  <dc:creator>PUBLISIGA</dc:creator>
  <dc:description/>
  <dc:language>en-US</dc:language>
  <cp:lastModifiedBy>mcrivara</cp:lastModifiedBy>
  <dcterms:modified xsi:type="dcterms:W3CDTF">2008-09-01T16:55:04Z</dcterms:modified>
  <cp:revision>30</cp:revision>
  <dc:subject/>
  <dc:title>titulo</dc:title>
</cp:coreProperties>
</file>