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4.png" ContentType="image/png"/>
  <Override PartName="/ppt/media/image12.wmf" ContentType="image/x-wmf"/>
  <Override PartName="/ppt/media/image30.jpeg" ContentType="image/jpeg"/>
  <Override PartName="/ppt/media/image7.wmf" ContentType="image/x-wmf"/>
  <Override PartName="/ppt/media/image29.jpeg" ContentType="image/jpeg"/>
  <Override PartName="/ppt/media/image13.wmf" ContentType="image/x-wmf"/>
  <Override PartName="/ppt/media/image27.png" ContentType="image/png"/>
  <Override PartName="/ppt/media/image33.jpeg" ContentType="image/jpeg"/>
  <Override PartName="/ppt/media/image8.wmf" ContentType="image/x-wmf"/>
  <Override PartName="/ppt/media/image9.wmf" ContentType="image/x-wmf"/>
  <Override PartName="/ppt/media/image32.jpeg" ContentType="image/jpeg"/>
  <Override PartName="/ppt/media/image6.wmf" ContentType="image/x-wmf"/>
  <Override PartName="/ppt/media/image11.png" ContentType="image/png"/>
  <Override PartName="/ppt/media/image34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35.wmf" ContentType="image/x-wmf"/>
  <Override PartName="/ppt/media/image5.wmf" ContentType="image/x-wmf"/>
  <Override PartName="/ppt/media/image16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20C-B76F-4933-882C-81C88890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5A1-92D5-4CCD-BF0A-8C739727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590B-A509-465A-A9B4-A1A00C7D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99D-0704-4A71-AC0A-C4149016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C76-836C-47ED-9761-FBAA0561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506-C5EE-47A8-947E-4F83CD85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699-64AF-4A01-8A01-F409798E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A5E-8134-4B69-BF85-49FD29A7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486-89C9-4343-8B5F-01F3C4FA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984-B378-412F-84AF-64029960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A5A-927A-4C2C-BD41-79D7C375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AFD-00FC-4A46-8A3C-1F0EB442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BC0B-C406-4DB3-AC63-B897E6669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ep algorithms for refinement / derefinement of trian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ía –Cecilia Riv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ty of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4C3-7DBD-4FD8-9014-706BA33AF3A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xample: Use of a longest edge refinement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46280" y="1600200"/>
            <a:ext cx="76500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7D9-FBC6-47DC-8E2D-34C788D6157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refinement algorithms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557360"/>
            <a:ext cx="78487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rst longest edge refinement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veloped for solving TRP I and  TR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veloped for implementing adaptive multigrid software for finite elemen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based on the properties of the bisection of triangles by the longest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 edge Lepp bisection 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improved formulation of previous methods in terms of the concepts of terminal edges and Lepp-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use local refinement operations and maintain valid trian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121-2B9A-4712-91A6-9CBF02BB2A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refinement algorithm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557360"/>
            <a:ext cx="784872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properties of the longest-edge bisection of triangles in 2-dimension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iterative bisection of a triangl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roduces son triangles t such that smallest angle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mallest angle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number of non-similar triangles is pro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senberg-Stenger 1975, Kearfott, Stynes 1979, 1980 Adler 19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other kind of improvement also 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787-7728-4AE3-AFAA-521220441B4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refinement algorithms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557360"/>
            <a:ext cx="7848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d for finite element applications in 2 and 3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hms behave well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mathematical properties have not been proved in 3-dimensions (Open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4A2-7F89-43FC-8617-10E8395F589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Quality triangulation problem (QT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lanar straight line graph (PSLG) geometry 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iangle quality measure q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minimun angle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gle toleranc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ct a triangulation T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cover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n q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has optimal size (minimun number of vert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DEA-4BCC-46AA-84C2-0DBCEBCF1B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cremental algorithms for quality triang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put (geometry D, angle toleranc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ct a constrained Delaunay triangulation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of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reme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lect a point P for triangle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form constrained Delaunay insertion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tops when, for each t in T, smallest angle 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pp-Delaunay is an incrementa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2B3-0AE1-4EAB-84E9-29524CE2D11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3733920" y="2514600"/>
            <a:ext cx="164448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943600" y="2438280"/>
            <a:ext cx="171288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4640" y="1052640"/>
            <a:ext cx="77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pp-Delaunay: automatic quality triangula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48360" y="44276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n angl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650-79CC-4457-84DE-A848A5692D28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04360" y="2370240"/>
            <a:ext cx="6738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hematical properties of the long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dge bisection of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CA2-0513-481F-B5B7-B01FF5840CC1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hematical properties of the iterative longest edge bisection of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study the process of generating new non-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mpler and stronger revisite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uld these techniques be generalized to 3-dimens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introduce a classification of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. Gutierrez F. Gutierrez MC.Rivara, TCS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59F-D0C0-447A-A974-9B3E2A33D1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66960" y="1671480"/>
            <a:ext cx="7210080" cy="305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97840" y="906480"/>
            <a:ext cx="676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lassification of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bisection of triangle AB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CE7-ED5E-4A75-8B92-85866ADD9D82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tivation, problems and algorithms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riangulation refinement problems (TR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quality triangulation problems (QT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roduction to longest edge algorithms for T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roduction to incremental Delaunay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thematical properties of the longest edge bisection of triang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en problems on the longest edge bisection in 3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minal edge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pp bi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pp Delau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pp- bisection (terminal edge)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themat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s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ght triangle bintree triangulations and multiresolution represen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pp Delaunay algorithm for the quality triangulation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s a generalization of Lepp-bisection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themat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6F0-667F-4A8D-BE3A-7D53BCB7E7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057880" cy="2305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19280" y="285264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tep of typ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9242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tep of typ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429000"/>
            <a:ext cx="6480000" cy="26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tep of typ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es 3 non-similar triangles, and stops inside triangle 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need to study bisection of triangle 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tep of  type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es 3 non-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need to study bisection of triangles ADC, C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80200" y="349200"/>
            <a:ext cx="669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e consider two kind of partition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E9B-FDBF-4962-B093-5CEDF7603FD6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210440" cy="5344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5840" y="351000"/>
            <a:ext cx="58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sification of triang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xed longest edge A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tion of vertex C defines regions I t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72D-29B4-418D-AABE-C374312598CD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115240" cy="6010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94680" y="351000"/>
            <a:ext cx="62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sification of triangles of longest edge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 partit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B4A-2E85-421F-87CD-27AF3E325F6C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ent result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iangle behavior wrt longest edge bi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orem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 in region 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most produces 4 non-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 in region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most produces 5 non-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 in region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ew triangle ADC is in region II or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.7 log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/ 6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teps, the only new triangle is in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 in region IV or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fter no mor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/2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teps, the only new triangle is non-obtuse (in I or II or 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 in region 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ew triangle is in regio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4A6-FC1E-48EE-81A2-C8D19B90BDE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535320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35480" y="276120"/>
            <a:ext cx="35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iangles of region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836640"/>
            <a:ext cx="750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terative longest edge bisection of triangles of region I (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st) produce four non-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epting the first median, the new edges are parallel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le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B74-B5D9-4613-B550-461827A0864A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396216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15080" y="228600"/>
            <a:ext cx="60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ted graph illustrating Theorem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4437000"/>
            <a:ext cx="7561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ew triangles follow the path in the graph possible staying in the nodes several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utierrez-Gutierrez-Rivara, TCS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023-A48A-4D59-B8C6-430ABD1B4105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09320" y="204840"/>
            <a:ext cx="445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lassical results revisi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1125360"/>
            <a:ext cx="75614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ore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any new triangl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Smallest angle 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mallest angle (ABC) 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2) For triangles below ar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obtuse tria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Smallest angle 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mallest angle (A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3) Define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 the maximum longest edge of triangles of level j of the bisection tree.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 2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–j/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for small constant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D9B-285B-4920-9A53-46B6AEE6F9FD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14000" y="204840"/>
            <a:ext cx="472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of Sketch of Theorem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125360"/>
            <a:ext cx="756144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1) and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only case where smallest angle diminishes is in region I (quasi-equilateral tria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worst case is the equilateral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s the area of triangle ABC and its bisection s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each bisection level, the area decreases by a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537-BA30-41FF-82A2-08FA858EB2B9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43680" y="2565360"/>
            <a:ext cx="6870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bisection in 3-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open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59B-0DA0-4889-AD44-2934AADCDA3F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07160" y="204840"/>
            <a:ext cx="687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bisection in 3-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413000"/>
            <a:ext cx="7561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nd midpoint P of the longest edge AB of tetrahedron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isect t by the plane defined by P and the two opposite ve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3500280"/>
            <a:ext cx="2735280" cy="1224000"/>
          </a:xfrm>
          <a:custGeom>
            <a:avLst/>
            <a:gdLst/>
            <a:ahLst/>
            <a:rect l="l" t="t" r="r" b="b"/>
            <a:pathLst>
              <a:path w="1723" h="771">
                <a:moveTo>
                  <a:pt x="0" y="454"/>
                </a:moveTo>
                <a:lnTo>
                  <a:pt x="453" y="0"/>
                </a:lnTo>
                <a:lnTo>
                  <a:pt x="1723" y="454"/>
                </a:lnTo>
                <a:lnTo>
                  <a:pt x="680" y="771"/>
                </a:lnTo>
                <a:lnTo>
                  <a:pt x="0" y="45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3500280"/>
            <a:ext cx="647640" cy="1224000"/>
          </a:xfrm>
          <a:custGeom>
            <a:avLst/>
            <a:gdLst/>
            <a:ahLst/>
            <a:rect l="l" t="t" r="r" b="b"/>
            <a:pathLst>
              <a:path w="408" h="771">
                <a:moveTo>
                  <a:pt x="0" y="0"/>
                </a:moveTo>
                <a:lnTo>
                  <a:pt x="227" y="771"/>
                </a:lnTo>
                <a:lnTo>
                  <a:pt x="408" y="45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422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88920" y="4170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44560" y="38815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5080" y="4149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06840" y="41814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14880" y="46864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9C8-2291-49CD-85B9-47ADE00984A1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tivation, mesh generation problems and introduction to th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AD2-CA54-46E1-9221-3458F335097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07160" y="204840"/>
            <a:ext cx="687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bisection in 3-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125360"/>
            <a:ext cx="756144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n question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on the iterative longest edge bisection of a tetrahed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 we state a bound on the solid angle of the tetrahedra gen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 we state a bound on the tetrahedron quality using another qualtiy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es a finite number of non-similar tetrahedra exist, for any tetrahedr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s more difficult to deal with than in 2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555280" y="3645000"/>
            <a:ext cx="2996280" cy="703800"/>
            <a:chOff x="2555280" y="3645000"/>
            <a:chExt cx="2996280" cy="703800"/>
          </a:xfrm>
        </p:grpSpPr>
        <p:sp>
          <p:nvSpPr>
            <p:cNvPr id="141" name=""/>
            <p:cNvSpPr/>
            <p:nvPr/>
          </p:nvSpPr>
          <p:spPr>
            <a:xfrm>
              <a:off x="2555280" y="3855960"/>
              <a:ext cx="103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q(t) =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9400" y="3645000"/>
              <a:ext cx="189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volume of 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longest edge)</a:t>
              </a:r>
              <a:r>
                <a:rPr b="0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6160" y="40053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B12-03CB-400E-87B2-8E50B5140149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404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irical and theoretical evidence in 3 -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1840" y="1119240"/>
            <a:ext cx="7940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052640"/>
            <a:ext cx="7848360" cy="56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bisection algorithm and previous longest edge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ve been sussessfully used in practice in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mesh quality is reasonably  good as the refinement proc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ve been parallelized and used for the generation of huge mes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a small number of tetrahedra, it has been proved that a finite number of tetrahedra is gene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a symmetric longest edge bisection, the equilateral tetrahedra produces a finite number of tetrahe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. Gutierrez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mark: In the triangular faces of the tetrahedron, the 2D algorithm a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71D-5D26-4E3B-A0D7-2289F382393A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0920" y="299736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 edg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1840" y="1119240"/>
            <a:ext cx="7940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E10-402A-46A0-988A-FF4DC003F661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l edge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bisection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Delaunay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grated formulation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ving TRP I and TR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ving the quality triangul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ulated in terms of Lepp and terminal edge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EE0-187C-4DF3-A2A7-70DB53BF69B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6880" y="692280"/>
            <a:ext cx="684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-Edge: key concept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h improvement and mesh refin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48200" y="2208240"/>
            <a:ext cx="631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-Edg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triangulatio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pecial edge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longest-edge of e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ment that shares edg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3519360"/>
            <a:ext cx="1066680" cy="60984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0" y="288"/>
                </a:moveTo>
                <a:lnTo>
                  <a:pt x="240" y="0"/>
                </a:lnTo>
                <a:lnTo>
                  <a:pt x="672" y="96"/>
                </a:lnTo>
                <a:lnTo>
                  <a:pt x="432" y="384"/>
                </a:lnTo>
                <a:lnTo>
                  <a:pt x="0" y="28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657600" y="367200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6720" y="33577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5956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4221000"/>
            <a:ext cx="64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star: set of elements (triangles in 2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hedra in 3D) that share a  com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vara 1996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436-5182-4466-B8EF-95A0163544FF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25880" y="1773360"/>
            <a:ext cx="570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-Edge Propagation Path (t)      Lepp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th of increasing triangles by the longest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20760" y="2895480"/>
            <a:ext cx="2561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{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895480"/>
            <a:ext cx="990720" cy="30492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0" y="192"/>
                </a:moveTo>
                <a:lnTo>
                  <a:pt x="96" y="0"/>
                </a:lnTo>
                <a:lnTo>
                  <a:pt x="624" y="0"/>
                </a:lnTo>
                <a:lnTo>
                  <a:pt x="0" y="1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28954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192"/>
                </a:moveTo>
                <a:lnTo>
                  <a:pt x="96" y="624"/>
                </a:lnTo>
                <a:lnTo>
                  <a:pt x="624" y="0"/>
                </a:lnTo>
                <a:lnTo>
                  <a:pt x="1056" y="288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3352680"/>
            <a:ext cx="1524240" cy="838440"/>
          </a:xfrm>
          <a:custGeom>
            <a:avLst/>
            <a:gdLst/>
            <a:ahLst/>
            <a:rect l="l" t="t" r="r" b="b"/>
            <a:pathLst>
              <a:path w="960" h="528">
                <a:moveTo>
                  <a:pt x="0" y="336"/>
                </a:moveTo>
                <a:lnTo>
                  <a:pt x="720" y="528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55000" y="283068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55000" y="321156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7120" y="321156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7120" y="374508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24240" y="38210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0760" y="31352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1040" y="421308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rminal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3733920"/>
            <a:ext cx="317520" cy="533160"/>
          </a:xfrm>
          <a:custGeom>
            <a:avLst/>
            <a:gdLst/>
            <a:ahLst/>
            <a:rect l="l" t="t" r="r" b="b"/>
            <a:pathLst>
              <a:path w="344" h="384">
                <a:moveTo>
                  <a:pt x="0" y="384"/>
                </a:moveTo>
                <a:cubicBezTo>
                  <a:pt x="116" y="320"/>
                  <a:pt x="232" y="256"/>
                  <a:pt x="288" y="192"/>
                </a:cubicBezTo>
                <a:cubicBezTo>
                  <a:pt x="344" y="128"/>
                  <a:pt x="340" y="64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06520" y="4800600"/>
            <a:ext cx="44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-edge (ti) &gt; longest-edge (ti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62064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pp(t): a key concept for f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-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5373720"/>
            <a:ext cx="6716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identifies terminal-edge AB  associated to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790-A374-49B4-B8B9-1F5C17A2F0C5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3880" y="500040"/>
            <a:ext cx="621900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 edg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on basic idea: refinement of  Terminal-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put: Set S of target elements to be improved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ed in mesh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each t in 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hile t remains in the mesh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ind Lepp(t) and associated terminal-edg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Select point P to be inserted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 the mi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f a terminal-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Insert point P in mesh 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09640" y="4724280"/>
            <a:ext cx="508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b5391"/>
                </a:solidFill>
                <a:latin typeface="Arial"/>
              </a:rPr>
              <a:t>(*) Refinement </a:t>
            </a:r>
            <a:r>
              <a:rPr b="0" lang="es-ES_tradnl" sz="2000" spc="-1" strike="noStrike">
                <a:solidFill>
                  <a:srgbClr val="1b5391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1b5391"/>
                </a:solidFill>
                <a:latin typeface="Arial"/>
              </a:rPr>
              <a:t> longest-edge bi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b5391"/>
                </a:solidFill>
                <a:latin typeface="Arial"/>
              </a:rPr>
              <a:t>(*) Improvement </a:t>
            </a:r>
            <a:r>
              <a:rPr b="0" lang="es-ES_tradnl" sz="2000" spc="-1" strike="noStrike">
                <a:solidFill>
                  <a:srgbClr val="1b5391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1b5391"/>
                </a:solidFill>
                <a:latin typeface="Arial"/>
              </a:rPr>
              <a:t> Delaunay point 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55E-6BF7-48D6-B667-DA3778D43C00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bisection algorithm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501-D20D-4BBB-8BBC-C645615CA82F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4312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457800" cy="36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5761080" cy="2776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19000" y="3740040"/>
            <a:ext cx="7287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{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 interior terminal edge                 CD boundary terminal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terminal triangles                   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erminal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4200" y="525600"/>
            <a:ext cx="676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propagating path Lepp(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494172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bisection algorithm performs longest edge bisection of     terminal triangles, a local operation that maintains a valid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938-5294-43EF-9A9D-A358BF21370D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43160" y="1947960"/>
            <a:ext cx="6457680" cy="2962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22760" y="420840"/>
            <a:ext cx="748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bisection algorithm: used for refining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7400" y="4965840"/>
            <a:ext cx="78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gure (a): First point 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gure (b): Refined subtriangulation, three point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 the order shown in the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200-4A47-4F17-8C82-312327BC83FE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otivation: different practical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sical finite element analysis of physical problems modelled by P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eeds adequate discretization of the associated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aptive and multigrid finite elemen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re sequences of locally refined quality trian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s that requiere evolving me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res refinement /derefinement of the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s with moving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uter graphic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ain modeling of hug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43C-1E82-4A5A-9E29-157DB666E0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1120" y="1666800"/>
            <a:ext cx="7994520" cy="341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92720" y="549360"/>
            <a:ext cx="178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489-14B5-415F-8C0D-FC6A8318CE88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056360" cy="39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36A-2988-4A54-A1E4-33E4DF78A9D7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ple: adaptive triangulation obtained with the refinemen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96216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21A-3F75-4B1E-80EA-95ABFAB3A58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finement / Derefinement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791320" cy="4400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623200" y="590076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JNME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791-74E2-4BC5-B70D-9FED57AF1609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algorithms for solving p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82720" y="16876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aptive f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39080" y="1687680"/>
            <a:ext cx="304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vara 1984, 1986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nes – Plassmann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ambiar et al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thukrishnan et al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4280" y="3714840"/>
            <a:ext cx="303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ltigrid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refinefinemen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llel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82720" y="3714840"/>
            <a:ext cx="421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vara 1984, 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vara 1987, Jones-Plassman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nes – Plassmann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taños – Savage 1999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vara-Calderón – Fedorov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risochoides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8AE-0A6E-4F3A-978B-533354004209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ngest edge refinement / derefinement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2120" y="2220840"/>
            <a:ext cx="769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quences of nested triangulations are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itable for multigrid methods (Rivara 1984, 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quences of adaptive me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cal differences between consecutive meshes can b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ted with multiresolu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FBC-FFAC-4997-B1F6-8CF0D8591E5B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perties of Lepp-bisection algorithm in 2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es triangle with smallest angl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/2 wher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the smallest angle of the initial trian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solving TRP I and II, the refinement propagates towards triangles not involved in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f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r in the refinement region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tes in a finite number of steps (progapates towards bigger tria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y triangulation constructed is smooth:  the transition between small and big triangles is smoo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ractal property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terative refinement around a vertex produces a fixed angle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D72-A1B9-4D73-B4B2-184C2560795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19280" y="1305000"/>
            <a:ext cx="7705440" cy="424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92000" y="260280"/>
            <a:ext cx="8352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actal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rst iterative refinements around Q produces fixed angle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fter that, the geometry is repeated (fractal behav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82D-0EE2-46E6-9232-EFC8BDAA8896}" type="slidenum">
              <a:t>4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bisection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ementation and pract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lly automatic algorithm (no heuristic criteria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y local refinemen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valid mesh in maintained throughout the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hm is free of non-robustness iss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hm can be easily paralle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cost of inserting K new vertices in the mesh is linear in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290-E71D-4324-8658-EF0A7FF49B5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tudy on the algorithm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13C-8476-4B7E-A6D1-0D558B9D13E6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ometry Triangulation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tion of a set of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tion of a given geometry (polygon, PSLG, solid 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5D5-1A46-4091-B540-131E9DA5B6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4360" y="620640"/>
            <a:ext cx="7848360" cy="25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gorithm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need to use an amortized cost analysis.  Motiv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ement of triangle t (figure a) can refine the whole triangulation (figure b) in one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terative refinemen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of triangles of vertex C i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y loc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de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7086600" cy="2562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372720" y="55166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C82-3A76-4FB4-873E-3273C66A443E}" type="slidenum">
              <a:t>5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st study for solving TRP 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P II:  refine triangle t in 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while longest edge (t) 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everal refinement ste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916360" y="2349360"/>
            <a:ext cx="1944720" cy="1693800"/>
            <a:chOff x="2916360" y="2349360"/>
            <a:chExt cx="1944720" cy="1693800"/>
          </a:xfrm>
        </p:grpSpPr>
        <p:sp>
          <p:nvSpPr>
            <p:cNvPr id="214" name=""/>
            <p:cNvSpPr/>
            <p:nvPr/>
          </p:nvSpPr>
          <p:spPr>
            <a:xfrm>
              <a:off x="2916360" y="2458800"/>
              <a:ext cx="1577880" cy="1233720"/>
            </a:xfrm>
            <a:custGeom>
              <a:avLst/>
              <a:gdLst/>
              <a:ahLst/>
              <a:rect l="l" t="t" r="r" b="b"/>
              <a:pathLst>
                <a:path w="994" h="777">
                  <a:moveTo>
                    <a:pt x="289" y="305"/>
                  </a:moveTo>
                  <a:cubicBezTo>
                    <a:pt x="287" y="296"/>
                    <a:pt x="261" y="326"/>
                    <a:pt x="255" y="319"/>
                  </a:cubicBezTo>
                  <a:cubicBezTo>
                    <a:pt x="250" y="313"/>
                    <a:pt x="241" y="315"/>
                    <a:pt x="234" y="312"/>
                  </a:cubicBezTo>
                  <a:cubicBezTo>
                    <a:pt x="215" y="303"/>
                    <a:pt x="189" y="292"/>
                    <a:pt x="173" y="278"/>
                  </a:cubicBezTo>
                  <a:cubicBezTo>
                    <a:pt x="103" y="216"/>
                    <a:pt x="159" y="256"/>
                    <a:pt x="112" y="224"/>
                  </a:cubicBezTo>
                  <a:cubicBezTo>
                    <a:pt x="114" y="201"/>
                    <a:pt x="114" y="178"/>
                    <a:pt x="119" y="156"/>
                  </a:cubicBezTo>
                  <a:cubicBezTo>
                    <a:pt x="122" y="142"/>
                    <a:pt x="142" y="128"/>
                    <a:pt x="153" y="122"/>
                  </a:cubicBezTo>
                  <a:cubicBezTo>
                    <a:pt x="221" y="84"/>
                    <a:pt x="290" y="46"/>
                    <a:pt x="363" y="21"/>
                  </a:cubicBezTo>
                  <a:cubicBezTo>
                    <a:pt x="459" y="0"/>
                    <a:pt x="611" y="33"/>
                    <a:pt x="682" y="41"/>
                  </a:cubicBezTo>
                  <a:cubicBezTo>
                    <a:pt x="753" y="49"/>
                    <a:pt x="757" y="53"/>
                    <a:pt x="790" y="68"/>
                  </a:cubicBezTo>
                  <a:cubicBezTo>
                    <a:pt x="802" y="103"/>
                    <a:pt x="844" y="117"/>
                    <a:pt x="878" y="129"/>
                  </a:cubicBezTo>
                  <a:cubicBezTo>
                    <a:pt x="897" y="186"/>
                    <a:pt x="925" y="224"/>
                    <a:pt x="973" y="258"/>
                  </a:cubicBezTo>
                  <a:cubicBezTo>
                    <a:pt x="994" y="317"/>
                    <a:pt x="964" y="356"/>
                    <a:pt x="946" y="407"/>
                  </a:cubicBezTo>
                  <a:cubicBezTo>
                    <a:pt x="940" y="530"/>
                    <a:pt x="889" y="546"/>
                    <a:pt x="824" y="644"/>
                  </a:cubicBezTo>
                  <a:cubicBezTo>
                    <a:pt x="810" y="692"/>
                    <a:pt x="792" y="723"/>
                    <a:pt x="749" y="726"/>
                  </a:cubicBezTo>
                  <a:cubicBezTo>
                    <a:pt x="645" y="757"/>
                    <a:pt x="565" y="761"/>
                    <a:pt x="451" y="766"/>
                  </a:cubicBezTo>
                  <a:cubicBezTo>
                    <a:pt x="419" y="777"/>
                    <a:pt x="390" y="752"/>
                    <a:pt x="356" y="759"/>
                  </a:cubicBezTo>
                  <a:cubicBezTo>
                    <a:pt x="231" y="750"/>
                    <a:pt x="309" y="753"/>
                    <a:pt x="234" y="753"/>
                  </a:cubicBezTo>
                  <a:cubicBezTo>
                    <a:pt x="215" y="723"/>
                    <a:pt x="114" y="690"/>
                    <a:pt x="79" y="678"/>
                  </a:cubicBezTo>
                  <a:cubicBezTo>
                    <a:pt x="40" y="641"/>
                    <a:pt x="43" y="650"/>
                    <a:pt x="24" y="597"/>
                  </a:cubicBezTo>
                  <a:cubicBezTo>
                    <a:pt x="33" y="570"/>
                    <a:pt x="0" y="524"/>
                    <a:pt x="24" y="509"/>
                  </a:cubicBezTo>
                  <a:cubicBezTo>
                    <a:pt x="66" y="447"/>
                    <a:pt x="10" y="520"/>
                    <a:pt x="58" y="482"/>
                  </a:cubicBezTo>
                  <a:cubicBezTo>
                    <a:pt x="65" y="477"/>
                    <a:pt x="65" y="466"/>
                    <a:pt x="72" y="461"/>
                  </a:cubicBezTo>
                  <a:cubicBezTo>
                    <a:pt x="80" y="456"/>
                    <a:pt x="90" y="457"/>
                    <a:pt x="99" y="454"/>
                  </a:cubicBezTo>
                  <a:cubicBezTo>
                    <a:pt x="159" y="432"/>
                    <a:pt x="210" y="415"/>
                    <a:pt x="275" y="407"/>
                  </a:cubicBezTo>
                  <a:cubicBezTo>
                    <a:pt x="311" y="394"/>
                    <a:pt x="310" y="377"/>
                    <a:pt x="316" y="339"/>
                  </a:cubicBezTo>
                  <a:cubicBezTo>
                    <a:pt x="290" y="323"/>
                    <a:pt x="310" y="283"/>
                    <a:pt x="289" y="30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80000" y="2349360"/>
              <a:ext cx="1081080" cy="1693800"/>
            </a:xfrm>
            <a:custGeom>
              <a:avLst/>
              <a:gdLst/>
              <a:ahLst/>
              <a:rect l="l" t="t" r="r" b="b"/>
              <a:pathLst>
                <a:path w="681" h="1067">
                  <a:moveTo>
                    <a:pt x="353" y="0"/>
                  </a:moveTo>
                  <a:cubicBezTo>
                    <a:pt x="339" y="46"/>
                    <a:pt x="347" y="28"/>
                    <a:pt x="333" y="54"/>
                  </a:cubicBezTo>
                  <a:lnTo>
                    <a:pt x="0" y="1067"/>
                  </a:lnTo>
                  <a:lnTo>
                    <a:pt x="363" y="1067"/>
                  </a:lnTo>
                  <a:lnTo>
                    <a:pt x="681" y="69"/>
                  </a:lnTo>
                  <a:lnTo>
                    <a:pt x="35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08360" y="2674800"/>
              <a:ext cx="14436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19640" y="3466800"/>
              <a:ext cx="144360" cy="1447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1640" y="31734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81280" y="2381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4360" y="4076640"/>
            <a:ext cx="7848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t is not convenient to use the worst case analysis in one refinement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need to perform an amortized cos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consider two cases:  R={vertex},   R =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4A5-528D-4147-8D23-371384BD0399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mma 1 (cost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the Vertex Refinement Problem (refine around vertex Q until triangle size i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number N of points is introduc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&lt; K (Log (L /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K is constant, L is the longest geometry interior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357720"/>
            <a:ext cx="8064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of sketch: to state the bound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ractal property implies a fixed angle molecule around Q shared at     most by 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riangles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smallest initial angle) and longest edg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 is bounded by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ong L at most Log (L /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points are introduced (binary par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6021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9896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60640" y="59817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AAF-D363-47E1-8D85-5FA019AD37E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mma 2 (cost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1557360"/>
            <a:ext cx="763272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the Circle Refinement Problem (refinement region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a circle interior to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number of points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interior to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and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exterior to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are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lt; 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(r/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        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r/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 Log (L /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here L is the longest distance from boundary (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undary (T), r is the radius of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95B-30BD-4968-A007-F28304D78CF1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mma 3 (cost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21456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solving the Vertex Refinement Problem, the algorithm is linear in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solving the Circle Refinement Problem, the algorithm is linear in (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 r &gt;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hen the algorithm is linear in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mark, if r &gt;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he points inserted by propagation refinement is far less than the points required in the interior of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219-2FE9-4530-AF67-1E4FEC6D142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ight triangle bintree triangulations and multiresolution repres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9CF-5377-4FF4-81BE-930DA1A97D04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ight triangle bintree meshes and terrain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55160" indent="-155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ular case of longest edge me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isosceles right-triangle trian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760" indent="-12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bisection algorithm produces idem meshes (isosceles right triangle is a specia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rian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760" indent="-12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computation of the longest edge is avoided (refinement follows by the newest ve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760" indent="-12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intree data structure can be used (multiresolution tree repres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760" indent="-12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itable for terrain gri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2AF-BB1B-41E1-8EA2-3FCAFFA984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81040" y="1285920"/>
            <a:ext cx="6181920" cy="4286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55640" y="333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ght-triangle bintree representation extracts information from the gri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BB2-C9E4-4390-B1C3-35ED2522541F}" type="slidenum">
              <a:t>5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3695760" cy="3629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042920" y="4724280"/>
            <a:ext cx="7345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ement of t implies refinement of terminal triangles ABC, ADB (belong to the same bintree level).    Split and merge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mple refinement / derefinemen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F82-E71C-4725-8EDE-D48EC95C3E10}" type="slidenum">
              <a:t>5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ultiresolution mesh re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752480"/>
            <a:ext cx="77724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a: Simple base mesh together with a sequence of local correction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tricted to meshes with subdivision conn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undsberg et al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 arbitrary mesh M is aproximated by a mesh M</a:t>
            </a:r>
            <a:r>
              <a:rPr b="0" lang="es-CL" sz="20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ck et al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ngest edge algorithms are hierarchical related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ght triangulations (for terrain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chaineau et al 1997, Pajarola 2002, Velho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AEC-4826-4934-BD2A-EA75476DCFA9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elaunay triangulation (D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: Given a point set P,  construct a triangulation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 = { point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 is a DT of P if the circuncircle of every triangle t in T d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 include any vertex of P in its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 and t* are locally Delaunay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267080" y="3809880"/>
            <a:ext cx="1295640" cy="1447920"/>
            <a:chOff x="4267080" y="3809880"/>
            <a:chExt cx="1295640" cy="1447920"/>
          </a:xfrm>
        </p:grpSpPr>
        <p:sp>
          <p:nvSpPr>
            <p:cNvPr id="53" name=""/>
            <p:cNvSpPr/>
            <p:nvPr/>
          </p:nvSpPr>
          <p:spPr>
            <a:xfrm>
              <a:off x="4267080" y="3809880"/>
              <a:ext cx="1295640" cy="1195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24280" y="3809880"/>
              <a:ext cx="83844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267080" y="3809880"/>
              <a:ext cx="457200" cy="6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267080" y="4376160"/>
              <a:ext cx="1295640" cy="12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947840" y="4376520"/>
              <a:ext cx="614520" cy="8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4502160"/>
              <a:ext cx="68112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63800" y="4008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0240" y="4636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t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212840" y="5308560"/>
            <a:ext cx="504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:  DT maximizes the minimun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835-1D85-4F69-8294-AC33D53F8D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rge scale terrain applications: real time rendering and multiresolution mod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2276640"/>
            <a:ext cx="77724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adtree based triangulations (with restri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ght triangles (longest edge) based trian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ynamic mesh representation based on triangle bin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chaineau et al 1997, Pajarola 2002, Velho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AM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all time optimally adaptive meshes for terrain da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chaineau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7B7-D363-4EA9-B8B4-E7C75890DAA1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ight triangles bintree meshing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752480"/>
            <a:ext cx="69343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nly isosceles right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ngest edge partitio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ight 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ntre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licit use of Lepp search for finding terminal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ple split and merg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sh can be recursively refined / derefined o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: suitable fos scanned data, height field regular data (terrain mode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AEE-FC69-4BE9-9111-FB38C768F687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057320" y="762120"/>
            <a:ext cx="6410160" cy="518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1EE-6385-42CC-A2A6-E38651F690B9}" type="slidenum">
              <a:t>6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76200" y="1438200"/>
            <a:ext cx="6591600" cy="39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452-CBF8-423F-AEF2-C001B7195BE1}" type="slidenum">
              <a:t>6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143000" y="1262160"/>
            <a:ext cx="6858000" cy="433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EBC-31E3-4374-B269-3CCC2E2382B3}" type="slidenum">
              <a:t>6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47640" y="3068640"/>
            <a:ext cx="662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Delaunay algorithm for quality triang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8FF-4C93-4017-821E-FD7FB6A2748E}" type="slidenum">
              <a:t>6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8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pp Delaunay quality triangulation algorithm 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erminal edge midpoint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sed on selecting terminal edges midpoints associated to bad quality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neralization of previous longest edge 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erminal edge is a special longest edge in a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launay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43F-700D-478D-9C83-BDF1D0B6F8DD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aunay terminal edge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1844640"/>
            <a:ext cx="7239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 terminal edge: longest edge of both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are Delaunlay terminal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487692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3716280"/>
            <a:ext cx="172872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9160" y="3867120"/>
            <a:ext cx="1714320" cy="584280"/>
          </a:xfrm>
          <a:custGeom>
            <a:avLst/>
            <a:gdLst/>
            <a:ahLst/>
            <a:rect l="l" t="t" r="r" b="b"/>
            <a:pathLst>
              <a:path w="1080" h="368">
                <a:moveTo>
                  <a:pt x="0" y="368"/>
                </a:moveTo>
                <a:lnTo>
                  <a:pt x="656" y="364"/>
                </a:lnTo>
                <a:lnTo>
                  <a:pt x="1080" y="364"/>
                </a:lnTo>
                <a:lnTo>
                  <a:pt x="228" y="0"/>
                </a:lnTo>
                <a:lnTo>
                  <a:pt x="0" y="36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78240" y="4438800"/>
            <a:ext cx="1676520" cy="1174680"/>
          </a:xfrm>
          <a:custGeom>
            <a:avLst/>
            <a:gdLst/>
            <a:ahLst/>
            <a:rect l="l" t="t" r="r" b="b"/>
            <a:pathLst>
              <a:path w="1056" h="740">
                <a:moveTo>
                  <a:pt x="0" y="0"/>
                </a:moveTo>
                <a:lnTo>
                  <a:pt x="560" y="740"/>
                </a:lnTo>
                <a:lnTo>
                  <a:pt x="1056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60720" y="43657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8160" y="43657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00320" y="4508640"/>
            <a:ext cx="2494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94160" y="36450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9960" y="4076640"/>
            <a:ext cx="2494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AC7-5A80-4063-AF14-4229DC6E9916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3000" y="914400"/>
            <a:ext cx="695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Delaunay terminal edge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1828800"/>
            <a:ext cx="642456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put:  constrained Delaunay triangulation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mallest angle toleranc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set S of triangles with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each t in 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hile t remains in the mesh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Lepp (t) and associated terminal ed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 point P to be in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orm (constrained) Delaunay inser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e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  In general P is midpoint of a terminal edge excepting for constraine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DCF-E0C5-4528-8727-BC7C7BA0F35E}" type="slidenum">
              <a:t>6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05120" y="0"/>
            <a:ext cx="6002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iangle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l-edge Delaunay algorith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1360440"/>
            <a:ext cx="1600200" cy="1676520"/>
          </a:xfrm>
          <a:custGeom>
            <a:avLst/>
            <a:gdLst/>
            <a:ahLst/>
            <a:rect l="l" t="t" r="r" b="b"/>
            <a:pathLst>
              <a:path w="1008" h="1056">
                <a:moveTo>
                  <a:pt x="0" y="768"/>
                </a:moveTo>
                <a:lnTo>
                  <a:pt x="480" y="1056"/>
                </a:lnTo>
                <a:lnTo>
                  <a:pt x="1008" y="528"/>
                </a:lnTo>
                <a:lnTo>
                  <a:pt x="336" y="0"/>
                </a:lnTo>
                <a:lnTo>
                  <a:pt x="0" y="76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1360440"/>
            <a:ext cx="53352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336" y="0"/>
                </a:lnTo>
                <a:lnTo>
                  <a:pt x="96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1360440"/>
            <a:ext cx="106668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36920" y="136044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42960" y="185112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7520" y="21556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20560" y="236232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63600" y="2046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46600" y="144792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73400" y="17524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09320" y="108900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TARGET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48520" y="139392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DELAUN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INSE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4027320"/>
            <a:ext cx="53316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336" y="0"/>
                </a:lnTo>
                <a:lnTo>
                  <a:pt x="96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4027320"/>
            <a:ext cx="106704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60600" y="402732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11080" y="433224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4408560"/>
            <a:ext cx="284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65760"/>
            <a:ext cx="1600200" cy="84924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240"/>
                </a:moveTo>
                <a:lnTo>
                  <a:pt x="528" y="528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4103640"/>
            <a:ext cx="144756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720"/>
                </a:moveTo>
                <a:lnTo>
                  <a:pt x="432" y="480"/>
                </a:lnTo>
                <a:lnTo>
                  <a:pt x="9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440" y="428940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44845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4027320"/>
            <a:ext cx="106704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4027320"/>
            <a:ext cx="106668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336" y="0"/>
                </a:moveTo>
                <a:lnTo>
                  <a:pt x="0" y="288"/>
                </a:lnTo>
                <a:lnTo>
                  <a:pt x="432" y="528"/>
                </a:lnTo>
                <a:lnTo>
                  <a:pt x="672" y="288"/>
                </a:lnTo>
                <a:lnTo>
                  <a:pt x="336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40273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87400" y="433224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91960" y="440856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10960" y="42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4941720"/>
            <a:ext cx="1600200" cy="83844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240"/>
                </a:moveTo>
                <a:lnTo>
                  <a:pt x="528" y="528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494172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4179960"/>
            <a:ext cx="144756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720"/>
                </a:moveTo>
                <a:lnTo>
                  <a:pt x="432" y="480"/>
                </a:lnTo>
                <a:lnTo>
                  <a:pt x="9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456084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10364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4103640"/>
            <a:ext cx="53316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96" y="48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336" y="28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91320" y="4560840"/>
            <a:ext cx="1066680" cy="1800"/>
          </a:xfrm>
          <a:custGeom>
            <a:avLst/>
            <a:gdLst/>
            <a:ahLst/>
            <a:rect l="l" t="t" r="r" b="b"/>
            <a:pathLst>
              <a:path w="672" h="1">
                <a:moveTo>
                  <a:pt x="0" y="0"/>
                </a:moveTo>
                <a:lnTo>
                  <a:pt x="384" y="0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417996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41760" y="6423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7820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90960" y="421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01880" y="43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14960" y="273204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4484520"/>
            <a:ext cx="228600" cy="123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97360" y="1358640"/>
            <a:ext cx="129960" cy="8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09320" y="2201400"/>
            <a:ext cx="125280" cy="84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44845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12440" y="3112920"/>
            <a:ext cx="143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idpoin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he Terminal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144792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  <a:lnTo>
                  <a:pt x="576" y="9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248520" y="19807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6294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324480" y="228564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38680" y="1447920"/>
            <a:ext cx="685800" cy="1523880"/>
          </a:xfrm>
          <a:custGeom>
            <a:avLst/>
            <a:gdLst/>
            <a:ahLst/>
            <a:rect l="l" t="t" r="r" b="b"/>
            <a:pathLst>
              <a:path w="432" h="960">
                <a:moveTo>
                  <a:pt x="288" y="0"/>
                </a:moveTo>
                <a:lnTo>
                  <a:pt x="0" y="288"/>
                </a:lnTo>
                <a:lnTo>
                  <a:pt x="384" y="528"/>
                </a:lnTo>
                <a:lnTo>
                  <a:pt x="48" y="720"/>
                </a:lnTo>
                <a:lnTo>
                  <a:pt x="432" y="9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228600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19051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144792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lnTo>
                  <a:pt x="48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48520" y="1752480"/>
            <a:ext cx="30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3048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9200" y="19810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87800" y="1295280"/>
            <a:ext cx="241200" cy="228600"/>
          </a:xfrm>
          <a:custGeom>
            <a:avLst/>
            <a:gdLst/>
            <a:ahLst/>
            <a:rect l="l" t="t" r="r" b="b"/>
            <a:pathLst>
              <a:path w="152" h="144">
                <a:moveTo>
                  <a:pt x="104" y="0"/>
                </a:moveTo>
                <a:cubicBezTo>
                  <a:pt x="52" y="12"/>
                  <a:pt x="0" y="24"/>
                  <a:pt x="8" y="48"/>
                </a:cubicBezTo>
                <a:cubicBezTo>
                  <a:pt x="16" y="72"/>
                  <a:pt x="84" y="108"/>
                  <a:pt x="152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C53-30E0-410F-86C0-CDEE3D4D8D97}" type="slidenum">
              <a:t>6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01400"/>
            <a:ext cx="70866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strained Delaunay triangulation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DT in 2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CDT includes fixed edges to be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relaxation of the Delaunay triangulation conditions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kind of visibility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 AB is a constrained edge, then the circuncircle of t doesn´t see the point Q inside the cir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038480"/>
            <a:ext cx="160020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426708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288"/>
                </a:moveTo>
                <a:lnTo>
                  <a:pt x="1008" y="240"/>
                </a:lnTo>
                <a:lnTo>
                  <a:pt x="144" y="0"/>
                </a:lnTo>
                <a:lnTo>
                  <a:pt x="0" y="28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2600" y="4419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472428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781680" y="4647960"/>
            <a:ext cx="9907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2760" y="4572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9800" y="5029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34320" y="4529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2920" y="4267080"/>
            <a:ext cx="386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is concept allow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tion of general polyg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SL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110-EC47-4376-AC4E-06973CDB65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3733920" y="2514600"/>
            <a:ext cx="164448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5943600" y="2438280"/>
            <a:ext cx="1712880" cy="1905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825920" y="1082520"/>
            <a:ext cx="69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utomatic quality triangulation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48360" y="44276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n angl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290-049C-41DC-BAEA-A3A6E61D7102}" type="slidenum">
              <a:t>7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1752840" cy="17445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752480" cy="17445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>
            <a:lum bright="-36000"/>
          </a:blip>
          <a:srcRect l="23532" t="39394" r="17649" b="18183"/>
          <a:stretch/>
        </p:blipFill>
        <p:spPr>
          <a:xfrm>
            <a:off x="6400800" y="2819520"/>
            <a:ext cx="1676520" cy="1706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966320" y="803160"/>
            <a:ext cx="322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other example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F77-701E-4C06-B6E4-C2BF856B024E}" type="slidenum">
              <a:t>7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lgorithm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int selection over constrained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aint on the largest angles of Delaunay terminal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aracterization of Delaunay terminal triangles by longest edge bi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ounds on smalles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ounds on distance to previou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imination of too-obtuse (non terminal) triang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n problem: optimal size trian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8DA-D9BB-487E-B1AC-F5F0C48D211C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99240" y="609480"/>
            <a:ext cx="63878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CA is a constrained edg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MR7"/>
              </a:rPr>
              <a:t>0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 30º or 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MR7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&lt; 30º then insert midpoint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f edge 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029200" cy="27799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3760" y="4869000"/>
            <a:ext cx="894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b5391"/>
                </a:solidFill>
                <a:latin typeface="Arial"/>
              </a:rPr>
              <a:t>Remark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ver constrained edge CA, the insertion of M and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du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ang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imilar to triangle BAC; (b) Insertion of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voids this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09920" y="136440"/>
            <a:ext cx="5664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trained edge point inser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2720" y="2971800"/>
            <a:ext cx="30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MR7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30800" y="3429000"/>
            <a:ext cx="30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MR7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9D9-C3FB-4820-931E-EFBD9A72E036}" type="slidenum">
              <a:t>7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680000" cy="2781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66560" y="4292640"/>
            <a:ext cx="812412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heorem 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or any pair of Delaunay terminal-triangles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haring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nconstrained terminal ed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est angle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3 for i = 1,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of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ABC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ABD.   Vertex D in regio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120º, triangle  ADB equilateral and |ZO| = r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44760" y="333360"/>
            <a:ext cx="61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raint on the largest angle of Delaun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minal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9080" y="206064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01D-3E6F-45B4-9C7A-75ECA10284F0}" type="slidenum">
              <a:t>7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938400" y="3505320"/>
            <a:ext cx="35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743200" y="274320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1440" y="480"/>
                </a:lnTo>
                <a:lnTo>
                  <a:pt x="432" y="0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06880" y="2471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49440" y="33861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62680" y="3375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3467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429000" y="2233080"/>
            <a:ext cx="1287360" cy="51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16360" y="2233440"/>
            <a:ext cx="312840" cy="127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62520" y="2233440"/>
            <a:ext cx="753840" cy="127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78200" y="2195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8560" y="189000"/>
            <a:ext cx="784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ssumption to avoid unfrequent LOOP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(to simplify the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67120" y="1525680"/>
            <a:ext cx="256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to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22.2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69520" y="3754440"/>
            <a:ext cx="543708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op case can happen under the constra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BA terminal edge of midpoint 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CA terminal edge of midpoint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22.2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+ some constrained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iangle 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ilar to triangle B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95800" y="2895480"/>
            <a:ext cx="35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48800" y="3124080"/>
            <a:ext cx="39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2746440"/>
            <a:ext cx="57168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62320" y="3076560"/>
            <a:ext cx="748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CCD-A1DD-4340-B0D0-8EFD467756F4}" type="slidenum">
              <a:t>7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1550880" y="1986120"/>
            <a:ext cx="2895840" cy="2328840"/>
            <a:chOff x="1550880" y="1986120"/>
            <a:chExt cx="2895840" cy="2328840"/>
          </a:xfrm>
        </p:grpSpPr>
        <p:sp>
          <p:nvSpPr>
            <p:cNvPr id="363" name=""/>
            <p:cNvSpPr/>
            <p:nvPr/>
          </p:nvSpPr>
          <p:spPr>
            <a:xfrm>
              <a:off x="3063960" y="301968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44640" y="2257560"/>
              <a:ext cx="2286000" cy="76212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80"/>
                  </a:moveTo>
                  <a:lnTo>
                    <a:pt x="1440" y="480"/>
                  </a:lnTo>
                  <a:lnTo>
                    <a:pt x="432" y="0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44640" y="3019680"/>
              <a:ext cx="2286000" cy="1295280"/>
            </a:xfrm>
            <a:custGeom>
              <a:avLst/>
              <a:gdLst/>
              <a:ahLst/>
              <a:rect l="l" t="t" r="r" b="b"/>
              <a:pathLst>
                <a:path w="1440" h="816">
                  <a:moveTo>
                    <a:pt x="0" y="0"/>
                  </a:moveTo>
                  <a:lnTo>
                    <a:pt x="720" y="816"/>
                  </a:ln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30440" y="2257560"/>
              <a:ext cx="533160" cy="2057400"/>
            </a:xfrm>
            <a:custGeom>
              <a:avLst/>
              <a:gdLst/>
              <a:ahLst/>
              <a:rect l="l" t="t" r="r" b="b"/>
              <a:pathLst>
                <a:path w="336" h="1296">
                  <a:moveTo>
                    <a:pt x="0" y="0"/>
                  </a:moveTo>
                  <a:lnTo>
                    <a:pt x="336" y="480"/>
                  </a:lnTo>
                  <a:lnTo>
                    <a:pt x="288" y="12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7960" y="19861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50880" y="2900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63760" y="2889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25800" y="29815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7194960" y="30574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75280" y="229536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1440" y="480"/>
                </a:lnTo>
                <a:lnTo>
                  <a:pt x="432" y="0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75280" y="3057480"/>
            <a:ext cx="2286000" cy="1295280"/>
          </a:xfrm>
          <a:custGeom>
            <a:avLst/>
            <a:gdLst/>
            <a:ahLst/>
            <a:rect l="l" t="t" r="r" b="b"/>
            <a:pathLst>
              <a:path w="1440" h="816">
                <a:moveTo>
                  <a:pt x="0" y="0"/>
                </a:moveTo>
                <a:lnTo>
                  <a:pt x="720" y="816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1080" y="229536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0"/>
                </a:moveTo>
                <a:lnTo>
                  <a:pt x="336" y="480"/>
                </a:lnTo>
                <a:lnTo>
                  <a:pt x="288" y="12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38960" y="202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81520" y="29383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94760" y="29275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56440" y="3019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97280" y="2735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61080" y="1785960"/>
            <a:ext cx="128736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3960" y="1636560"/>
            <a:ext cx="1434960" cy="831960"/>
          </a:xfrm>
          <a:custGeom>
            <a:avLst/>
            <a:gdLst/>
            <a:ahLst/>
            <a:rect l="l" t="t" r="r" b="b"/>
            <a:pathLst>
              <a:path w="904" h="524">
                <a:moveTo>
                  <a:pt x="0" y="524"/>
                </a:moveTo>
                <a:lnTo>
                  <a:pt x="90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99320" y="1661760"/>
            <a:ext cx="1695240" cy="53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948440" y="1785960"/>
            <a:ext cx="312840" cy="127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194600" y="1785960"/>
            <a:ext cx="753840" cy="127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910640" y="1747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37520" y="476280"/>
            <a:ext cx="771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aunay insertion of terminal edge midpo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2600" y="14889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wo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77280" y="4583160"/>
            <a:ext cx="2730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ngest-edge bi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f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58720" y="4583160"/>
            <a:ext cx="34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quence of edge sw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73680" y="5543640"/>
            <a:ext cx="52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 will study involved geometr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1295280"/>
            <a:ext cx="1143000" cy="3049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0" y="192"/>
                </a:moveTo>
                <a:lnTo>
                  <a:pt x="240" y="0"/>
                </a:lnTo>
                <a:lnTo>
                  <a:pt x="720" y="192"/>
                </a:lnTo>
                <a:lnTo>
                  <a:pt x="0" y="1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8120" y="1600200"/>
            <a:ext cx="1143000" cy="457200"/>
          </a:xfrm>
          <a:custGeom>
            <a:avLst/>
            <a:gdLst/>
            <a:ahLst/>
            <a:rect l="l" t="t" r="r" b="b"/>
            <a:pathLst>
              <a:path w="720" h="288">
                <a:moveTo>
                  <a:pt x="0" y="0"/>
                </a:moveTo>
                <a:lnTo>
                  <a:pt x="384" y="288"/>
                </a:lnTo>
                <a:lnTo>
                  <a:pt x="7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31160" y="1295280"/>
            <a:ext cx="289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FBC-ED92-45B1-965D-64C4D0981005}" type="slidenum">
              <a:t>7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05880" y="404640"/>
            <a:ext cx="809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haracterization of Delaunay terminal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98080" y="1306440"/>
            <a:ext cx="53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sumption:  second longest edge CA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2690640"/>
            <a:ext cx="2362320" cy="838440"/>
          </a:xfrm>
          <a:custGeom>
            <a:avLst/>
            <a:gdLst/>
            <a:ahLst/>
            <a:rect l="l" t="t" r="r" b="b"/>
            <a:pathLst>
              <a:path w="1488" h="528">
                <a:moveTo>
                  <a:pt x="0" y="528"/>
                </a:moveTo>
                <a:lnTo>
                  <a:pt x="336" y="0"/>
                </a:lnTo>
                <a:lnTo>
                  <a:pt x="1488" y="0"/>
                </a:lnTo>
                <a:lnTo>
                  <a:pt x="0" y="52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33920" y="26906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35480" y="2343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13120" y="3529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744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64240" y="2617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39840" y="267192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9760" y="3592440"/>
            <a:ext cx="334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rgest angl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120º    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C Delaunay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 midpoint of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90920" y="3897360"/>
            <a:ext cx="44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94120" y="3897360"/>
            <a:ext cx="32832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aints on vertex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aints on midpoin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aints on</a:t>
            </a:r>
            <a:r>
              <a:rPr b="1" lang="es-CL" sz="18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71640" y="1703520"/>
            <a:ext cx="23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mallest angle a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129-27B2-44EE-9267-FEBC8BA1D757}" type="slidenum">
              <a:t>7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116000" y="458136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C is geometrical place for vertex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’F’N is geometrical place for midpoin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267080" cy="2978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414880" y="260280"/>
            <a:ext cx="419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aracterization of Delaun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minal triang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1EE-282D-4E16-94D2-71B77FE8FD9C}" type="slidenum">
              <a:t>7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3141720"/>
            <a:ext cx="739152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2        and  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obtus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an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83720" y="2602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rst longest edge bi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00000" y="5084640"/>
            <a:ext cx="8064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:  a sequence of improved triangles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f vertex B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909440" y="836640"/>
            <a:ext cx="4791960" cy="2361600"/>
            <a:chOff x="1909440" y="836640"/>
            <a:chExt cx="4791960" cy="2361600"/>
          </a:xfrm>
        </p:grpSpPr>
        <p:sp>
          <p:nvSpPr>
            <p:cNvPr id="414" name=""/>
            <p:cNvSpPr/>
            <p:nvPr/>
          </p:nvSpPr>
          <p:spPr>
            <a:xfrm>
              <a:off x="2262240" y="1258560"/>
              <a:ext cx="4085280" cy="1693440"/>
            </a:xfrm>
            <a:custGeom>
              <a:avLst/>
              <a:gdLst/>
              <a:ahLst/>
              <a:rect l="l" t="t" r="r" b="b"/>
              <a:pathLst>
                <a:path w="2087" h="726">
                  <a:moveTo>
                    <a:pt x="0" y="726"/>
                  </a:moveTo>
                  <a:lnTo>
                    <a:pt x="2087" y="726"/>
                  </a:lnTo>
                  <a:lnTo>
                    <a:pt x="590" y="0"/>
                  </a:lnTo>
                  <a:lnTo>
                    <a:pt x="0" y="7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3417120" y="1258560"/>
              <a:ext cx="888480" cy="16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42440" y="295200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09440" y="28465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40360" y="836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57200" y="2105280"/>
              <a:ext cx="264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36800" y="28465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00280" y="2105280"/>
              <a:ext cx="264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66400" y="2347560"/>
              <a:ext cx="36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C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54800" y="2529360"/>
              <a:ext cx="3009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01080" y="1365840"/>
              <a:ext cx="3009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3E6-9DE9-4885-BD9D-19A3C84A5809}" type="slidenum">
              <a:t>7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iangulation Refinement Problem I (TRP 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quality acceptable triangulation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with angl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set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of triangles to be r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ct a locally refined valid triangulation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(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≈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(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les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re ref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eat for further refi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mark: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fined by the application (adaptive or interactive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566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5157720"/>
            <a:ext cx="1511280" cy="935280"/>
          </a:xfrm>
          <a:custGeom>
            <a:avLst/>
            <a:gdLst/>
            <a:ahLst/>
            <a:rect l="l" t="t" r="r" b="b"/>
            <a:pathLst>
              <a:path w="952" h="589">
                <a:moveTo>
                  <a:pt x="0" y="317"/>
                </a:moveTo>
                <a:lnTo>
                  <a:pt x="317" y="0"/>
                </a:lnTo>
                <a:lnTo>
                  <a:pt x="952" y="317"/>
                </a:lnTo>
                <a:lnTo>
                  <a:pt x="453" y="589"/>
                </a:lnTo>
                <a:lnTo>
                  <a:pt x="0" y="31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566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5157720"/>
            <a:ext cx="1511280" cy="935280"/>
          </a:xfrm>
          <a:custGeom>
            <a:avLst/>
            <a:gdLst/>
            <a:ahLst/>
            <a:rect l="l" t="t" r="r" b="b"/>
            <a:pathLst>
              <a:path w="952" h="589">
                <a:moveTo>
                  <a:pt x="0" y="317"/>
                </a:moveTo>
                <a:lnTo>
                  <a:pt x="317" y="0"/>
                </a:lnTo>
                <a:lnTo>
                  <a:pt x="952" y="317"/>
                </a:lnTo>
                <a:lnTo>
                  <a:pt x="453" y="589"/>
                </a:lnTo>
                <a:lnTo>
                  <a:pt x="0" y="31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5157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1640" y="522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93280" y="52228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n-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107-B3B6-4F7D-B51E-9EAFDC9B3B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362320" y="1098720"/>
            <a:ext cx="3809880" cy="24066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143000" y="3657600"/>
            <a:ext cx="70102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acute triang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0º  (B in CIH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.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B in CVW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.8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920" y="422280"/>
            <a:ext cx="25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ngle b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D2F-D3DD-4639-8404-3682EB9D8CDF}" type="slidenum">
              <a:t>8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42160" y="422280"/>
            <a:ext cx="79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ounds on distance from M to previous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1687680"/>
            <a:ext cx="57085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(M) = minimum distance from M to ve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or acute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0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|BC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or obtuse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4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0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0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0.5 |BC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EA9-7100-4B8C-A140-97277A38D56F}" type="slidenum">
              <a:t>8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144160" y="422280"/>
            <a:ext cx="4726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provement of triangles t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42920" y="1557360"/>
            <a:ext cx="70754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sequence of improved triangl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eliminating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no edges smaller than previous edges are inserted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4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gt; 14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n edge at most 0.66 times the size of neighbor previous edge, can be occassionaly in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in this case a quality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obtained and process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6F5-C8EE-4B5C-B20F-48ED5178E175}" type="slidenum">
              <a:t>8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042920" y="3716280"/>
            <a:ext cx="73915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wo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here exists vertex V  inside CC(MAC) but outside CC(BAC).  Then swapping of CA applies by inserting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new point 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ill be inserted in CC(MAC) (we need to study this case) 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midpoint of a terminal edge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69640" y="174600"/>
            <a:ext cx="84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b5391"/>
                </a:solidFill>
                <a:latin typeface="Arial"/>
              </a:rPr>
              <a:t>Elimination of too-obtuse triangle MAC (</a:t>
            </a:r>
            <a:r>
              <a:rPr b="0" lang="es-CL" sz="3000" spc="-1" strike="noStrike">
                <a:solidFill>
                  <a:srgbClr val="1b5391"/>
                </a:solidFill>
                <a:latin typeface="Symbol"/>
                <a:ea typeface="Symbol"/>
              </a:rPr>
              <a:t></a:t>
            </a:r>
            <a:r>
              <a:rPr b="0" lang="es-CL" sz="3000" spc="-1" strike="noStrike">
                <a:solidFill>
                  <a:srgbClr val="1b5391"/>
                </a:solidFill>
                <a:latin typeface="Arial"/>
              </a:rPr>
              <a:t> &gt; 120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838080"/>
            <a:ext cx="2361960" cy="2283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05000" y="2286000"/>
            <a:ext cx="2057400" cy="735120"/>
          </a:xfrm>
          <a:custGeom>
            <a:avLst/>
            <a:gdLst/>
            <a:ahLst/>
            <a:rect l="l" t="t" r="r" b="b"/>
            <a:pathLst>
              <a:path w="1344" h="480">
                <a:moveTo>
                  <a:pt x="0" y="480"/>
                </a:moveTo>
                <a:lnTo>
                  <a:pt x="1344" y="480"/>
                </a:lnTo>
                <a:lnTo>
                  <a:pt x="288" y="0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62200" y="2314440"/>
            <a:ext cx="704880" cy="7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2990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9718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95480" y="914400"/>
            <a:ext cx="3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2057400"/>
            <a:ext cx="3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78040" y="288756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91120" y="3086280"/>
            <a:ext cx="3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95720" y="288756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4DF-6A0D-41FC-A71D-070D365F8F0F}" type="slidenum">
              <a:t>8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738440" y="252576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800" y="4292640"/>
            <a:ext cx="837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DA 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(or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DC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) terminal edge implies that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CMR6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must belong to region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XY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where angle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JCA 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= angle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XY A 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= angle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CY Z 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= 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/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809880" cy="2711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054440" y="404640"/>
            <a:ext cx="656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 first constraint on the situation of M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CE0-D9E3-4092-BE75-A79D9D1B4163}" type="slidenum">
              <a:t>8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61080" y="1197000"/>
            <a:ext cx="8332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(a) If angle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MA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= 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120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, then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JC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is tangent to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C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MAC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at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(see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10(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(b) If angle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MA &gt; 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120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, then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JC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intersects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C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MAC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at a point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G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(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Figure 10(b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(c) If angle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MA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= 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150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, then the triangle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GCA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is isosceles with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30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30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120</a:t>
            </a:r>
            <a:r>
              <a:rPr b="0" lang="es-CL" sz="2000" spc="-1" strike="noStrike">
                <a:solidFill>
                  <a:srgbClr val="000000"/>
                </a:solidFill>
                <a:latin typeface="CMTI10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905120" y="3438360"/>
            <a:ext cx="6019560" cy="26672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680760" y="487440"/>
            <a:ext cx="7179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 second constraint on the situation of M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A71-9E8D-409E-B75D-91030F02B20C}" type="slidenum">
              <a:t>8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188720" y="1197000"/>
            <a:ext cx="4759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too-obtuse triangle MAC, 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s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ed close to C, A (neither to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47240" y="642960"/>
            <a:ext cx="145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m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00400" y="2705040"/>
            <a:ext cx="1752480" cy="171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2819520"/>
            <a:ext cx="1190520" cy="1371600"/>
          </a:xfrm>
          <a:custGeom>
            <a:avLst/>
            <a:gdLst/>
            <a:ahLst/>
            <a:rect l="l" t="t" r="r" b="b"/>
            <a:pathLst>
              <a:path w="750" h="804">
                <a:moveTo>
                  <a:pt x="0" y="0"/>
                </a:moveTo>
                <a:lnTo>
                  <a:pt x="360" y="804"/>
                </a:lnTo>
                <a:lnTo>
                  <a:pt x="75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7920" y="4172040"/>
            <a:ext cx="1467000" cy="581040"/>
          </a:xfrm>
          <a:custGeom>
            <a:avLst/>
            <a:gdLst/>
            <a:ahLst/>
            <a:rect l="l" t="t" r="r" b="b"/>
            <a:pathLst>
              <a:path w="924" h="366">
                <a:moveTo>
                  <a:pt x="924" y="0"/>
                </a:moveTo>
                <a:lnTo>
                  <a:pt x="150" y="0"/>
                </a:lnTo>
                <a:lnTo>
                  <a:pt x="0" y="366"/>
                </a:lnTo>
                <a:lnTo>
                  <a:pt x="0" y="366"/>
                </a:lnTo>
                <a:lnTo>
                  <a:pt x="92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3018960" y="3257280"/>
            <a:ext cx="46692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71800" y="2724120"/>
            <a:ext cx="35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76840" y="29052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057560" y="4381560"/>
            <a:ext cx="7488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195720" y="4106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57920" y="44560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62360" y="4145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A2D-1679-40CF-B3D1-D1F06BFC5ED0}" type="slidenum">
              <a:t>8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heorem TRIANGLE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non-constrained triang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y skinny terminal triangle is replaced by a better triangle with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with C &gt; 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For too-obtuse triangle MAC, after a finite small number of point insertions inside circumcircle CC(MAC), significant angle improvement is ach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14600" y="2743200"/>
            <a:ext cx="1828800" cy="533520"/>
          </a:xfrm>
          <a:custGeom>
            <a:avLst/>
            <a:gdLst/>
            <a:ahLst/>
            <a:rect l="l" t="t" r="r" b="b"/>
            <a:pathLst>
              <a:path w="1152" h="336">
                <a:moveTo>
                  <a:pt x="0" y="336"/>
                </a:moveTo>
                <a:lnTo>
                  <a:pt x="192" y="0"/>
                </a:lnTo>
                <a:lnTo>
                  <a:pt x="1152" y="240"/>
                </a:lnTo>
                <a:lnTo>
                  <a:pt x="0" y="3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19520" y="2743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60680" y="2595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99040" y="3081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00560" y="316224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37200" y="319896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90800" y="2965320"/>
            <a:ext cx="32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00160" y="2930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611520" y="2908440"/>
            <a:ext cx="32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16000" y="21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6C7-6023-4E8E-A9AC-AC1345D3E864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77840" y="812880"/>
            <a:ext cx="8753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of  sketch (b) Only finite n bad quality triangles analogous to 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orst than MAC are introdu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points inserted inside CC(MAC) and close to its boundary, 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finite n, an interior terminal edge is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429000" y="3676680"/>
            <a:ext cx="1828800" cy="2052720"/>
            <a:chOff x="3429000" y="3676680"/>
            <a:chExt cx="1828800" cy="2052720"/>
          </a:xfrm>
        </p:grpSpPr>
        <p:sp>
          <p:nvSpPr>
            <p:cNvPr id="477" name=""/>
            <p:cNvSpPr/>
            <p:nvPr/>
          </p:nvSpPr>
          <p:spPr>
            <a:xfrm>
              <a:off x="3429000" y="3676680"/>
              <a:ext cx="1828800" cy="173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74800" y="4272120"/>
              <a:ext cx="355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CL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79800" y="3755880"/>
              <a:ext cx="355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C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51360" y="4300560"/>
              <a:ext cx="355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CL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19720" y="4648320"/>
              <a:ext cx="114120" cy="104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3880" y="4087800"/>
              <a:ext cx="76320" cy="8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91040" y="4173480"/>
              <a:ext cx="76320" cy="8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66960" y="4268880"/>
              <a:ext cx="76320" cy="8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53080" y="5240160"/>
              <a:ext cx="75960" cy="8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81400" y="4097160"/>
              <a:ext cx="609840" cy="119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67120" y="5259240"/>
              <a:ext cx="76320" cy="8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86160" y="5373720"/>
              <a:ext cx="76320" cy="8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98920" y="5262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61240" y="545292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89440" y="5303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088-42CC-422E-826B-37516000B584}" type="slidenum">
              <a:t>8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258920" y="1413000"/>
            <a:ext cx="65530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heorem:  Assuming PSLG geometry does not have constrained angle less tha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2, an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he algorithm term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are working on a simpler proof of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62064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CC1-B6E3-4D5A-BA36-DF96FE1E2E76}" type="slidenum">
              <a:t>8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iangulation Refinement Problem II (TRP I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quality acceptable triangulation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ith angl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refinement regio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size tolerance paramete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ct a refined valid triangulation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(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≈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(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 edge 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for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47A-9626-4CA0-A7F6-AEC26A8928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258920" y="1413000"/>
            <a:ext cx="655308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pen question:  an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optimal size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quality triangulation is obta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ted with the termination 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points close to previous points are in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need clever geometrical expla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ED6-5504-4A57-A6C4-F216BD29994D}" type="slidenum">
              <a:t>9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258920" y="1413000"/>
            <a:ext cx="6553080" cy="33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 Rivara-Calderón GMP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 introduce a terminal centroid algorithm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oves the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iminates the LOOP CASE (restriction o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compare midpoint and centroid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compare with circumcenter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centroid behaves better than previous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7AA-7E3E-4FF8-9CAA-07D8EDFDAC39}" type="slidenum">
              <a:t>9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 edge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vara IJNME 1984, SIAM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 edge Lepp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vara IJNME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vara-Hitschfeld-Simpson CA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oved and revisited properties of longest edge bi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. Gutierrez, F. Gutierrez, Rivara, TCS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ew on longest edge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vara, submitted APNUM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centro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vara-Calderon, GMP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BC2-5E73-4EDC-B73F-E564A94168AB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033560" y="2119320"/>
            <a:ext cx="7076880" cy="26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448-53FE-4F3C-9625-21D24B38FD2F}" type="slidenum">
              <a:t>9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6:09:56Z</dcterms:created>
  <dc:creator>pedrito</dc:creator>
  <dc:description/>
  <dc:language>en-US</dc:language>
  <cp:lastModifiedBy>mcrivara</cp:lastModifiedBy>
  <dcterms:modified xsi:type="dcterms:W3CDTF">2008-09-01T16:53:55Z</dcterms:modified>
  <cp:revision>45</cp:revision>
  <dc:subject/>
  <dc:title>Diapositiva 1</dc:title>
</cp:coreProperties>
</file>