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2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76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2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0240" y="0"/>
            <a:ext cx="84214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982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8840" y="113796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776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982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8840" y="3807000"/>
            <a:ext cx="268596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240" y="0"/>
            <a:ext cx="84214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2280" y="380700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2280" y="1137960"/>
            <a:ext cx="40708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7640" y="3807000"/>
            <a:ext cx="8342280" cy="24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93000"/>
              </a:lnSpc>
              <a:spcBef>
                <a:spcPts val="1500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2" marL="1146240" indent="-238320">
              <a:lnSpc>
                <a:spcPct val="93000"/>
              </a:lnSpc>
              <a:spcBef>
                <a:spcPts val="1500"/>
              </a:spcBef>
              <a:buClr>
                <a:srgbClr val="2cff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3" marL="20318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4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5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6" marL="2451240" indent="-228600">
              <a:lnSpc>
                <a:spcPct val="93000"/>
              </a:lnSpc>
              <a:spcBef>
                <a:spcPts val="1500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2120" y="-3240"/>
            <a:ext cx="5631840" cy="68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5" y="21592"/>
                </a:moveTo>
                <a:arcTo wR="10800" hR="10800" stAng="5528993" swAng="10705801"/>
                <a:lnTo>
                  <a:pt x="10800" y="10800"/>
                </a:lnTo>
                <a:close/>
              </a:path>
              <a:path fill="none" w="21600" h="21600">
                <a:moveTo>
                  <a:pt x="10395" y="21592"/>
                </a:moveTo>
                <a:arcTo wR="10800" hR="10800" stAng="5528993" swAng="10705801"/>
              </a:path>
            </a:pathLst>
          </a:custGeom>
          <a:noFill/>
          <a:ln cap="rnd"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82040" y="-2377800"/>
            <a:ext cx="4723920" cy="41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91" y="21599"/>
                </a:moveTo>
                <a:arcTo wR="10800" hR="10800" stAng="5434688" swAng="4909113"/>
                <a:lnTo>
                  <a:pt x="10800" y="10800"/>
                </a:lnTo>
                <a:close/>
              </a:path>
              <a:path fill="none" w="21600" h="21600">
                <a:moveTo>
                  <a:pt x="10691" y="21599"/>
                </a:moveTo>
                <a:arcTo wR="10800" hR="10800" stAng="5434688" swAng="4909113"/>
              </a:path>
            </a:pathLst>
          </a:custGeom>
          <a:noFill/>
          <a:ln cap="rnd" w="1260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 flipV="1">
            <a:off x="6431040" y="0"/>
            <a:ext cx="2712960" cy="3075120"/>
          </a:xfrm>
          <a:prstGeom prst="line">
            <a:avLst/>
          </a:prstGeom>
          <a:ln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43920" y="1440"/>
            <a:ext cx="1440" cy="6810480"/>
          </a:xfrm>
          <a:prstGeom prst="line">
            <a:avLst/>
          </a:prstGeom>
          <a:ln w="12600">
            <a:solidFill>
              <a:srgbClr val="006c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34920"/>
            <a:ext cx="9142560" cy="0"/>
          </a:xfrm>
          <a:prstGeom prst="line">
            <a:avLst/>
          </a:prstGeom>
          <a:ln w="1260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400800"/>
            <a:ext cx="739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Arial"/>
              </a:rPr>
              <a:t>Copyright </a:t>
            </a:r>
            <a:r>
              <a:rPr b="0" lang="en-US" sz="1400" spc="-1" strike="noStrike">
                <a:solidFill>
                  <a:srgbClr val="effffd"/>
                </a:solidFill>
                <a:latin typeface="Arial"/>
                <a:ea typeface="Arial"/>
              </a:rPr>
              <a:t>© 2001 Stephen A. Edwards  All rights reserved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40" y="465120"/>
            <a:ext cx="9128160" cy="1922400"/>
          </a:xfrm>
          <a:prstGeom prst="rect">
            <a:avLst/>
          </a:prstGeom>
          <a:gradFill rotWithShape="0">
            <a:gsLst>
              <a:gs pos="0">
                <a:srgbClr val="002931"/>
              </a:gs>
              <a:gs pos="50000">
                <a:srgbClr val="005364"/>
              </a:gs>
              <a:gs pos="100000">
                <a:srgbClr val="0029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686560"/>
            <a:ext cx="4603680" cy="685800"/>
          </a:xfrm>
          <a:prstGeom prst="rect">
            <a:avLst/>
          </a:prstGeom>
          <a:solidFill>
            <a:srgbClr val="0053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279360"/>
            <a:ext cx="8912520" cy="65865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2600280"/>
            <a:ext cx="0" cy="4265640"/>
          </a:xfrm>
          <a:prstGeom prst="line">
            <a:avLst/>
          </a:prstGeom>
          <a:ln w="2844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37480" y="0"/>
            <a:ext cx="330120" cy="6875640"/>
            <a:chOff x="6837480" y="0"/>
            <a:chExt cx="330120" cy="6875640"/>
          </a:xfrm>
        </p:grpSpPr>
        <p:sp>
          <p:nvSpPr>
            <p:cNvPr id="49" name=""/>
            <p:cNvSpPr/>
            <p:nvPr/>
          </p:nvSpPr>
          <p:spPr>
            <a:xfrm>
              <a:off x="6865920" y="6730920"/>
              <a:ext cx="76320" cy="1447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37480" y="30574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42040" y="33624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37480" y="42768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37480" y="549576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040" y="45813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5800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0"/>
              <a:ext cx="75960" cy="1033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144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37480" y="48564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37480" y="170496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2040" y="7905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20098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400" y="304920"/>
            <a:ext cx="7491240" cy="5470560"/>
          </a:xfrm>
          <a:custGeom>
            <a:avLst/>
            <a:gdLst/>
            <a:ahLst/>
            <a:rect l="l" t="t" r="r" b="b"/>
            <a:pathLst>
              <a:path w="4719" h="3446">
                <a:moveTo>
                  <a:pt x="4718" y="3445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85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29400" y="-2520"/>
            <a:ext cx="6857640" cy="68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5" y="21592"/>
                </a:moveTo>
                <a:arcTo wR="10800" hR="10800" stAng="5528974" swAng="10505479"/>
                <a:lnTo>
                  <a:pt x="10800" y="10800"/>
                </a:lnTo>
                <a:close/>
              </a:path>
              <a:path fill="none" w="21600" h="21600">
                <a:moveTo>
                  <a:pt x="10395" y="21592"/>
                </a:moveTo>
                <a:arcTo wR="10800" hR="10800" stAng="5528974" swAng="10505479"/>
              </a:path>
            </a:pathLst>
          </a:custGeom>
          <a:noFill/>
          <a:ln cap="rnd" w="28440">
            <a:solidFill>
              <a:srgbClr val="00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481800"/>
            <a:ext cx="7696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400800"/>
            <a:ext cx="792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400800"/>
            <a:ext cx="7391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Arial"/>
              </a:rPr>
              <a:t>Copyright </a:t>
            </a:r>
            <a:r>
              <a:rPr b="0" lang="en-US" sz="1400" spc="-1" strike="noStrike">
                <a:solidFill>
                  <a:srgbClr val="effffd"/>
                </a:solidFill>
                <a:latin typeface="Arial"/>
                <a:ea typeface="Arial"/>
              </a:rPr>
              <a:t>© 2001 Stephen A. Edwards  All rights reserved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457200" indent="0" algn="ctr">
              <a:lnSpc>
                <a:spcPct val="88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2cfff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effff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effff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ff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ssembly Languages I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90480" y="2617920"/>
            <a:ext cx="66153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rof. Stephen A. Edward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RISC Assembly Languag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sponse to growing use of compiler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sier-to-target, uniform instruction set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ake the most common operations as fast as possible”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ad-store architecture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rithmetic only performed on register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emory load/store instructions for memory-register transfer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esigned to be pipelin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DSP Assembly Languag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igital signal processors designed specifically for signal processing algorithm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ts of regular arithmetic on vector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ften written by ha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rregular architectures to save power, area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ubstantial instruction-level parallelis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VLIW Assembly Languag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sponse to growing desire for instruction-level parallelis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Using more transistors cheaper than running them fast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any parallel ALU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bjective: keep them all busy all the tim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Heavily pipelin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re regular instruction se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Very difficult to program by han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ooks like parallel RISC instruction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ypes of Assembly Languag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676520"/>
          <a:ext cx="8076960" cy="43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807696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Gratuitous Pictur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pic>
        <p:nvPicPr>
          <p:cNvPr id="151" name="woolworth_pc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4000680" cy="6207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78000" y="1138320"/>
            <a:ext cx="43462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Woolworth building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ass Gilbert, 1913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pplication of the Gothic style to a 792’ skyscraper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allest building in the world when it was constructed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owntown: near City Hall</a:t>
            </a: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xample: Euclid’s Algorithm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57178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 C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int gcd(int m, int n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{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int r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while ( (r = m % n) != 0) {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m = n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n = r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return n;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7880" y="2666880"/>
            <a:ext cx="2789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Remainder operatio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28195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52640" y="1219320"/>
            <a:ext cx="31312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wo integer parame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191120" y="1600200"/>
            <a:ext cx="38088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7680" y="4267080"/>
            <a:ext cx="17960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ata transf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240" y="3962160"/>
            <a:ext cx="1523880" cy="533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3320" y="4038480"/>
            <a:ext cx="18586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on-zero test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00240" y="3581280"/>
            <a:ext cx="152388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21360" y="2133720"/>
            <a:ext cx="24195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ne local variabl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7040" y="2286000"/>
            <a:ext cx="388620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i386 Programmer’s Mod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2193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a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765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b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127240"/>
            <a:ext cx="19051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c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584440"/>
            <a:ext cx="19051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d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si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7339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di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184640"/>
            <a:ext cx="19051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b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4641840"/>
            <a:ext cx="19051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s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91440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91440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13716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ostly general-purpose 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35124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ource inde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808440"/>
            <a:ext cx="2666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estination inde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26564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ase poi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72284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tack poi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1295280"/>
            <a:ext cx="9907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99072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99072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137160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752480"/>
            <a:ext cx="99072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182880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03560"/>
            <a:ext cx="9907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27952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660760"/>
            <a:ext cx="9907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273672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xtr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117960"/>
            <a:ext cx="9907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f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19392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3575160"/>
            <a:ext cx="9907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g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65112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19720"/>
            <a:ext cx="1981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egment Registers: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dded during address computatio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41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flag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791320"/>
            <a:ext cx="190512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ei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415120"/>
            <a:ext cx="198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tatus wor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5872320"/>
            <a:ext cx="3200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Instruction Pointer (PC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i386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file   "euclid.c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version        "01.01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c2_compiled.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ex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align 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l gc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ype    gcd,@function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d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pushl %eb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sp,%eb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pushl 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8(%ebp)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12(%ebp),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mp .L6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2align 4,,7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51200" y="1219320"/>
            <a:ext cx="4347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oilerpla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ssembler directives start with 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581280" y="1447920"/>
            <a:ext cx="914400" cy="75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9760" y="1981080"/>
            <a:ext cx="38656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his will be executable code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2133720"/>
            <a:ext cx="342900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2438280"/>
            <a:ext cx="3944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rt on a 16-byte boundary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400" y="259092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048120"/>
            <a:ext cx="3944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cd is a linker-visible label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828440" y="2895480"/>
            <a:ext cx="304812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3000" y="3276720"/>
            <a:ext cx="373392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i386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file   "euclid.c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version        "01.01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c2_compiled.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ex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align 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l gc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ype    gcd,@function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d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pushl %eb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sp,%eb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pushl 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8(%ebp)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12(%ebp),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mp .L6 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66076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274176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0(%es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220968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29068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4(%es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175248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183348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(%es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2895480"/>
            <a:ext cx="533520" cy="0"/>
          </a:xfrm>
          <a:prstGeom prst="line">
            <a:avLst/>
          </a:prstGeom>
          <a:ln w="7632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2666880"/>
            <a:ext cx="914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s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8880" y="1219320"/>
            <a:ext cx="22489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ck before call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533412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old ep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541512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0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87044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495144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4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441972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450072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404352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12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567400"/>
            <a:ext cx="533520" cy="0"/>
          </a:xfrm>
          <a:prstGeom prst="line">
            <a:avLst/>
          </a:prstGeom>
          <a:ln w="7632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338800"/>
            <a:ext cx="914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b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3640" y="3429000"/>
            <a:ext cx="2216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ck after entry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6100920"/>
            <a:ext cx="533520" cy="0"/>
          </a:xfrm>
          <a:prstGeom prst="line">
            <a:avLst/>
          </a:prstGeom>
          <a:ln w="7632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5872320"/>
            <a:ext cx="914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s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578484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old eb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86584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-4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i386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mp .L6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2align 4,,7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4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bx,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6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lt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idivl 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dx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testl %edx,%ed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ne .L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-4(%ebp)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leav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5400" y="1219320"/>
            <a:ext cx="31492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Jump to local label .L6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057400" y="137160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1600" y="1604880"/>
            <a:ext cx="3992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kip as many as 7 bytes to start on a 16-byte boundary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590560" y="1676160"/>
            <a:ext cx="2484360" cy="81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7120" y="2514600"/>
            <a:ext cx="4501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ign-extend %eax to %edx:%eax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99840" y="2666880"/>
            <a:ext cx="289548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2971800"/>
            <a:ext cx="48769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mpute %edx:%eax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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%ecx: quotient in %eax, remainder in %edx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437920" y="3200400"/>
            <a:ext cx="175284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365760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gister assignments: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ax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bx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cx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548640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while ((r = m % n) != 0) {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m =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n = r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return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Last Tim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Languag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yntax: what’s in the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emantics: what the language mean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del: what the language manipulat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pecification asks for something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deling asks what something will do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ondeterminis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648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i386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mp .L6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2align 4,,7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4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bx,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6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lt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idivl 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dx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testl %edx,%ed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ne .L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-4(%ebp)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leav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32800" y="2062080"/>
            <a:ext cx="1072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n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24080" y="2286000"/>
            <a:ext cx="18288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191120"/>
            <a:ext cx="472428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ranch back to .L4 if the zero flag is clear, I.e., the last arithmetic operation did not produce zero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0720" y="4419720"/>
            <a:ext cx="22100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2440" y="2443320"/>
            <a:ext cx="933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 = r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24080" y="2666880"/>
            <a:ext cx="18288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124080"/>
            <a:ext cx="4724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mpute AND of %edx and %edx, update the status word, discard the result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123720" y="3352680"/>
            <a:ext cx="1143000" cy="6858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548640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while ((r = m % n) != 0) {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m =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n = r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return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i386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mp .L6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2align 4,,7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4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bx,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6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lt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idivl %ec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dx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testl %edx,%ed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jne .L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%ecx,%ea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l -4(%ebp),%ebx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leav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724280"/>
            <a:ext cx="3429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ove %ebp to %esp and pop %ebp from the stack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752120" y="5105520"/>
            <a:ext cx="266724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5638680"/>
            <a:ext cx="4724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op a return address from the stack and branch to it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447920" y="5638680"/>
            <a:ext cx="274320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4114800"/>
            <a:ext cx="5181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return n” (caller expects value in %eax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42840" y="4343400"/>
            <a:ext cx="121932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89548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old epb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97648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0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43216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51316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4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198108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206208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1523880"/>
            <a:ext cx="114300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160488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12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129120"/>
            <a:ext cx="533160" cy="0"/>
          </a:xfrm>
          <a:prstGeom prst="line">
            <a:avLst/>
          </a:prstGeom>
          <a:ln w="7632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2900520"/>
            <a:ext cx="914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b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4160" y="990720"/>
            <a:ext cx="22640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ck before exit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3662280"/>
            <a:ext cx="533160" cy="0"/>
          </a:xfrm>
          <a:prstGeom prst="line">
            <a:avLst/>
          </a:prstGeom>
          <a:ln w="7632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433680"/>
            <a:ext cx="9144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esp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3346560"/>
            <a:ext cx="114300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old ebx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3427560"/>
            <a:ext cx="16002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-4(%ebp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nother Gratuitous Pictur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ypes of Bridg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pic>
        <p:nvPicPr>
          <p:cNvPr id="285" name="stepf13st" descr="Forth Rail Bridge"/>
          <p:cNvPicPr/>
          <p:nvPr/>
        </p:nvPicPr>
        <p:blipFill>
          <a:blip r:embed="rId1"/>
          <a:srcRect l="4941" t="2494" r="3709" b="3685"/>
          <a:stretch/>
        </p:blipFill>
        <p:spPr>
          <a:xfrm>
            <a:off x="5410080" y="1200240"/>
            <a:ext cx="2819520" cy="2144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410080" y="335268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Trus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(Forth Bridge, Scotland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pic>
        <p:nvPicPr>
          <p:cNvPr id="287" name="Golden%20Gate%20Br" descr=""/>
          <p:cNvPicPr/>
          <p:nvPr/>
        </p:nvPicPr>
        <p:blipFill>
          <a:blip r:embed="rId2"/>
          <a:srcRect l="2071" t="5389" r="2632" b="2638"/>
          <a:stretch/>
        </p:blipFill>
        <p:spPr>
          <a:xfrm>
            <a:off x="457200" y="1676520"/>
            <a:ext cx="3505320" cy="2600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57200" y="4343400"/>
            <a:ext cx="350532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uspension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(Golden Gate Bridge, California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pic>
        <p:nvPicPr>
          <p:cNvPr id="289" name="e-kobe2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895480" cy="1887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400800" y="4876920"/>
            <a:ext cx="22096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able-staye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(Higashi Kobe, Japan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PARC Programmer’s Mod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46204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7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70028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1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124308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93816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93816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1062720" y="2082240"/>
            <a:ext cx="380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365760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14/o6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291924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8/o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1062720" y="3301560"/>
            <a:ext cx="380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205740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23/l7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129528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16/l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5411160" y="1677600"/>
            <a:ext cx="380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373392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31/i7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251460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24/i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5410800" y="2896560"/>
            <a:ext cx="3812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99072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995400"/>
            <a:ext cx="68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200484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7 global 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1243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0 is always 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29718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 output 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 local 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48520" y="2743200"/>
            <a:ext cx="23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8 input 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12128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15/o7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368784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tack Poi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487692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PSW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34024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P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5797440"/>
            <a:ext cx="1295280" cy="463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P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83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Program Status Wor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53402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Program Cou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57974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ext Program Cou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37339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turn Addres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276720"/>
            <a:ext cx="1295280" cy="46332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30/i6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3276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Frame Pointe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SPARC Register Window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800600" y="5334120"/>
            <a:ext cx="1371600" cy="1055880"/>
            <a:chOff x="4800600" y="5334120"/>
            <a:chExt cx="1371600" cy="1055880"/>
          </a:xfrm>
        </p:grpSpPr>
        <p:sp>
          <p:nvSpPr>
            <p:cNvPr id="327" name=""/>
            <p:cNvSpPr/>
            <p:nvPr/>
          </p:nvSpPr>
          <p:spPr>
            <a:xfrm>
              <a:off x="4800600" y="548640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5334840" y="571608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33412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4/i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31/i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00600" y="4495680"/>
            <a:ext cx="1371600" cy="1055880"/>
            <a:chOff x="4800600" y="4495680"/>
            <a:chExt cx="1371600" cy="1055880"/>
          </a:xfrm>
        </p:grpSpPr>
        <p:sp>
          <p:nvSpPr>
            <p:cNvPr id="331" name=""/>
            <p:cNvSpPr/>
            <p:nvPr/>
          </p:nvSpPr>
          <p:spPr>
            <a:xfrm>
              <a:off x="4800600" y="464796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5334840" y="487764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49568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6/l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3/l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800600" y="3657600"/>
            <a:ext cx="1371600" cy="1055880"/>
            <a:chOff x="4800600" y="3657600"/>
            <a:chExt cx="1371600" cy="1055880"/>
          </a:xfrm>
        </p:grpSpPr>
        <p:sp>
          <p:nvSpPr>
            <p:cNvPr id="335" name=""/>
            <p:cNvSpPr/>
            <p:nvPr/>
          </p:nvSpPr>
          <p:spPr>
            <a:xfrm>
              <a:off x="4800600" y="380988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5334480" y="4039560"/>
              <a:ext cx="38124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29200" y="3657600"/>
              <a:ext cx="106704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8/o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5/o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172200" y="3657600"/>
            <a:ext cx="1371600" cy="1055880"/>
            <a:chOff x="6172200" y="3657600"/>
            <a:chExt cx="1371600" cy="1055880"/>
          </a:xfrm>
        </p:grpSpPr>
        <p:sp>
          <p:nvSpPr>
            <p:cNvPr id="339" name=""/>
            <p:cNvSpPr/>
            <p:nvPr/>
          </p:nvSpPr>
          <p:spPr>
            <a:xfrm>
              <a:off x="6172200" y="380988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6706440" y="403956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00800" y="365760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4/i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31/i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72200" y="2819520"/>
            <a:ext cx="1371600" cy="1055880"/>
            <a:chOff x="6172200" y="2819520"/>
            <a:chExt cx="1371600" cy="1055880"/>
          </a:xfrm>
        </p:grpSpPr>
        <p:sp>
          <p:nvSpPr>
            <p:cNvPr id="343" name=""/>
            <p:cNvSpPr/>
            <p:nvPr/>
          </p:nvSpPr>
          <p:spPr>
            <a:xfrm>
              <a:off x="6172200" y="297180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706440" y="320148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281952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6/l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3/l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72200" y="1981080"/>
            <a:ext cx="1371600" cy="1055880"/>
            <a:chOff x="6172200" y="1981080"/>
            <a:chExt cx="1371600" cy="1055880"/>
          </a:xfrm>
        </p:grpSpPr>
        <p:sp>
          <p:nvSpPr>
            <p:cNvPr id="347" name=""/>
            <p:cNvSpPr/>
            <p:nvPr/>
          </p:nvSpPr>
          <p:spPr>
            <a:xfrm>
              <a:off x="6172200" y="213336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6706080" y="2363040"/>
              <a:ext cx="38124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1981080"/>
              <a:ext cx="106704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8/o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5/o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43800" y="1981080"/>
            <a:ext cx="1371600" cy="1055880"/>
            <a:chOff x="7543800" y="1981080"/>
            <a:chExt cx="1371600" cy="1055880"/>
          </a:xfrm>
        </p:grpSpPr>
        <p:sp>
          <p:nvSpPr>
            <p:cNvPr id="351" name=""/>
            <p:cNvSpPr/>
            <p:nvPr/>
          </p:nvSpPr>
          <p:spPr>
            <a:xfrm>
              <a:off x="7543800" y="213336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8078040" y="236304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2400" y="198108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4/i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31/i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543800" y="1143000"/>
            <a:ext cx="1371600" cy="1055880"/>
            <a:chOff x="7543800" y="1143000"/>
            <a:chExt cx="1371600" cy="1055880"/>
          </a:xfrm>
        </p:grpSpPr>
        <p:sp>
          <p:nvSpPr>
            <p:cNvPr id="355" name=""/>
            <p:cNvSpPr/>
            <p:nvPr/>
          </p:nvSpPr>
          <p:spPr>
            <a:xfrm>
              <a:off x="7543800" y="129528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8078040" y="1524960"/>
              <a:ext cx="3808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2400" y="1143000"/>
              <a:ext cx="9144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6/l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23/l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543800" y="304920"/>
            <a:ext cx="1371600" cy="1055880"/>
            <a:chOff x="7543800" y="304920"/>
            <a:chExt cx="1371600" cy="1055880"/>
          </a:xfrm>
        </p:grpSpPr>
        <p:sp>
          <p:nvSpPr>
            <p:cNvPr id="359" name=""/>
            <p:cNvSpPr/>
            <p:nvPr/>
          </p:nvSpPr>
          <p:spPr>
            <a:xfrm>
              <a:off x="7543800" y="457200"/>
              <a:ext cx="1371600" cy="844560"/>
            </a:xfrm>
            <a:prstGeom prst="rect">
              <a:avLst/>
            </a:prstGeom>
            <a:noFill/>
            <a:ln w="25560">
              <a:solidFill>
                <a:srgbClr val="eff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8077680" y="686880"/>
              <a:ext cx="38124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72400" y="304920"/>
              <a:ext cx="106704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8/o0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ffffd"/>
                  </a:solidFill>
                  <a:latin typeface="Arial"/>
                </a:rPr>
                <a:t>r15/o7</a:t>
              </a:r>
              <a:endParaRPr b="0" lang="en-US" sz="2200" spc="-1" strike="noStrike">
                <a:solidFill>
                  <a:srgbClr val="effffd"/>
                </a:solidFill>
                <a:latin typeface="Times New Roman"/>
              </a:endParaRPr>
            </a:p>
          </p:txBody>
        </p:sp>
      </p:grp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487980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output registers of the calling procedure become the inputs to the called procedur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global registers remain unchange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The local registers are not visible across procedur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SPARC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file   "euclid.c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c2_compiled.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al .rem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section        ".text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align 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al gc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ype    gcd,#function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roc   0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d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save    %sp, -112, %s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       .LL3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1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51200" y="1219320"/>
            <a:ext cx="4347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oilerpla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ssembler directives start with 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200400" y="1371600"/>
            <a:ext cx="1295280" cy="763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9760" y="1981080"/>
            <a:ext cx="38656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his will be executable code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895120" y="2133720"/>
            <a:ext cx="167652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048120"/>
            <a:ext cx="39448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cd is a linker-visible label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2514600" y="2971800"/>
            <a:ext cx="2362320" cy="763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371240" y="3352680"/>
            <a:ext cx="350532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Pipelining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447920"/>
            <a:ext cx="1219320" cy="380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1447920"/>
            <a:ext cx="1218960" cy="38088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1447920"/>
            <a:ext cx="1219320" cy="38088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1905120"/>
            <a:ext cx="1218960" cy="380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86600" y="1905120"/>
            <a:ext cx="1219320" cy="38088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666880"/>
            <a:ext cx="121932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2666880"/>
            <a:ext cx="121896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26668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2666880"/>
            <a:ext cx="121932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05120" y="3124080"/>
            <a:ext cx="121896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3124080"/>
            <a:ext cx="121932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95680" y="31240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1320" y="3124080"/>
            <a:ext cx="121896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495680"/>
            <a:ext cx="121932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4495680"/>
            <a:ext cx="121896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44956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495680"/>
            <a:ext cx="121932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4952880"/>
            <a:ext cx="121932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4952880"/>
            <a:ext cx="121896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49528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4952880"/>
            <a:ext cx="121932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5410080"/>
            <a:ext cx="121896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5410080"/>
            <a:ext cx="121932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4100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5410080"/>
            <a:ext cx="121896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5867280"/>
            <a:ext cx="1218960" cy="38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etc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5867280"/>
            <a:ext cx="1219320" cy="3812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Arial"/>
              </a:rPr>
              <a:t>Decod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5867280"/>
            <a:ext cx="1219320" cy="38124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1320" y="5867280"/>
            <a:ext cx="1218960" cy="381240"/>
          </a:xfrm>
          <a:prstGeom prst="rect">
            <a:avLst/>
          </a:prstGeom>
          <a:noFill/>
          <a:ln w="57240">
            <a:solidFill>
              <a:srgbClr val="2cf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fff3"/>
                </a:solidFill>
                <a:latin typeface="Arial"/>
              </a:rPr>
              <a:t>Wri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990720"/>
            <a:ext cx="41148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Non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2209680"/>
            <a:ext cx="41148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Pipeline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4038480"/>
            <a:ext cx="41148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uperscalar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1880" y="1905120"/>
            <a:ext cx="1219320" cy="380880"/>
          </a:xfrm>
          <a:prstGeom prst="rect">
            <a:avLst/>
          </a:prstGeom>
          <a:noFill/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Execute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SPARC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file   "euclid.c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c2_compiled.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al .rem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section        ".text"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align 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global gcd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type    gcd,#function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proc   04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gcd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save    %sp, -112, %sp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       .LL3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1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16002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dvance the register windows.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llocate space on the stack.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580920" y="2362320"/>
            <a:ext cx="1295640" cy="1600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047760" y="3733920"/>
            <a:ext cx="1904760" cy="1066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3505320"/>
            <a:ext cx="4267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ove argument 0 (m) into %o1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971800" y="4495680"/>
            <a:ext cx="182880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4191120"/>
            <a:ext cx="4267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ranch to .LL3 after executing the next instruction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5105520"/>
            <a:ext cx="56386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he SPARC doesn’t have a mov instruction: the assembler replaces this with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r %g0, %i1, %i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2971800" y="5486400"/>
            <a:ext cx="457200" cy="763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SPARC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       .LL3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1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L5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o0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L3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o1, %o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all    .rem, 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mp     %o0, 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ne     .LL5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stor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580920" y="2895480"/>
            <a:ext cx="129564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52880" y="2664000"/>
            <a:ext cx="358164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mpute the remainder of m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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n (result in %o0)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all is also delayed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434340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gister assignments: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o1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o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i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0481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114300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while ((r = m % n) != 0) {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m =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n = r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return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Euclid’s Algorithm on the SPARC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       .LL3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1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L5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o0, %i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.LL3: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o1, %o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all    .rem, 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cmp     %o0, 0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bne     .LL5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mov     %i0, %o1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effffd"/>
                </a:solidFill>
                <a:latin typeface="Arial"/>
              </a:rPr>
              <a:t>restore</a:t>
            </a:r>
            <a:endParaRPr b="1" lang="en-US" sz="20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144792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gister assignments: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o1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o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%i0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3429000"/>
            <a:ext cx="3429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n” (executed even if loop terminates)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048120" y="3657600"/>
            <a:ext cx="2590560" cy="1066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4200" y="2971800"/>
            <a:ext cx="933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 = r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3048120" y="2590560"/>
            <a:ext cx="266688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5334120"/>
            <a:ext cx="28195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verse of save: return to previous register window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1981080" y="5334120"/>
            <a:ext cx="365760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419112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ranch back to caller”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PARC has no ret: this i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jmp %i7 + 8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523880" y="4572000"/>
            <a:ext cx="41148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99072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while ((r = m % n) != 0) {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m =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n = r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fffd"/>
                </a:solidFill>
                <a:latin typeface="Lucida Console"/>
              </a:rPr>
              <a:t>return n;</a:t>
            </a:r>
            <a:endParaRPr b="0" lang="en-US" sz="1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ssembly Languag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" y="1137960"/>
            <a:ext cx="564192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ne step up from machine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riginally a more user-friendly way to program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Now mostly a compiler target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del of computation: stored program comput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pic>
        <p:nvPicPr>
          <p:cNvPr id="112" name="eniac.small" descr=""/>
          <p:cNvPicPr/>
          <p:nvPr/>
        </p:nvPicPr>
        <p:blipFill>
          <a:blip r:embed="rId1"/>
          <a:stretch/>
        </p:blipFill>
        <p:spPr>
          <a:xfrm>
            <a:off x="6095880" y="914400"/>
            <a:ext cx="2789280" cy="21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5880" y="3161880"/>
            <a:ext cx="27432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ENIAC, 1946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fd"/>
                </a:solidFill>
                <a:latin typeface="Arial"/>
              </a:rPr>
              <a:t>17k tubes, 5kHz</a:t>
            </a:r>
            <a:endParaRPr b="0" lang="en-US" sz="16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ssembly Language Model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057400"/>
            <a:ext cx="1676160" cy="365760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dd r1,r2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ub r2,r3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cmp r3,r4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bne I1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sub r4,1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I1: jmp I3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124080"/>
            <a:ext cx="1143000" cy="152424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ALU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352680"/>
            <a:ext cx="1067040" cy="60984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PC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666880"/>
            <a:ext cx="1295280" cy="266724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Registers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990720"/>
            <a:ext cx="1295280" cy="5638680"/>
          </a:xfrm>
          <a:prstGeom prst="rect">
            <a:avLst/>
          </a:prstGeom>
          <a:noFill/>
          <a:ln w="25560">
            <a:solidFill>
              <a:srgbClr val="eff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ffd"/>
                </a:solidFill>
                <a:latin typeface="Arial"/>
              </a:rPr>
              <a:t>Memory</a:t>
            </a:r>
            <a:endParaRPr b="0" lang="en-US" sz="22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343400"/>
            <a:ext cx="533520" cy="0"/>
          </a:xfrm>
          <a:prstGeom prst="line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3886200"/>
            <a:ext cx="533520" cy="0"/>
          </a:xfrm>
          <a:prstGeom prst="line">
            <a:avLst/>
          </a:prstGeom>
          <a:ln w="25560">
            <a:solidFill>
              <a:srgbClr val="eff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581280"/>
            <a:ext cx="533520" cy="0"/>
          </a:xfrm>
          <a:prstGeom prst="line">
            <a:avLst/>
          </a:prstGeom>
          <a:ln w="25560">
            <a:solidFill>
              <a:srgbClr val="eff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267080"/>
            <a:ext cx="533520" cy="0"/>
          </a:xfrm>
          <a:prstGeom prst="line">
            <a:avLst/>
          </a:prstGeom>
          <a:ln w="25560">
            <a:solidFill>
              <a:srgbClr val="eff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809880"/>
            <a:ext cx="533520" cy="0"/>
          </a:xfrm>
          <a:prstGeom prst="line">
            <a:avLst/>
          </a:prstGeom>
          <a:ln w="25560">
            <a:solidFill>
              <a:srgbClr val="eff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Assembly Language Instruction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uilt from two piec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2743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R1, R3, 3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505320"/>
            <a:ext cx="27432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code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What to do with the data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(ALU operation)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497400"/>
            <a:ext cx="236196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rands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ffd"/>
                </a:solidFill>
                <a:latin typeface="Arial"/>
              </a:rPr>
              <a:t>Where to get data and put the results</a:t>
            </a:r>
            <a:endParaRPr b="0" lang="en-US" sz="28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7400" y="2361960"/>
            <a:ext cx="4572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62520" y="2438280"/>
            <a:ext cx="129528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ff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ypes of Opcod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rithmetic, logical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dd, sub, mul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and, or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Cm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emory load/stor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ld, st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ntrol transf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jmp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bn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mplex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movs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Operand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" y="1137960"/>
            <a:ext cx="693720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ach operand taken from a particula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ressing mode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gister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dd r1, r2, r3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mmediate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dd r1, r2, 10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Indirect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v r1, (r2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Offset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ov r1, 10(r3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PC Relative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beq 100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eflect processor data pathway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Types of Assembly Languages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ssembly language closely tied to processor architectur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At least four main types: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ISC: Complex Instruction-Set Comput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RISC: Reduced Instruction-Set Compute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SP: Digital Signal Processor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VLIW: Very Long Instruction Word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364"/>
            </a:gs>
            <a:gs pos="100000">
              <a:srgbClr val="001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421480" cy="89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fff3"/>
                </a:solidFill>
                <a:latin typeface="Arial"/>
              </a:rPr>
              <a:t>CISC Assembly Language</a:t>
            </a:r>
            <a:endParaRPr b="1" lang="en-US" sz="3800" spc="-1" strike="noStrike">
              <a:solidFill>
                <a:srgbClr val="2cfff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640" y="1137960"/>
            <a:ext cx="8342280" cy="51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Developed when people wrote assembly languag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Complicated, often specialized instructions with many effect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Examples from x86 architecture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String mov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lvl="1" marL="744480" indent="-244440">
              <a:lnSpc>
                <a:spcPct val="88000"/>
              </a:lnSpc>
              <a:spcBef>
                <a:spcPts val="689"/>
              </a:spcBef>
              <a:buClr>
                <a:srgbClr val="99ff99"/>
              </a:buClr>
              <a:buSzPct val="6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ffd"/>
                </a:solidFill>
                <a:latin typeface="Arial"/>
              </a:rPr>
              <a:t>Procedure enter, leave</a:t>
            </a:r>
            <a:endParaRPr b="1" lang="en-US" sz="22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Many, complicated addressing modes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ffd"/>
                </a:solidFill>
                <a:latin typeface="Arial"/>
              </a:rPr>
              <a:t>So complicated, often executed by a little program (microcode)</a:t>
            </a:r>
            <a:endParaRPr b="1" lang="en-US" sz="2400" spc="-1" strike="noStrike">
              <a:solidFill>
                <a:srgbClr val="efff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22:38:37Z</dcterms:created>
  <dc:creator>sedwards</dc:creator>
  <dc:description/>
  <dc:language>en-US</dc:language>
  <cp:lastModifiedBy>sedwards</cp:lastModifiedBy>
  <dcterms:modified xsi:type="dcterms:W3CDTF">2001-09-14T20:35:55Z</dcterms:modified>
  <cp:revision>62</cp:revision>
  <dc:subject/>
  <dc:title>Assembly Languages I</dc:title>
</cp:coreProperties>
</file>