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7278688" cy="95646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5401-E3E4-4AA1-8914-EC12CDA48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045F-0939-47DB-84B8-7CEB5591B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6FC0-0706-427A-9615-706650FB3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37BE-4D34-4F9F-9F66-F6BC12EF4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926F-4703-404B-8D93-C61F1C6DB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6D9A-6D7B-4C85-9BC2-0CD023AAA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69CD-A317-44B0-9F52-B4651F99D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3B68-7C8C-4C43-9E4B-54199BB57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6A97-A925-4331-96A8-30E431F8A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9D8E-5887-497E-8E6B-DAF4A59F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9A1E-4068-445D-BFF3-CC1B15CA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F101-0527-4A69-8BBB-0725CD041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cc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FA7FA-8780-47A4-BF60-224F08AA55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76520"/>
            <a:ext cx="9144000" cy="75960"/>
          </a:xfrm>
          <a:prstGeom prst="rect">
            <a:avLst/>
          </a:prstGeom>
          <a:gradFill rotWithShape="0">
            <a:gsLst>
              <a:gs pos="0">
                <a:srgbClr val="c3e8ff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Principios de la Ingeniería de Softwar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Ejempl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número de usuario es único en el sist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33cc33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u, u’ </a:t>
            </a:r>
            <a:r>
              <a:rPr b="0" lang="es-ES_tradnl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 USUARIOS </a:t>
            </a:r>
            <a:r>
              <a:rPr b="0" lang="es-ES_tradnl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000"/>
            </a:b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u.número = u’.número </a:t>
            </a:r>
            <a:r>
              <a:rPr b="0" lang="es-ES_tradnl" sz="3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 u = u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33cc33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u, u’ </a:t>
            </a:r>
            <a:r>
              <a:rPr b="0" lang="es-ES_tradnl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 USUARIOS </a:t>
            </a:r>
            <a:r>
              <a:rPr b="0" lang="es-ES_tradnl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000"/>
            </a:b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u.número = u’.númer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75BA-3A5F-4F3D-ABEE-C6D95C3EC52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Cualidades del Softwar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3124080"/>
            <a:ext cx="3733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ocumentación rigurosa y/o for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52880" y="1980720"/>
            <a:ext cx="38102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f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erific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anten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us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r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pren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terope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1828800"/>
            <a:ext cx="304920" cy="3657600"/>
          </a:xfrm>
          <a:custGeom>
            <a:avLst/>
            <a:gdLst>
              <a:gd name="textAreaLeft" fmla="*/ 194760 w 304920"/>
              <a:gd name="textAreaRight" fmla="*/ 305280 w 304920"/>
              <a:gd name="textAreaTop" fmla="*/ 95040 h 3657600"/>
              <a:gd name="textAreaBottom" fmla="*/ 3562560 h 3657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51560" y="5638680"/>
            <a:ext cx="77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ualidades del producto y del proceso de desarrol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8EFF-09BE-4123-B253-B83FBCA493E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2. Separación de Interese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vide et Impera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parar el problema en sus diferentes aspectos y abordarlos separad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895480" y="3429000"/>
          <a:ext cx="4475160" cy="2595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95480" y="3429000"/>
                    <a:ext cx="4475160" cy="25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18B9-AB1B-42BE-83FA-4BE7D06D686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057400" y="5638680"/>
            <a:ext cx="54100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t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suntos económicos y financier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Distintos enfoque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un producto de softw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uncionalidad ofrecid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fiabilidad esperad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ficiencia en el uso del tiempo y el espaci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pendencias del ambien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terfaces del usua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7960" y="190512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el proceso de desarrol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mbiente de desarroll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ructura y organización del equipo de trabaj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gend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cedimientos de control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rategias de diseñ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ecanismos de recuperación de err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2CC7-5ABF-4DF9-9E3A-4F51D6B0FCF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Abordar los Distintos Enfoque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lgunos aspectos no pueden decidirse en forma completamente independi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inero disponibl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mbiente de desarroll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gen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943600" y="2057400"/>
            <a:ext cx="1066680" cy="106668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2133720"/>
            <a:ext cx="990360" cy="1066680"/>
          </a:xfrm>
          <a:prstGeom prst="ellipse">
            <a:avLst/>
          </a:prstGeom>
          <a:solidFill>
            <a:srgbClr val="3333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67480" y="2895480"/>
            <a:ext cx="990720" cy="106704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1905120"/>
            <a:ext cx="990720" cy="1066680"/>
          </a:xfrm>
          <a:prstGeom prst="ellipse">
            <a:avLst/>
          </a:prstGeom>
          <a:solidFill>
            <a:srgbClr val="00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72200" y="4495680"/>
            <a:ext cx="990720" cy="1067040"/>
          </a:xfrm>
          <a:prstGeom prst="ellipse">
            <a:avLst/>
          </a:prstGeom>
          <a:solidFill>
            <a:srgbClr val="b2b2b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934320" y="4495680"/>
            <a:ext cx="990360" cy="1067040"/>
          </a:xfrm>
          <a:prstGeom prst="ellipse">
            <a:avLst/>
          </a:pr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1C64-5B01-4EB1-8423-93D94E26719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Separación de Interese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iemp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rganización de las actividades en el tiemp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ase del ciclo de vida del softwar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cuencia de activida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ualida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dicarse a desarrollar distintas cualidades por separad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j.: funcionalidad y eficien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isio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lujo de datos y flujo de control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terfaces del usuario y diseño de la base de da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finamiento del sistema por partes dependiendo del tamañ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dular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6F98-DE19-4312-92BA-6A80BF38D15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Separación y Optimalidad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separación del problema completo en pequeñas partes sugiere que es posible no considerar una solución óptima glob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general, la complejidad del problema completo nos impide resolver bien los problemas parciales y también el problema glob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66680" y="5089680"/>
            <a:ext cx="7543800" cy="761760"/>
          </a:xfrm>
          <a:prstGeom prst="rightArrow">
            <a:avLst>
              <a:gd name="adj1" fmla="val 46667"/>
              <a:gd name="adj2" fmla="val 155057"/>
            </a:avLst>
          </a:prstGeom>
          <a:gradFill rotWithShape="0">
            <a:gsLst>
              <a:gs pos="0">
                <a:srgbClr val="cc3300"/>
              </a:gs>
              <a:gs pos="100000">
                <a:srgbClr val="ffcc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45520" y="4657680"/>
            <a:ext cx="18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pa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67760" y="5772240"/>
            <a:ext cx="160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impli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935760" y="470700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935040" y="5924520"/>
            <a:ext cx="170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mplej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3679-3AC9-4CA0-95F8-2FB3501DBC9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Consecuencia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separación de intereses determina la división de las tareas posiblemente entre personas con diferentes habilida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ambién las necesidades de personal en las distintas etapas de desarrollo del software son difere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ntidad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lific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C049-0759-4338-99AE-DC15BBE7D06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3. Modularidad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 sistema complejo puede dividirse en partes llamadas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módulo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 sistema dividido en módulos es modu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modularidad es importante en casi todos los productos y procesos de ingenierí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andar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utiliz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B2E4-5129-4835-ACA2-711EC6A192C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Objetivos de la Modularidad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composi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scomponer un sistema en grandes bloqu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plicar la descomposición recursivamente a bloques complej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posi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sando varios elementos (módulos) básicos, se construye un sistema más complej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reutilización de módulos de software beneficia todo el proceso de desarrol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pren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 más fácil localizar cambios en un sistema modula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ambién es más fácil comprender módulos pequeñ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C2E1-50A5-470A-810F-2026A6CCBEA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Motivación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Cómo se logra construir un software de calida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Existe algún principio o práctica general que me asegure que el producto de software creado tendrá ciertas cualidad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22160" y="4648320"/>
            <a:ext cx="137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ahoma"/>
              </a:rPr>
              <a:t>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429160" y="4648320"/>
            <a:ext cx="15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ahoma"/>
              </a:rPr>
              <a:t>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6200000">
            <a:off x="4474080" y="3758040"/>
            <a:ext cx="914400" cy="3760920"/>
          </a:xfrm>
          <a:custGeom>
            <a:avLst/>
            <a:gdLst>
              <a:gd name="textAreaLeft" fmla="*/ 122400 w 914400"/>
              <a:gd name="textAreaRight" fmla="*/ 792000 w 914400"/>
              <a:gd name="textAreaTop" fmla="*/ 723600 h 3760920"/>
              <a:gd name="textAreaBottom" fmla="*/ 2511360 h 376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12" stAng="-5400000" swAng="-5400000"/>
                <a:lnTo>
                  <a:pt x="0" y="10267"/>
                </a:lnTo>
                <a:arcTo wR="21600" hR="8312" stAng="10800000" swAng="-3020857"/>
                <a:lnTo>
                  <a:pt x="15037" y="21207"/>
                </a:lnTo>
                <a:lnTo>
                  <a:pt x="21600" y="17601"/>
                </a:lnTo>
                <a:lnTo>
                  <a:pt x="15037" y="13208"/>
                </a:lnTo>
                <a:lnTo>
                  <a:pt x="15037" y="16230"/>
                </a:lnTo>
                <a:arcTo wR="21600" hR="8312" stAng="7779143" swAng="2864304"/>
                <a:lnTo>
                  <a:pt x="150" y="9289"/>
                </a:lnTo>
                <a:arcTo wR="21600" hR="8312" stAng="-10643447" swAng="5243447"/>
                <a:close/>
              </a:path>
              <a:path fill="darkenLess" w="21600" h="21600">
                <a:moveTo>
                  <a:pt x="21600" y="0"/>
                </a:moveTo>
                <a:arcTo wR="21600" hR="8312" stAng="-5400000" swAng="-5400000"/>
                <a:lnTo>
                  <a:pt x="0" y="8312"/>
                </a:lnTo>
                <a:arcTo wR="21600" hR="8312" stAng="10800000" swAng="-156553"/>
                <a:lnTo>
                  <a:pt x="150" y="9289"/>
                </a:lnTo>
                <a:arcTo wR="21600" hR="8312" stAng="-10643447" swAng="524344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 flipV="1" rot="16200000">
            <a:off x="4014000" y="2310840"/>
            <a:ext cx="914400" cy="3760560"/>
          </a:xfrm>
          <a:custGeom>
            <a:avLst/>
            <a:gdLst>
              <a:gd name="textAreaLeft" fmla="*/ 122400 w 914400"/>
              <a:gd name="textAreaRight" fmla="*/ 792000 w 914400"/>
              <a:gd name="textAreaTop" fmla="*/ 723240 h 3760560"/>
              <a:gd name="textAreaBottom" fmla="*/ 2511000 h 376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12" stAng="-5400000" swAng="-5400000"/>
                <a:lnTo>
                  <a:pt x="0" y="10267"/>
                </a:lnTo>
                <a:arcTo wR="21600" hR="8312" stAng="10800000" swAng="-3020857"/>
                <a:lnTo>
                  <a:pt x="15037" y="21207"/>
                </a:lnTo>
                <a:lnTo>
                  <a:pt x="21600" y="17601"/>
                </a:lnTo>
                <a:lnTo>
                  <a:pt x="15037" y="13208"/>
                </a:lnTo>
                <a:lnTo>
                  <a:pt x="15037" y="16230"/>
                </a:lnTo>
                <a:arcTo wR="21600" hR="8312" stAng="7779143" swAng="2864304"/>
                <a:lnTo>
                  <a:pt x="150" y="9289"/>
                </a:lnTo>
                <a:arcTo wR="21600" hR="8312" stAng="-10643447" swAng="5243447"/>
                <a:close/>
              </a:path>
              <a:path fill="darkenLess" w="21600" h="21600">
                <a:moveTo>
                  <a:pt x="21600" y="0"/>
                </a:moveTo>
                <a:arcTo wR="21600" hR="8312" stAng="-5400000" swAng="-5400000"/>
                <a:lnTo>
                  <a:pt x="0" y="8312"/>
                </a:lnTo>
                <a:arcTo wR="21600" hR="8312" stAng="10800000" swAng="-156553"/>
                <a:lnTo>
                  <a:pt x="150" y="9289"/>
                </a:lnTo>
                <a:arcTo wR="21600" hR="8312" stAng="-10643447" swAng="524344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08A9-EEBE-4FEA-BA38-B663F892FC5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Cohesión y Acoplamient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lta Cohesión (inter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elementos comprendidos dentro de un módulo están altamente relacionado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operan para lograr un mismo fi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 están juntos al az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ajo Acoplamiento (extern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relación e interacción entre los distintos módulos debe ser simpl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dos módulos dependen altamente uno del otro, es probable que los cambios en un módulo afecten al ot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CD73-C84E-4605-817A-91F02A2147F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Dos Fases de Modularidad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2282760"/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ase 1: Nivel de Módu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2282760"/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detalles de cada módulo se tratan en forma independi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2282760"/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ase 2: Nivel del Sist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2282760"/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interacción entre los módulos se trata independientemente de los detalles intern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2282760"/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2282760"/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ase 1 - Fase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0"/>
                <a:tab algn="l" pos="2282760"/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ottom -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2282760"/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ase 2 - Fase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0"/>
                <a:tab algn="l" pos="2282760"/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op - d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2E86-1729-44D7-9822-29A5E5B36CA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Buena Modularización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47920" y="2971800"/>
            <a:ext cx="1066680" cy="990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05320" y="1676520"/>
            <a:ext cx="1066680" cy="990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38680" y="2666880"/>
            <a:ext cx="1067040" cy="990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71600" y="5181480"/>
            <a:ext cx="1066680" cy="990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71800" y="4495680"/>
            <a:ext cx="1066680" cy="990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543800" y="2133720"/>
            <a:ext cx="1066680" cy="990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315200" y="4343400"/>
            <a:ext cx="1066680" cy="990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4" name=""/>
          <p:cNvCxnSpPr>
            <a:stCxn id="127" idx="4"/>
            <a:endCxn id="130" idx="0"/>
          </p:cNvCxnSpPr>
          <p:nvPr/>
        </p:nvCxnSpPr>
        <p:spPr>
          <a:xfrm flipH="1">
            <a:off x="1904400" y="3962520"/>
            <a:ext cx="76680" cy="1219680"/>
          </a:xfrm>
          <a:prstGeom prst="straightConnector1">
            <a:avLst/>
          </a:prstGeom>
          <a:ln w="28440">
            <a:solidFill>
              <a:srgbClr val="a50021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5" name=""/>
          <p:cNvCxnSpPr>
            <a:stCxn id="127" idx="7"/>
            <a:endCxn id="128" idx="3"/>
          </p:cNvCxnSpPr>
          <p:nvPr/>
        </p:nvCxnSpPr>
        <p:spPr>
          <a:xfrm flipV="1">
            <a:off x="2359080" y="2521800"/>
            <a:ext cx="1302480" cy="594360"/>
          </a:xfrm>
          <a:prstGeom prst="straightConnector1">
            <a:avLst/>
          </a:prstGeom>
          <a:ln w="28440">
            <a:solidFill>
              <a:srgbClr val="a50021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6" name=""/>
          <p:cNvCxnSpPr>
            <a:stCxn id="127" idx="5"/>
            <a:endCxn id="131" idx="1"/>
          </p:cNvCxnSpPr>
          <p:nvPr/>
        </p:nvCxnSpPr>
        <p:spPr>
          <a:xfrm>
            <a:off x="2359080" y="3817440"/>
            <a:ext cx="768960" cy="823320"/>
          </a:xfrm>
          <a:prstGeom prst="straightConnector1">
            <a:avLst/>
          </a:prstGeom>
          <a:ln w="28440">
            <a:solidFill>
              <a:srgbClr val="a50021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7" name=""/>
          <p:cNvCxnSpPr>
            <a:stCxn id="127" idx="6"/>
            <a:endCxn id="129" idx="2"/>
          </p:cNvCxnSpPr>
          <p:nvPr/>
        </p:nvCxnSpPr>
        <p:spPr>
          <a:xfrm flipV="1">
            <a:off x="2514600" y="3161520"/>
            <a:ext cx="3124800" cy="305640"/>
          </a:xfrm>
          <a:prstGeom prst="straightConnector1">
            <a:avLst/>
          </a:prstGeom>
          <a:ln w="28440">
            <a:solidFill>
              <a:srgbClr val="a50021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8" name=""/>
          <p:cNvCxnSpPr>
            <a:stCxn id="129" idx="7"/>
            <a:endCxn id="132" idx="2"/>
          </p:cNvCxnSpPr>
          <p:nvPr/>
        </p:nvCxnSpPr>
        <p:spPr>
          <a:xfrm flipV="1">
            <a:off x="6550200" y="2628360"/>
            <a:ext cx="993960" cy="183240"/>
          </a:xfrm>
          <a:prstGeom prst="straightConnector1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139" name=""/>
          <p:cNvCxnSpPr>
            <a:stCxn id="129" idx="5"/>
            <a:endCxn id="133" idx="1"/>
          </p:cNvCxnSpPr>
          <p:nvPr/>
        </p:nvCxnSpPr>
        <p:spPr>
          <a:xfrm>
            <a:off x="6549840" y="3512880"/>
            <a:ext cx="921240" cy="975240"/>
          </a:xfrm>
          <a:prstGeom prst="straightConnector1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517E-7177-4DB4-9102-BA931E9C1A8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4. Abstracción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stinguir los elementos esenciales e ignorar los detal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una forma de separación de intereses (esencia y detall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abstracción no es úni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pende del softwar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l usuario de la abstrac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6324480" y="1676520"/>
            <a:ext cx="2209680" cy="3809880"/>
            <a:chOff x="6324480" y="1676520"/>
            <a:chExt cx="2209680" cy="3809880"/>
          </a:xfrm>
        </p:grpSpPr>
        <p:sp>
          <p:nvSpPr>
            <p:cNvPr id="143" name=""/>
            <p:cNvSpPr/>
            <p:nvPr/>
          </p:nvSpPr>
          <p:spPr>
            <a:xfrm>
              <a:off x="6553080" y="3886200"/>
              <a:ext cx="609480" cy="68580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619760" y="3657600"/>
              <a:ext cx="609840" cy="6858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162560" y="4800600"/>
              <a:ext cx="609840" cy="685800"/>
            </a:xfrm>
            <a:prstGeom prst="rect">
              <a:avLst/>
            </a:prstGeom>
            <a:solidFill>
              <a:srgbClr val="00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24680" y="2743200"/>
              <a:ext cx="609480" cy="685800"/>
            </a:xfrm>
            <a:prstGeom prst="rect">
              <a:avLst/>
            </a:prstGeom>
            <a:solidFill>
              <a:srgbClr val="a50021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324480" y="2743200"/>
              <a:ext cx="609480" cy="68580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162560" y="1676520"/>
              <a:ext cx="609840" cy="685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6629400" y="2362320"/>
              <a:ext cx="83808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6857640" y="2362320"/>
              <a:ext cx="609480" cy="1523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467480" y="2362320"/>
              <a:ext cx="0" cy="2438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467480" y="2362320"/>
              <a:ext cx="4572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67480" y="2362320"/>
              <a:ext cx="76212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107E-9B6E-4CDC-90A9-EFD27E98DB3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Abstracciones del Softwar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20800" y="2255760"/>
            <a:ext cx="2111760" cy="642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4120" y="4110120"/>
            <a:ext cx="177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Usuario Final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uncionalidad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ecanismos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terac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640960" y="4110120"/>
            <a:ext cx="1626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Diseñado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uncionalida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lgoritmos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tructuras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at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75600" y="4110120"/>
            <a:ext cx="195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Programado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lgoritmo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tructuras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atos, lengua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 program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61240" y="4110120"/>
            <a:ext cx="1637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Mantenedo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rquitectura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uncionalida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enguaje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gram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1295280" y="2971440"/>
            <a:ext cx="2362320" cy="1066680"/>
          </a:xfrm>
          <a:prstGeom prst="line">
            <a:avLst/>
          </a:prstGeom>
          <a:ln w="38160">
            <a:solidFill>
              <a:srgbClr val="00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352680" y="2971440"/>
            <a:ext cx="762120" cy="1143000"/>
          </a:xfrm>
          <a:prstGeom prst="line">
            <a:avLst/>
          </a:prstGeom>
          <a:ln w="38160">
            <a:solidFill>
              <a:srgbClr val="00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4876920" y="2971440"/>
            <a:ext cx="457200" cy="1143000"/>
          </a:xfrm>
          <a:prstGeom prst="line">
            <a:avLst/>
          </a:prstGeom>
          <a:ln w="38160">
            <a:solidFill>
              <a:srgbClr val="00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 flipV="1">
            <a:off x="5409720" y="2971440"/>
            <a:ext cx="2210040" cy="1143000"/>
          </a:xfrm>
          <a:prstGeom prst="line">
            <a:avLst/>
          </a:prstGeom>
          <a:ln w="38160">
            <a:solidFill>
              <a:srgbClr val="00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E132-5995-4B9C-AA2D-1A11CF94ACB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Abstracción en Otras Área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rquitec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plano de una casa describ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orientació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amaño relativo de las habitacion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istribució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ero no incluy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teriales de construcció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lores de las pare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ircuitos eléctr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cluy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sistencias, capacitores, etc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cuacion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 incluy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sistencia de los conect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58EC-BAE1-4F50-8846-81B4AC69AF1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Modelo del Softwar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457200" y="1752480"/>
            <a:ext cx="4267080" cy="2590920"/>
            <a:chOff x="457200" y="1752480"/>
            <a:chExt cx="4267080" cy="2590920"/>
          </a:xfrm>
        </p:grpSpPr>
        <p:sp>
          <p:nvSpPr>
            <p:cNvPr id="169" name=""/>
            <p:cNvSpPr/>
            <p:nvPr/>
          </p:nvSpPr>
          <p:spPr>
            <a:xfrm>
              <a:off x="457200" y="1752480"/>
              <a:ext cx="4267080" cy="2590920"/>
            </a:xfrm>
            <a:prstGeom prst="cloudCallout">
              <a:avLst>
                <a:gd name="adj1" fmla="val -21351"/>
                <a:gd name="adj2" fmla="val 31555"/>
              </a:avLst>
            </a:prstGeom>
            <a:solidFill>
              <a:srgbClr val="cc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436760" y="2478240"/>
              <a:ext cx="231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Requerimient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5867280" y="4267080"/>
            <a:ext cx="2133720" cy="2057400"/>
            <a:chOff x="5867280" y="4267080"/>
            <a:chExt cx="2133720" cy="2057400"/>
          </a:xfrm>
        </p:grpSpPr>
        <p:sp>
          <p:nvSpPr>
            <p:cNvPr id="172" name=""/>
            <p:cNvSpPr/>
            <p:nvPr/>
          </p:nvSpPr>
          <p:spPr>
            <a:xfrm>
              <a:off x="5867280" y="4267080"/>
              <a:ext cx="2133720" cy="2057400"/>
            </a:xfrm>
            <a:prstGeom prst="ellipse">
              <a:avLst/>
            </a:prstGeom>
            <a:solidFill>
              <a:srgbClr val="cc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126840" y="4875120"/>
              <a:ext cx="1669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Modelo d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Softwa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2525400" y="2715840"/>
            <a:ext cx="4017240" cy="2505240"/>
            <a:chOff x="2525400" y="2715840"/>
            <a:chExt cx="4017240" cy="2505240"/>
          </a:xfrm>
        </p:grpSpPr>
        <p:sp>
          <p:nvSpPr>
            <p:cNvPr id="175" name=""/>
            <p:cNvSpPr/>
            <p:nvPr/>
          </p:nvSpPr>
          <p:spPr>
            <a:xfrm rot="17788800">
              <a:off x="4159080" y="1910880"/>
              <a:ext cx="749160" cy="4114800"/>
            </a:xfrm>
            <a:prstGeom prst="downArrow">
              <a:avLst>
                <a:gd name="adj1" fmla="val 50000"/>
                <a:gd name="adj2" fmla="val 137314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651200">
              <a:off x="3270960" y="3531960"/>
              <a:ext cx="177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Abstrac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5A3D-617E-465F-A49F-DF225ED8C5A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El Software es una Abstracción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828800" y="5486400"/>
            <a:ext cx="5486400" cy="533520"/>
          </a:xfrm>
          <a:prstGeom prst="rect">
            <a:avLst/>
          </a:prstGeom>
          <a:solidFill>
            <a:srgbClr val="f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828800" y="4800600"/>
            <a:ext cx="5486400" cy="533520"/>
          </a:xfrm>
          <a:prstGeom prst="rect">
            <a:avLst/>
          </a:prstGeom>
          <a:solidFill>
            <a:srgbClr val="d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ENGUAJE DE MÁQU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828800" y="4114800"/>
            <a:ext cx="5486400" cy="533520"/>
          </a:xfrm>
          <a:prstGeom prst="rect">
            <a:avLst/>
          </a:prstGeom>
          <a:solidFill>
            <a:srgbClr val="c8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SSEMB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828800" y="3429000"/>
            <a:ext cx="5486400" cy="533520"/>
          </a:xfrm>
          <a:prstGeom prst="rect">
            <a:avLst/>
          </a:prstGeom>
          <a:solidFill>
            <a:srgbClr val="b4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ENGUAJE DE ALTO NI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828800" y="2743200"/>
            <a:ext cx="5486400" cy="533520"/>
          </a:xfrm>
          <a:prstGeom prst="rect">
            <a:avLst/>
          </a:prstGeom>
          <a:solidFill>
            <a:srgbClr val="a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ENERADOR DE CÓDI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828800" y="2057400"/>
            <a:ext cx="5486400" cy="533520"/>
          </a:xfrm>
          <a:prstGeom prst="rect">
            <a:avLst/>
          </a:prstGeom>
          <a:solidFill>
            <a:srgbClr val="8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PECIFICACIÓN DEL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514080" y="1967040"/>
            <a:ext cx="752040" cy="4115160"/>
            <a:chOff x="514080" y="1967040"/>
            <a:chExt cx="752040" cy="4115160"/>
          </a:xfrm>
        </p:grpSpPr>
        <p:sp>
          <p:nvSpPr>
            <p:cNvPr id="185" name=""/>
            <p:cNvSpPr/>
            <p:nvPr/>
          </p:nvSpPr>
          <p:spPr>
            <a:xfrm rot="10797600">
              <a:off x="515520" y="1967040"/>
              <a:ext cx="749160" cy="4114800"/>
            </a:xfrm>
            <a:prstGeom prst="downArrow">
              <a:avLst>
                <a:gd name="adj1" fmla="val 50000"/>
                <a:gd name="adj2" fmla="val 137314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16260000">
              <a:off x="-11880" y="4224240"/>
              <a:ext cx="177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Abstrac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8AC4-2D5B-4D20-BE4D-7FE6766494B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Abstracción de Producto y Proces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ducto de Softw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comentario en el encabezado describe una abstracción de la funcionalidad del procedimi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ceso de Softw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estimación del costo de desarrollo se realiza considerando los principales factor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rsona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pacitació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ca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quipamient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CB7D-67D1-4D59-A048-8DEEBE507B6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5. Anticipación del Cambi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mantenibilidad es una cualidad deseable del softw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rrección de error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umentar la funciona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arrollar software fácilmente mantenible no es grat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nticipar el cómo y dónde van a ocurrir los cambio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ceder de modo que haga fácil la aplicación de futuros camb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e principio se aplica generalmente en la etapa de diseño del softw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lugares que van a cambiar se aíslan de modo que los cambios no afecten otras porciones del softw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923A-AE3B-42E3-9F02-FF09B799311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Algunos Concepto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éto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orma sistemática de abordar una activ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écn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ás técnicos y restringidos que los méto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rganización de métodos y técnicas para guiar el proceso de resolución de un probl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erramie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carna y fuerza la metodología (métodos y técnic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2714-7272-4C45-812A-3C990018CEF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Principio Único del Softwar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aplicaciones de software se desarrollan a pesar de que sus requerimientos muchas veces no se han comprendido complet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pués de instalado el sistema, el usuario realiza comentarios que dan lugar a cambios y ajus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organizaciones se ven afectadas por la instalación de un nuevo sistema, de modo que los requerimientos cambian con su implant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cc33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anticipación de los cambios es casi la única forma de abordar esta situación eficiente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41CF-37DA-4228-9D06-BD786B26AF0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Reutilización y Anticipación del Cambi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componente es reusable si puede ser utilizada para construir un nuevo sistema de software (sin cambios o con cambios mínimo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utilización es una evolución en pequeña escala, a nivel de compon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puede anticiparse los contextos en que la componente será utilizada, se la diseña de modo de poder acomodar fácilmente los cambios necesar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7BD9-03B1-4A01-8DCE-FED57A49AE8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Control de la Configuración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47246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cambios en las componentes deben ser registrados y almacen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da sistema debe tener la versión apropiada de cada una de sus compon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da configuración consistente debe también ser almacen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herramientas son esenci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553080" y="2286000"/>
            <a:ext cx="1067040" cy="685800"/>
          </a:xfrm>
          <a:prstGeom prst="rect">
            <a:avLst/>
          </a:prstGeom>
          <a:solidFill>
            <a:srgbClr val="00cc99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257800" y="3581280"/>
            <a:ext cx="1066680" cy="685800"/>
          </a:xfrm>
          <a:prstGeom prst="rect">
            <a:avLst/>
          </a:prstGeom>
          <a:solidFill>
            <a:srgbClr val="00cc99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553080" y="3581280"/>
            <a:ext cx="1067040" cy="685800"/>
          </a:xfrm>
          <a:prstGeom prst="rect">
            <a:avLst/>
          </a:prstGeom>
          <a:solidFill>
            <a:srgbClr val="00cc99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848720" y="3581280"/>
            <a:ext cx="1066680" cy="685800"/>
          </a:xfrm>
          <a:prstGeom prst="rect">
            <a:avLst/>
          </a:prstGeom>
          <a:solidFill>
            <a:srgbClr val="00cc99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181480" y="4800600"/>
            <a:ext cx="609840" cy="609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791320" y="4800600"/>
            <a:ext cx="609480" cy="6094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477120" y="4800600"/>
            <a:ext cx="609480" cy="6094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086600" y="4800600"/>
            <a:ext cx="609480" cy="609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077320" y="4800600"/>
            <a:ext cx="609480" cy="6094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197" idx="2"/>
            <a:endCxn id="198" idx="0"/>
          </p:cNvCxnSpPr>
          <p:nvPr/>
        </p:nvCxnSpPr>
        <p:spPr>
          <a:xfrm flipH="1">
            <a:off x="5790960" y="2990520"/>
            <a:ext cx="1296000" cy="572040"/>
          </a:xfrm>
          <a:prstGeom prst="straightConnector1">
            <a:avLst/>
          </a:prstGeom>
          <a:ln w="38160">
            <a:solidFill>
              <a:srgbClr val="3333cc"/>
            </a:solidFill>
            <a:miter/>
          </a:ln>
        </p:spPr>
      </p:cxnSp>
      <p:cxnSp>
        <p:nvCxnSpPr>
          <p:cNvPr id="207" name=""/>
          <p:cNvCxnSpPr>
            <a:stCxn id="197" idx="2"/>
            <a:endCxn id="199" idx="0"/>
          </p:cNvCxnSpPr>
          <p:nvPr/>
        </p:nvCxnSpPr>
        <p:spPr>
          <a:xfrm>
            <a:off x="7086240" y="2990520"/>
            <a:ext cx="1080" cy="572040"/>
          </a:xfrm>
          <a:prstGeom prst="straightConnector1">
            <a:avLst/>
          </a:prstGeom>
          <a:ln w="38160">
            <a:solidFill>
              <a:srgbClr val="3333cc"/>
            </a:solidFill>
            <a:miter/>
          </a:ln>
        </p:spPr>
      </p:cxnSp>
      <p:cxnSp>
        <p:nvCxnSpPr>
          <p:cNvPr id="208" name=""/>
          <p:cNvCxnSpPr>
            <a:stCxn id="197" idx="2"/>
            <a:endCxn id="200" idx="0"/>
          </p:cNvCxnSpPr>
          <p:nvPr/>
        </p:nvCxnSpPr>
        <p:spPr>
          <a:xfrm>
            <a:off x="7086600" y="2990520"/>
            <a:ext cx="1296000" cy="572040"/>
          </a:xfrm>
          <a:prstGeom prst="straightConnector1">
            <a:avLst/>
          </a:prstGeom>
          <a:ln w="38160">
            <a:solidFill>
              <a:srgbClr val="3333cc"/>
            </a:solidFill>
            <a:miter/>
          </a:ln>
        </p:spPr>
      </p:cxnSp>
      <p:cxnSp>
        <p:nvCxnSpPr>
          <p:cNvPr id="209" name=""/>
          <p:cNvCxnSpPr>
            <a:stCxn id="198" idx="2"/>
            <a:endCxn id="201" idx="0"/>
          </p:cNvCxnSpPr>
          <p:nvPr/>
        </p:nvCxnSpPr>
        <p:spPr>
          <a:xfrm flipH="1">
            <a:off x="5485680" y="4285800"/>
            <a:ext cx="305640" cy="515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0" name=""/>
          <p:cNvCxnSpPr>
            <a:stCxn id="198" idx="2"/>
            <a:endCxn id="202" idx="0"/>
          </p:cNvCxnSpPr>
          <p:nvPr/>
        </p:nvCxnSpPr>
        <p:spPr>
          <a:xfrm>
            <a:off x="5791320" y="4286160"/>
            <a:ext cx="305280" cy="496080"/>
          </a:xfrm>
          <a:prstGeom prst="straightConnector1">
            <a:avLst/>
          </a:prstGeom>
          <a:ln w="38160">
            <a:solidFill>
              <a:srgbClr val="3333cc"/>
            </a:solidFill>
            <a:miter/>
          </a:ln>
        </p:spPr>
      </p:cxnSp>
      <p:cxnSp>
        <p:nvCxnSpPr>
          <p:cNvPr id="211" name=""/>
          <p:cNvCxnSpPr>
            <a:stCxn id="199" idx="2"/>
            <a:endCxn id="203" idx="0"/>
          </p:cNvCxnSpPr>
          <p:nvPr/>
        </p:nvCxnSpPr>
        <p:spPr>
          <a:xfrm flipH="1">
            <a:off x="6780960" y="4286160"/>
            <a:ext cx="305640" cy="496080"/>
          </a:xfrm>
          <a:prstGeom prst="straightConnector1">
            <a:avLst/>
          </a:prstGeom>
          <a:ln w="38160">
            <a:solidFill>
              <a:srgbClr val="3333cc"/>
            </a:solidFill>
            <a:miter/>
          </a:ln>
        </p:spPr>
      </p:cxnSp>
      <p:cxnSp>
        <p:nvCxnSpPr>
          <p:cNvPr id="212" name=""/>
          <p:cNvCxnSpPr>
            <a:stCxn id="199" idx="2"/>
            <a:endCxn id="204" idx="0"/>
          </p:cNvCxnSpPr>
          <p:nvPr/>
        </p:nvCxnSpPr>
        <p:spPr>
          <a:xfrm>
            <a:off x="7086240" y="4285800"/>
            <a:ext cx="305640" cy="515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3" name=""/>
          <p:cNvCxnSpPr>
            <a:stCxn id="200" idx="2"/>
            <a:endCxn id="205" idx="0"/>
          </p:cNvCxnSpPr>
          <p:nvPr/>
        </p:nvCxnSpPr>
        <p:spPr>
          <a:xfrm>
            <a:off x="8381520" y="4286160"/>
            <a:ext cx="1080" cy="496080"/>
          </a:xfrm>
          <a:prstGeom prst="straightConnector1">
            <a:avLst/>
          </a:prstGeom>
          <a:ln w="38160">
            <a:solidFill>
              <a:srgbClr val="3333cc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8931-D5AA-4246-82F9-F639B95B669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Anticipación en el Proces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ben anticiparse acciones en caso de cambio en el pers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ambién debe considerarse el mantenimiento para la estimación de costos del sist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be considerarse la construcción de componentes reutilizables como parte del proyecto o como un proyecto parale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6CDB-BFD4-4A2C-96E9-DD66AEBD134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Ejemplo: Algoritmo de Sort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sideremos un algoritmo de ordenamiento, por ejemplo QuickS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lgunos posibles cambios en una componente que implemente este algoritm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mbio en el tipo de datos a ordena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cantidad de datos es tan grande que deben almacenarse en dis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Qué consideraciones haría para prever este tipo de cambi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2530-67EB-4D5F-9F74-DE5BEBCC354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230120" y="5865840"/>
            <a:ext cx="798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ay que evaluar la conveniencia de una solución gene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6320" y="5959440"/>
            <a:ext cx="1143000" cy="304920"/>
          </a:xfrm>
          <a:prstGeom prst="rightArrow">
            <a:avLst>
              <a:gd name="adj1" fmla="val 50000"/>
              <a:gd name="adj2" fmla="val 9371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6. Generalidad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da vez que deba resolver un problema, trate de concentrarse en descubrir un problema más general que se esconde bajo el problema particula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uede suceder que el problema generalizado sea más sencillo que el origin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a solución más general es potencialmente más reutilizab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266720" y="1905120"/>
            <a:ext cx="44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 inclusive posible que ya exista una solución general disponib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ambién es posible que la solución general sea invocada en varias circunstancias en la aplicación en lugar de tener varias soluciones particula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o contrapartida, una solución general puede ser menos eficiente (ejecución, uso de memoria, tiempo de desarroll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2D8D-22DA-4898-8D67-02CF2356667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"/>
          <p:cNvGrpSpPr/>
          <p:nvPr/>
        </p:nvGrpSpPr>
        <p:grpSpPr>
          <a:xfrm>
            <a:off x="7010280" y="1752480"/>
            <a:ext cx="1599840" cy="4800240"/>
            <a:chOff x="7010280" y="1752480"/>
            <a:chExt cx="1599840" cy="4800240"/>
          </a:xfrm>
        </p:grpSpPr>
        <p:sp>
          <p:nvSpPr>
            <p:cNvPr id="224" name=""/>
            <p:cNvSpPr/>
            <p:nvPr/>
          </p:nvSpPr>
          <p:spPr>
            <a:xfrm>
              <a:off x="7010280" y="1752480"/>
              <a:ext cx="487080" cy="1728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123400" y="1752480"/>
              <a:ext cx="486720" cy="1728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636320" y="3928680"/>
              <a:ext cx="487080" cy="26240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358040" y="3544560"/>
              <a:ext cx="347760" cy="2559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7984080" y="3544560"/>
              <a:ext cx="347760" cy="2559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Ejemplo: Intercalar dos Archivo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desea intercalar dos archivos ordenados para obtener un único archivo orden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sabe que no existen claves duplic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se desarrolla un algoritmo que acepte también claves duplicadas, habrá una mayor cantidad de casos para reusar el algorit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demás existe un algoritmo para esta tarea que puede tomar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27D5-33B6-4B09-A34A-6C73AD3741E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Generalidad e Industri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generalidad es esencial si se intenta desarrollar herramientas o paquetes para comercializ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ás generalidad implica más aplicaciones y por lo tanto más potenciales comprad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figurar un producto general es más fácil, rápido y barato que desarrollar una aplicación a med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endencia natural en todas las áreas de la ingenierí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¿ropa a medid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¿autos a medid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8A11-A682-4ADC-A43D-DFF114F9437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7. Incrementalidad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 proceso es incremental si se compone de pequeños pasos (incremento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objetivo se logra como una sucesión de aproximaciones construidas cada una sobre la anter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el software, un proceso de desarrollo es incremental si se aplica el modelo Evolutivo de desarrol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9013-FF7B-4168-B837-C4EE365E9DE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3048120" y="2801880"/>
            <a:ext cx="3244680" cy="33908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3651480" y="1657440"/>
            <a:ext cx="195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leccionar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sarrollar 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ubconjunto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funcion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429200" y="5238720"/>
            <a:ext cx="168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tregar 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suario 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uncion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sarroll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74080" y="5162400"/>
            <a:ext cx="2049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bte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entarios d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suario par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seguir c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desarrol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Proceso Incremental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E349-3E7E-49FF-95BA-7DFEB849F49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1447920" y="2057400"/>
            <a:ext cx="6705360" cy="3652920"/>
            <a:chOff x="1447920" y="2057400"/>
            <a:chExt cx="6705360" cy="3652920"/>
          </a:xfrm>
        </p:grpSpPr>
        <p:sp>
          <p:nvSpPr>
            <p:cNvPr id="53" name=""/>
            <p:cNvSpPr/>
            <p:nvPr/>
          </p:nvSpPr>
          <p:spPr>
            <a:xfrm>
              <a:off x="1447920" y="2155680"/>
              <a:ext cx="6705360" cy="3554640"/>
            </a:xfrm>
            <a:prstGeom prst="flowChartAlternateProcess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722760" y="205740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Arial"/>
                </a:rPr>
                <a:t>Herramient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Relaciones entre concepto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989000" y="2716200"/>
            <a:ext cx="5623200" cy="2994120"/>
            <a:chOff x="1989000" y="2716200"/>
            <a:chExt cx="5623200" cy="2994120"/>
          </a:xfrm>
        </p:grpSpPr>
        <p:sp>
          <p:nvSpPr>
            <p:cNvPr id="57" name=""/>
            <p:cNvSpPr/>
            <p:nvPr/>
          </p:nvSpPr>
          <p:spPr>
            <a:xfrm>
              <a:off x="1989000" y="2814480"/>
              <a:ext cx="5623200" cy="2895840"/>
            </a:xfrm>
            <a:prstGeom prst="flowChartAlternateProcess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30760" y="2716200"/>
              <a:ext cx="185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Arial"/>
                </a:rPr>
                <a:t>Metodologí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2637000" y="3368520"/>
            <a:ext cx="4327200" cy="2341800"/>
            <a:chOff x="2637000" y="3368520"/>
            <a:chExt cx="4327200" cy="2341800"/>
          </a:xfrm>
        </p:grpSpPr>
        <p:sp>
          <p:nvSpPr>
            <p:cNvPr id="60" name=""/>
            <p:cNvSpPr/>
            <p:nvPr/>
          </p:nvSpPr>
          <p:spPr>
            <a:xfrm>
              <a:off x="2637000" y="3471840"/>
              <a:ext cx="4327200" cy="2238480"/>
            </a:xfrm>
            <a:prstGeom prst="flowChartAlternateProcess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504600" y="3368520"/>
              <a:ext cx="289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Arial"/>
                </a:rPr>
                <a:t>Métodos y Técnic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3286080" y="4130640"/>
            <a:ext cx="3029040" cy="1579680"/>
            <a:chOff x="3286080" y="4130640"/>
            <a:chExt cx="3029040" cy="1579680"/>
          </a:xfrm>
        </p:grpSpPr>
        <p:sp>
          <p:nvSpPr>
            <p:cNvPr id="63" name=""/>
            <p:cNvSpPr/>
            <p:nvPr/>
          </p:nvSpPr>
          <p:spPr>
            <a:xfrm>
              <a:off x="3286080" y="4130640"/>
              <a:ext cx="3029040" cy="1579680"/>
            </a:xfrm>
            <a:prstGeom prst="flowChartAlternateProcess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47840" y="4164120"/>
              <a:ext cx="1499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Arial"/>
                </a:rPr>
                <a:t>Principi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7196-C289-4383-B08D-EFF6544D3C7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Desarrollo Incremental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arrollo controlado cuando los requerimientos no son estables o completamente cla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la mayor parte de los casos es imposible tener todos los requerimientos al momento de comenzar el desarrol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clarificación de los requerimientos surge como consecuencia de la experimentación con el sist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retroalimentación permite desarrollar el sist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á íntimamente relacionado con la anticipación del camb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E6C6-8B9E-4226-81CC-54B6A1F3CF5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Incrementalidad de Cualidade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4495320"/>
            <a:ext cx="83059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estados intermedios del sistema pueden considerarse prototipos del sistema fi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control de la configuración resulta también esencial para administrar la incrementa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volucion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fici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mig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obust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fia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261520" y="2604960"/>
            <a:ext cx="207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ua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cremen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267080" y="2057400"/>
            <a:ext cx="304920" cy="1828800"/>
          </a:xfrm>
          <a:custGeom>
            <a:avLst/>
            <a:gdLst>
              <a:gd name="textAreaLeft" fmla="*/ 194760 w 304920"/>
              <a:gd name="textAreaRight" fmla="*/ 305280 w 3049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619"/>
                </a:lnTo>
                <a:cubicBezTo>
                  <a:pt x="10800" y="10519"/>
                  <a:pt x="5400" y="11419"/>
                  <a:pt x="0" y="11419"/>
                </a:cubicBezTo>
                <a:cubicBezTo>
                  <a:pt x="5400" y="11419"/>
                  <a:pt x="10800" y="12319"/>
                  <a:pt x="10800" y="1321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F664-9AC9-4EEE-9F67-A3FC10CDCEF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Principio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09320" y="205740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cc33"/>
                </a:solidFill>
                <a:latin typeface="Arial"/>
              </a:rPr>
              <a:t>1.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Rigor y form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cc33"/>
                </a:solidFill>
                <a:latin typeface="Arial"/>
              </a:rPr>
              <a:t>2.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Separación de intere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cc33"/>
                </a:solidFill>
                <a:latin typeface="Arial"/>
              </a:rPr>
              <a:t>3.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Modular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cc33"/>
                </a:solidFill>
                <a:latin typeface="Arial"/>
              </a:rPr>
              <a:t>4.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Abstra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cc33"/>
                </a:solidFill>
                <a:latin typeface="Arial"/>
              </a:rPr>
              <a:t>5.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Anticipación del camb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cc33"/>
                </a:solidFill>
                <a:latin typeface="Arial"/>
              </a:rPr>
              <a:t>6.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Gener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cc33"/>
                </a:solidFill>
                <a:latin typeface="Arial"/>
              </a:rPr>
              <a:t>7.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Increment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824B-C9A0-4C46-8AF5-06286FC29FB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1. Rigor y Formalidad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3124080"/>
            <a:ext cx="2583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Bookman Old Style"/>
              </a:rPr>
              <a:t>Creatividad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69" name=""/>
          <p:cNvSpPr/>
          <p:nvPr/>
        </p:nvSpPr>
        <p:spPr>
          <a:xfrm>
            <a:off x="5880600" y="3200400"/>
            <a:ext cx="258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Formali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81280" y="3352680"/>
            <a:ext cx="2133720" cy="304920"/>
          </a:xfrm>
          <a:prstGeom prst="leftRightArrow">
            <a:avLst>
              <a:gd name="adj1" fmla="val 50000"/>
              <a:gd name="adj2" fmla="val 139304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21520" y="253836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8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562720" y="3962520"/>
            <a:ext cx="3124080" cy="20286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914400" y="3962520"/>
            <a:ext cx="227340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5125-F154-4D99-A2C6-EED3DE89558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Rigor y Formalidad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3505320"/>
            <a:ext cx="7467480" cy="1066680"/>
          </a:xfrm>
          <a:custGeom>
            <a:avLst/>
            <a:gdLst>
              <a:gd name="textAreaLeft" fmla="*/ 680040 w 7467480"/>
              <a:gd name="textAreaRight" fmla="*/ 6787440 w 7467480"/>
              <a:gd name="textAreaTop" fmla="*/ 266760 h 1066680"/>
              <a:gd name="textAreaBottom" fmla="*/ 80028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665" y="5400"/>
                </a:lnTo>
                <a:lnTo>
                  <a:pt x="17665" y="0"/>
                </a:lnTo>
                <a:lnTo>
                  <a:pt x="21600" y="10800"/>
                </a:lnTo>
                <a:lnTo>
                  <a:pt x="17665" y="21600"/>
                </a:lnTo>
                <a:lnTo>
                  <a:pt x="17665" y="16200"/>
                </a:lnTo>
                <a:lnTo>
                  <a:pt x="0" y="16200"/>
                </a:lnTo>
                <a:lnTo>
                  <a:pt x="1968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100000">
                <a:srgbClr val="ffcc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45160" y="2970360"/>
            <a:ext cx="101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736440" y="2970360"/>
            <a:ext cx="103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ig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9480" y="2970360"/>
            <a:ext cx="196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orma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2C14-23C7-4EAA-91FE-FFD0AFD6DE4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Rigor y Formalidad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serie de pa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finido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eciso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her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cada paso se aplica alguna técn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técnica aplicada depende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sultados teóricos derivados de un modelo de la realidad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justes empíricos para casos no cubiertos por el model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xperiencia del desarrollad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a mezcla define una metodología que puede usarse repetid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44ED-8E15-45E1-B731-10292ECD345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Rigor o Formalism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grado de formalismo usado en cada paso depende de varios facto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xperiencia en el área de desarroll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uán crítico es el product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iempo en ejecu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necesario que el desarrollador sepa decidir sobre el grado de formalidad necesario para cada paso del desarrol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397B-0F56-4256-8256-C0176AB5C35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1T13:49:39Z</dcterms:created>
  <dc:creator>Cecilia Bastarrica</dc:creator>
  <dc:description/>
  <dc:language>en-US</dc:language>
  <cp:lastModifiedBy>cecilia</cp:lastModifiedBy>
  <cp:lastPrinted>2002-06-20T13:34:06Z</cp:lastPrinted>
  <dcterms:modified xsi:type="dcterms:W3CDTF">2008-08-12T18:24:55Z</dcterms:modified>
  <cp:revision>25</cp:revision>
  <dc:subject/>
  <dc:title>CC31B: Desarrollo de Software de Aplicaciones</dc:title>
</cp:coreProperties>
</file>