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EF7-E92C-4915-8B4D-A60454E9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6B8-C295-4801-B24F-BFFD53B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A6A-B9D5-4799-9395-24EFA214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AF2-DBC1-4F91-94BF-22D9CF97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624-2C56-4F7B-998E-DDC527B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089-B079-41B2-AF2C-6DE20C2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CC1-63A8-4616-ACB8-FE10675F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187-ED0B-4F8E-B93B-C6E80C8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BD0-AE33-47AF-99A6-908CE4A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ED6-76AB-4561-8D1C-A21B271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FF7-82C6-4E29-B93B-9454211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249-9D7A-44DE-8DDF-8480D8D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C89-FBD5-4498-A5E9-E23AF702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usuario es únic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57C-DDED-4257-B737-E80CB98EED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828800"/>
            <a:ext cx="304920" cy="3657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56386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684-1B69-451B-A006-F4B2FFD26B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2. 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t Impe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el problema en sus diferentes aspectos y abordarlos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3429000"/>
          <a:ext cx="447516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429000"/>
                    <a:ext cx="44751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C91-7569-447D-91E0-DCFBC3031B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55B-6D61-4716-8DE7-769F5A2FD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ordar los 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aspectos no pueden decidirse en forma completamente independ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nero dispon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57400"/>
            <a:ext cx="1066680" cy="10666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133720"/>
            <a:ext cx="990360" cy="10666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895480"/>
            <a:ext cx="990720" cy="10670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990720" cy="106668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495680"/>
            <a:ext cx="990720" cy="10670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990360" cy="10670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43C-BD27-4AB7-8EEE-7AF883FF9B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las actividades en el tiem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l ciclo de vida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encia de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dicarse a desarrollar distintas cualidades por separ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.: funcional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de datos y flujo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 y diseño de la base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del sistema por partes dependiendo del tama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CFD-85F8-41EB-BE46-2D69A4D3A6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y Opti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l problema completo en pequeñas partes sugiere que es posible no considerar una solución ópti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, la complejidad del problema completo nos impide resolver bien los problemas parciales y también el probl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089680"/>
            <a:ext cx="7543800" cy="761760"/>
          </a:xfrm>
          <a:prstGeom prst="rightArrow">
            <a:avLst>
              <a:gd name="adj1" fmla="val 46667"/>
              <a:gd name="adj2" fmla="val 155057"/>
            </a:avLst>
          </a:prstGeom>
          <a:gradFill rotWithShape="0">
            <a:gsLst>
              <a:gs pos="0">
                <a:srgbClr val="cc3300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5520" y="4657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7760" y="5772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70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5924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D17-375A-4E9E-9446-10C3EA48E5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secuenci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intereses determina la división de las tareas posiblemente entre personas con diferente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as necesidades de personal en las distintas etapas de desarrollo del software son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AEE-7B9E-4D57-9CD8-54D31F9217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3.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complejo puede dividirse en partes llamada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ódu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dividido en módulos es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odularidad es importante en casi todos los productos y procesos de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184-E636-44DC-97B9-11CE921F6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bjetivos de la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omponer un sistema en grandes blo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r la descomposición recursivamente a bloques comp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varios elementos (módulos) básicos, se construye un sistema más comple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utilización de módulos de software beneficia todo el proceso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más fácil localizar cambios en un sistema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más fácil comprender módulos peque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2E9-785A-4BC6-9B0C-D2FCDADC1F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logra construir un software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algún principio o práctica general que me asegure que el producto de software creado tendrá ciertas cual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46483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9160" y="4648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4080" y="3758040"/>
            <a:ext cx="914400" cy="376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600 h 3760920"/>
              <a:gd name="textAreaBottom" fmla="*/ 2511360 h 37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200000">
            <a:off x="4014000" y="2310840"/>
            <a:ext cx="914400" cy="37605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240 h 3760560"/>
              <a:gd name="textAreaBottom" fmla="*/ 2511000 h 37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9F3-7EF0-43BE-9D83-E5A2565E63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hesión y 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Cohesión (in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lementos comprendidos dentro de un módulo están altamente relacion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peran para lograr un mismo f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tán junto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Acoplamiento (ext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lación e interacción entre los distintos módulos debe ser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dos módulos dependen altamente uno del otro, es probable que los cambios en un módulo afecten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7C4-D7AA-4404-8301-4CFD5BD5AA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os Fases de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: Nivel de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talles de cada módulo se trat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: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acción entre los módulos se trata independientemente de los detalles in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 - F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ttom -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 - F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p -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14C-D1EB-4084-A18F-E973998150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Buena Modulariz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9718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666880"/>
            <a:ext cx="1067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4956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1337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3434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4"/>
            <a:endCxn id="130" idx="0"/>
          </p:cNvCxnSpPr>
          <p:nvPr/>
        </p:nvCxnSpPr>
        <p:spPr>
          <a:xfrm flipH="1">
            <a:off x="1904400" y="3962520"/>
            <a:ext cx="76680" cy="121968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27" idx="7"/>
            <a:endCxn id="128" idx="3"/>
          </p:cNvCxnSpPr>
          <p:nvPr/>
        </p:nvCxnSpPr>
        <p:spPr>
          <a:xfrm flipV="1">
            <a:off x="2359080" y="2521800"/>
            <a:ext cx="1302480" cy="59436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27" idx="5"/>
            <a:endCxn id="131" idx="1"/>
          </p:cNvCxnSpPr>
          <p:nvPr/>
        </p:nvCxnSpPr>
        <p:spPr>
          <a:xfrm>
            <a:off x="2359080" y="3817440"/>
            <a:ext cx="768960" cy="82332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7" idx="6"/>
            <a:endCxn id="129" idx="2"/>
          </p:cNvCxnSpPr>
          <p:nvPr/>
        </p:nvCxnSpPr>
        <p:spPr>
          <a:xfrm flipV="1">
            <a:off x="2514600" y="3161520"/>
            <a:ext cx="3124800" cy="30564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7"/>
            <a:endCxn id="132" idx="2"/>
          </p:cNvCxnSpPr>
          <p:nvPr/>
        </p:nvCxnSpPr>
        <p:spPr>
          <a:xfrm flipV="1">
            <a:off x="6550200" y="2628360"/>
            <a:ext cx="993960" cy="183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5"/>
            <a:endCxn id="133" idx="1"/>
          </p:cNvCxnSpPr>
          <p:nvPr/>
        </p:nvCxnSpPr>
        <p:spPr>
          <a:xfrm>
            <a:off x="6549840" y="3512880"/>
            <a:ext cx="921240" cy="975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FD8-BB43-4032-B714-1C098FCFF9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4.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los elementos esenciales e ignorar los deta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forma de separación de intereses (esencia y detal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bstracción no es ú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usuario de la abs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676520"/>
            <a:ext cx="2209680" cy="3809880"/>
            <a:chOff x="6324480" y="1676520"/>
            <a:chExt cx="2209680" cy="3809880"/>
          </a:xfrm>
        </p:grpSpPr>
        <p:sp>
          <p:nvSpPr>
            <p:cNvPr id="143" name=""/>
            <p:cNvSpPr/>
            <p:nvPr/>
          </p:nvSpPr>
          <p:spPr>
            <a:xfrm>
              <a:off x="6553080" y="3886200"/>
              <a:ext cx="609480" cy="685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19760" y="3657600"/>
              <a:ext cx="6098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560" y="4800600"/>
              <a:ext cx="609840" cy="685800"/>
            </a:xfrm>
            <a:prstGeom prst="rect">
              <a:avLst/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2743200"/>
              <a:ext cx="609480" cy="685800"/>
            </a:xfrm>
            <a:prstGeom prst="rect">
              <a:avLst/>
            </a:prstGeom>
            <a:solidFill>
              <a:srgbClr val="a50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743200"/>
              <a:ext cx="609480" cy="6858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1676520"/>
              <a:ext cx="60984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2362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857640" y="236232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236232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23623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845-B2CF-4ACD-B431-81C05FAEAD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on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FBC-BEB4-4CDC-AA70-0919467717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en Otras Áre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o de una casa descri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i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relativo de las habit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no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eriales de constru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ores de las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s, capacitores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 de los con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F7-A540-46C6-B648-BC120ABB59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169" name="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6760" y="247824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172" name="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6840" y="487512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175" name="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51200">
              <a:off x="3270960" y="353196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81E-A22F-4B86-8E0C-A17E914F2F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Software es una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185" name="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60000">
              <a:off x="-11880" y="4224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C03-1BBD-4501-91DB-D6CC497155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de 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entario en el encabezado describe una abstracción de la funcionalidad del proced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costo de desarrollo se realiza considerando los principales f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pa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F6F-C0C0-4AEB-B8CA-3C0C6B844E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5.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B44-2655-4A68-9CF1-36585CE9A6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os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 sistemática de abordar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técnicos y restringidos que lo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métodos y técnicas para guiar el proceso de resolución d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rna y fuerza la metodología (métodos y téc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52C-1BE5-4561-AF03-4410F337A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 Únic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41A-7190-450B-AB80-42238C719E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utilización y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reusable si puede ser utilizada para construir un nuevo sistema de software (sin cambios o con cambios míni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tilización es una evolución en pequeña escala, a nivel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uede anticiparse los contextos en que la componente será utilizada, se la diseña de modo de poder acomodar fácilmente los cambios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F4A-2106-4BD3-B15E-54C77E8CE6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trol de la Configur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en las componentes deben ser registrados y almace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sistema debe tener la versión apropiada de cada una de su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figuración consistente debe también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son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7" name=""/>
          <p:cNvCxnSpPr>
            <a:stCxn id="197" idx="2"/>
            <a:endCxn id="199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8" name=""/>
          <p:cNvCxnSpPr>
            <a:stCxn id="197" idx="2"/>
            <a:endCxn id="200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9" name=""/>
          <p:cNvCxnSpPr>
            <a:stCxn id="198" idx="2"/>
            <a:endCxn id="201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8" idx="2"/>
            <a:endCxn id="202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1" name=""/>
          <p:cNvCxnSpPr>
            <a:stCxn id="199" idx="2"/>
            <a:endCxn id="203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2" name=""/>
          <p:cNvCxnSpPr>
            <a:stCxn id="199" idx="2"/>
            <a:endCxn id="204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0" idx="2"/>
            <a:endCxn id="205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EF1-7AF3-4D96-A154-CB7CA4D668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nticipación en el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anticiparse acciones en caso de cambio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debe considerarse el mantenimiento para la estimación de cos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considerarse la construcción de componentes reutilizables como parte del proyecto o como un proyecto paral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8A-D032-4CB4-AC9C-363B875B2B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lgoritmo de Sor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mos un algoritmo de ordenamiento, por ejemplo Quick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osibles cambios en una componente que implemente este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 en el tipo de datos a orden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ntidad de datos es tan grande que deben almacenarse en di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nsideraciones haría para prever este tipo de camb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3DC-DEA9-441D-8A65-6958E6D82E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0120" y="586584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595944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6. Gener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FEF-517C-463F-A9E7-603FB1C347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224" name="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Intercalar dos Archiv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ea intercalar dos archivos ordenados para obtener un único archivo or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abe que no existen claves du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desarrolla un algoritmo que acepte también claves duplicadas, habrá una mayor cantidad de casos para reusar el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existe un algoritmo para esta tarea que puede tom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ABC-4E77-45F3-99BE-69BE92C31F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Generalidad e Indust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lidad es esencial si se intenta desarrollar herramientas o paquetes para comerci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idad implica más aplicaciones y por lo tanto más potenciales comp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r un producto general es más fácil, rápido y barato que desarrollar una aplicación a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dencia natural en todas las áreas de la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ropa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s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15F-15B1-4E6B-B254-90A5D644C8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7. Increment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proceso es incremental si se compone de pequeños pasos (incre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se logra como una sucesión de aproximaciones construidas cada una sobre l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oftware, un proceso de desarrollo es incremental si se aplica el modelo Evolutiv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693-10A0-4922-94C0-22989A6A6D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7A5-82BD-4584-B9FE-0A26A9EC75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7920" y="2057400"/>
            <a:ext cx="6705360" cy="3652920"/>
            <a:chOff x="1447920" y="2057400"/>
            <a:chExt cx="6705360" cy="3652920"/>
          </a:xfrm>
        </p:grpSpPr>
        <p:sp>
          <p:nvSpPr>
            <p:cNvPr id="53" name=""/>
            <p:cNvSpPr/>
            <p:nvPr/>
          </p:nvSpPr>
          <p:spPr>
            <a:xfrm>
              <a:off x="1447920" y="2155680"/>
              <a:ext cx="6705360" cy="35546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2760" y="2057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errami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9000" y="2716200"/>
            <a:ext cx="5623200" cy="2994120"/>
            <a:chOff x="1989000" y="2716200"/>
            <a:chExt cx="5623200" cy="2994120"/>
          </a:xfrm>
        </p:grpSpPr>
        <p:sp>
          <p:nvSpPr>
            <p:cNvPr id="57" name=""/>
            <p:cNvSpPr/>
            <p:nvPr/>
          </p:nvSpPr>
          <p:spPr>
            <a:xfrm>
              <a:off x="1989000" y="2814480"/>
              <a:ext cx="5623200" cy="289584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0760" y="271620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etod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37000" y="3368520"/>
            <a:ext cx="4327200" cy="2341800"/>
            <a:chOff x="2637000" y="3368520"/>
            <a:chExt cx="4327200" cy="2341800"/>
          </a:xfrm>
        </p:grpSpPr>
        <p:sp>
          <p:nvSpPr>
            <p:cNvPr id="60" name=""/>
            <p:cNvSpPr/>
            <p:nvPr/>
          </p:nvSpPr>
          <p:spPr>
            <a:xfrm>
              <a:off x="2637000" y="3471840"/>
              <a:ext cx="4327200" cy="223848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4600" y="33685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étodos y Técn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86080" y="4130640"/>
            <a:ext cx="3029040" cy="1579680"/>
            <a:chOff x="3286080" y="4130640"/>
            <a:chExt cx="3029040" cy="1579680"/>
          </a:xfrm>
        </p:grpSpPr>
        <p:sp>
          <p:nvSpPr>
            <p:cNvPr id="63" name=""/>
            <p:cNvSpPr/>
            <p:nvPr/>
          </p:nvSpPr>
          <p:spPr>
            <a:xfrm>
              <a:off x="3286080" y="4130640"/>
              <a:ext cx="3029040" cy="15796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7840" y="41641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Princip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11C-FB29-4048-A200-F10FD9FC7E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esarroll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controlado cuando los requerimientos no son estables o completamente cl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 parte de los casos es imposible tener todos los requerimientos al momento de comenzar 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larificación de los requerimientos surge como consecuencia de la experimentación co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troalimentación permite desarrol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íntimamente relacionado con la anticipación d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818-0E36-482F-884C-1C0D8954EE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crementalidad de Cua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1520" y="26049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F80-1A12-4621-AB08-38728EEB96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gor y f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paración de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od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ticipac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ener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remen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209-54B9-4E48-A693-2CABF00BB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1. 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124080"/>
            <a:ext cx="258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Creativida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880600" y="3200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35268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2538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12408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2734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2FF-9FD8-421F-89A0-52EBF4BED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05320"/>
            <a:ext cx="7467480" cy="1066680"/>
          </a:xfrm>
          <a:custGeom>
            <a:avLst/>
            <a:gdLst>
              <a:gd name="textAreaLeft" fmla="*/ 680040 w 7467480"/>
              <a:gd name="textAreaRight" fmla="*/ 6787440 w 7467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65" y="5400"/>
                </a:lnTo>
                <a:lnTo>
                  <a:pt x="17665" y="0"/>
                </a:lnTo>
                <a:lnTo>
                  <a:pt x="21600" y="10800"/>
                </a:lnTo>
                <a:lnTo>
                  <a:pt x="17665" y="21600"/>
                </a:lnTo>
                <a:lnTo>
                  <a:pt x="17665" y="16200"/>
                </a:lnTo>
                <a:lnTo>
                  <a:pt x="0" y="16200"/>
                </a:lnTo>
                <a:lnTo>
                  <a:pt x="19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160" y="297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440" y="297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2970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084-5141-4679-A50A-45DAD51FD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serie de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h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da paso se aplica algun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aplicada depend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s teóricos derivados de un modelo de la re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s empíricos para casos no cubiertos por el mode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del desarrol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mezcla define una metodología que puede usarse repet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C2B-8AC4-4917-9CB9-10EDC8635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o Formalism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de formalismo usado en cada paso depende de vari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en el área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án crítico es el produ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en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que el desarrollador sepa decidir sobre el grado de formalidad necesario para cada paso d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12B-D9F4-49AA-AC00-9B5E15236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2-06-20T13:34:06Z</cp:lastPrinted>
  <dcterms:modified xsi:type="dcterms:W3CDTF">2008-08-12T18:24:55Z</dcterms:modified>
  <cp:revision>25</cp:revision>
  <dc:subject/>
  <dc:title>CC31B: Desarrollo de Software de Aplicaciones</dc:title>
</cp:coreProperties>
</file>