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C5B-44F1-438F-9659-ECC20E3E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B7D-4284-44E6-8D41-A66C6DF3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FF9-BD42-479F-8467-3489E4E2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F75-96AE-46BF-B5B2-8A4162C4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07E-71AE-4DBE-B1C7-407DF04F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ED6-4BC5-4884-809F-335CA4F8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38F-D73D-4079-8AC0-0C3752B0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199-AC95-4096-A927-59A2FDC9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3E2-3514-44A1-BC76-CD4BD2BE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89D-6390-4248-9D4D-E130960C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768-A829-49FD-AF91-C037992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B5E-E38E-4B29-808D-789B91B0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8FAB-7BFA-45D0-8DB4-EC342ED4B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número de usuario es único e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 = u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5B2-6F77-4BA5-BE51-5C29B6DAC5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ón rigurosa y/o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2880" y="1980720"/>
            <a:ext cx="3810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ifi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te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828800"/>
            <a:ext cx="304920" cy="3657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1560" y="563868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lidades del producto y del proceso de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B60-EB30-4B19-AA4C-50F43BC626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2. 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t Imper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parar el problema en sus diferentes aspectos y abordarlos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95480" y="3429000"/>
          <a:ext cx="4475160" cy="25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429000"/>
                    <a:ext cx="44751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9BC-04BD-465D-A869-46F4C1F639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74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untos económicos y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 ofrec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 espera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 en el uso del tiempo y el espac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ncias del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l proceso de desarrol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 y organización del equipo de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imientos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dise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anismos de recuperación de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6CC-6219-4DAD-9801-73ECA1CA9C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ordar los 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aspectos no pueden decidirse en forma completamente independ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nero dispon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2057400"/>
            <a:ext cx="1066680" cy="10666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133720"/>
            <a:ext cx="990360" cy="106668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895480"/>
            <a:ext cx="990720" cy="10670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1905120"/>
            <a:ext cx="990720" cy="106668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4495680"/>
            <a:ext cx="990720" cy="106704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495680"/>
            <a:ext cx="990360" cy="10670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3C6-2388-4CFA-838B-704C69666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las actividades en el tiemp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l ciclo de vida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encia de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dicarse a desarrollar distintas cualidades por separ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.: funcional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jo de datos y flujo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 y diseño de la base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amiento del sistema por partes dependiendo del tama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ula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24D-245A-4EE8-9370-C74476E9F0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y Opti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l problema completo en pequeñas partes sugiere que es posible no considerar una solución ópti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, la complejidad del problema completo nos impide resolver bien los problemas parciales y también el proble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089680"/>
            <a:ext cx="7543800" cy="761760"/>
          </a:xfrm>
          <a:prstGeom prst="rightArrow">
            <a:avLst>
              <a:gd name="adj1" fmla="val 46667"/>
              <a:gd name="adj2" fmla="val 155057"/>
            </a:avLst>
          </a:prstGeom>
          <a:gradFill rotWithShape="0">
            <a:gsLst>
              <a:gs pos="0">
                <a:srgbClr val="cc3300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5520" y="46576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7760" y="577224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5760" y="4707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5040" y="59245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F24-F94C-41B1-83DD-787EF2CDBD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secuenci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intereses determina la división de las tareas posiblemente entre personas con diferente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las necesidades de personal en las distintas etapas de desarrollo del software son dife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t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0C1-72FE-4F24-8E6E-E6EFFA0A3B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3.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complejo puede dividirse en partes llamadas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ódul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dividido en módulos es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odularidad es importante en casi todos los productos y procesos de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33E-4ADB-45E0-9890-05C66E50DA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bjetivos de la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componer un sistema en grandes blo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r la descomposición recursivamente a bloques comple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ndo varios elementos (módulos) básicos, se construye un sistema más comple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utilización de módulos de software beneficia todo el proceso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más fácil localizar cambios en un sistema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más fácil comprender módulos peque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C54-C1C6-440B-AB3F-2D2E7E2035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se logra construir un software de ca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algún principio o práctica general que me asegure que el producto de software creado tendrá ciertas cualida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2160" y="46483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9160" y="46483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474080" y="3758040"/>
            <a:ext cx="914400" cy="376092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600 h 3760920"/>
              <a:gd name="textAreaBottom" fmla="*/ 2511360 h 376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 rot="16200000">
            <a:off x="4014000" y="2310840"/>
            <a:ext cx="914400" cy="376056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240 h 3760560"/>
              <a:gd name="textAreaBottom" fmla="*/ 2511000 h 37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EEF-30A8-484F-A672-0892C862E2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hesión y 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Cohesión (in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lementos comprendidos dentro de un módulo están altamente relaciona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peran para lograr un mismo f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stán junto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Acoplamiento (exter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lación e interacción entre los distintos módulos debe ser si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dos módulos dependen altamente uno del otro, es probable que los cambios en un módulo afecten a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A43-3E72-48EF-9F50-909A53BEC6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os Fases de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: Nivel de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talles de cada módulo se trat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: Nivel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acción entre los módulos se trata independientemente de los detalles in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 - F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ttom -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 - F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p -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A2E-BE70-4235-8860-068F7850A6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Buena Modulariz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9718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16765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2666880"/>
            <a:ext cx="106704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1814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44956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21337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43434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4"/>
            <a:endCxn id="130" idx="0"/>
          </p:cNvCxnSpPr>
          <p:nvPr/>
        </p:nvCxnSpPr>
        <p:spPr>
          <a:xfrm flipH="1">
            <a:off x="1904400" y="3962520"/>
            <a:ext cx="76680" cy="121968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>
            <a:stCxn id="127" idx="7"/>
            <a:endCxn id="128" idx="3"/>
          </p:cNvCxnSpPr>
          <p:nvPr/>
        </p:nvCxnSpPr>
        <p:spPr>
          <a:xfrm flipV="1">
            <a:off x="2359080" y="2521800"/>
            <a:ext cx="1302480" cy="59436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>
            <a:stCxn id="127" idx="5"/>
            <a:endCxn id="131" idx="1"/>
          </p:cNvCxnSpPr>
          <p:nvPr/>
        </p:nvCxnSpPr>
        <p:spPr>
          <a:xfrm>
            <a:off x="2359080" y="3817440"/>
            <a:ext cx="768960" cy="82332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27" idx="6"/>
            <a:endCxn id="129" idx="2"/>
          </p:cNvCxnSpPr>
          <p:nvPr/>
        </p:nvCxnSpPr>
        <p:spPr>
          <a:xfrm flipV="1">
            <a:off x="2514600" y="3161520"/>
            <a:ext cx="3124800" cy="30564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"/>
          <p:cNvCxnSpPr>
            <a:stCxn id="129" idx="7"/>
            <a:endCxn id="132" idx="2"/>
          </p:cNvCxnSpPr>
          <p:nvPr/>
        </p:nvCxnSpPr>
        <p:spPr>
          <a:xfrm flipV="1">
            <a:off x="6550200" y="2628360"/>
            <a:ext cx="993960" cy="183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9" idx="5"/>
            <a:endCxn id="133" idx="1"/>
          </p:cNvCxnSpPr>
          <p:nvPr/>
        </p:nvCxnSpPr>
        <p:spPr>
          <a:xfrm>
            <a:off x="6549840" y="3512880"/>
            <a:ext cx="921240" cy="975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9EB-40DA-493E-A587-1231CC0825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4.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guir los elementos esenciales e ignorar los deta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forma de separación de intereses (esencia y detal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bstracción no es ú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usuario de la abstr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24480" y="1676520"/>
            <a:ext cx="2209680" cy="3809880"/>
            <a:chOff x="6324480" y="1676520"/>
            <a:chExt cx="2209680" cy="3809880"/>
          </a:xfrm>
        </p:grpSpPr>
        <p:sp>
          <p:nvSpPr>
            <p:cNvPr id="143" name=""/>
            <p:cNvSpPr/>
            <p:nvPr/>
          </p:nvSpPr>
          <p:spPr>
            <a:xfrm>
              <a:off x="6553080" y="3886200"/>
              <a:ext cx="609480" cy="6858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19760" y="3657600"/>
              <a:ext cx="6098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560" y="4800600"/>
              <a:ext cx="609840" cy="685800"/>
            </a:xfrm>
            <a:prstGeom prst="rect">
              <a:avLst/>
            </a:prstGeom>
            <a:solidFill>
              <a:srgbClr val="00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4680" y="2743200"/>
              <a:ext cx="609480" cy="685800"/>
            </a:xfrm>
            <a:prstGeom prst="rect">
              <a:avLst/>
            </a:prstGeom>
            <a:solidFill>
              <a:srgbClr val="a5002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2743200"/>
              <a:ext cx="609480" cy="6858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560" y="1676520"/>
              <a:ext cx="60984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629400" y="23623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857640" y="236232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7480" y="23623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67480" y="2362320"/>
              <a:ext cx="4572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7480" y="23623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7AB-648C-4947-B289-42324DC9D1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on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20800" y="2255760"/>
            <a:ext cx="2111760" cy="642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120" y="41101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uario Fi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a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0960" y="411012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iseñ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5600" y="411012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rogram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,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61240" y="4110120"/>
            <a:ext cx="163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antene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quitectur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971440"/>
            <a:ext cx="2362320" cy="1066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2971440"/>
            <a:ext cx="76212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876920" y="2971440"/>
            <a:ext cx="45720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409720" y="2971440"/>
            <a:ext cx="221004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EB6-069A-4B1D-A06B-73C7035DF5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en Otras Áre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o de una casa descri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ien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año relativo de las habit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no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teriales de construc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lores de las pare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s, capacitores, etc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u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 de los cone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9F0-F419-4F82-99B1-62F4A7B662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752480"/>
            <a:ext cx="4267080" cy="2590920"/>
            <a:chOff x="457200" y="1752480"/>
            <a:chExt cx="4267080" cy="2590920"/>
          </a:xfrm>
        </p:grpSpPr>
        <p:sp>
          <p:nvSpPr>
            <p:cNvPr id="169" name=""/>
            <p:cNvSpPr/>
            <p:nvPr/>
          </p:nvSpPr>
          <p:spPr>
            <a:xfrm>
              <a:off x="457200" y="1752480"/>
              <a:ext cx="4267080" cy="2590920"/>
            </a:xfrm>
            <a:prstGeom prst="cloudCallout">
              <a:avLst>
                <a:gd name="adj1" fmla="val -21351"/>
                <a:gd name="adj2" fmla="val 31555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36760" y="2478240"/>
              <a:ext cx="23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equerimi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7280" y="4267080"/>
            <a:ext cx="2133720" cy="2057400"/>
            <a:chOff x="5867280" y="4267080"/>
            <a:chExt cx="2133720" cy="2057400"/>
          </a:xfrm>
        </p:grpSpPr>
        <p:sp>
          <p:nvSpPr>
            <p:cNvPr id="172" name=""/>
            <p:cNvSpPr/>
            <p:nvPr/>
          </p:nvSpPr>
          <p:spPr>
            <a:xfrm>
              <a:off x="5867280" y="4267080"/>
              <a:ext cx="2133720" cy="2057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26840" y="4875120"/>
              <a:ext cx="166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Modelo 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25400" y="2715840"/>
            <a:ext cx="4017240" cy="2505240"/>
            <a:chOff x="2525400" y="2715840"/>
            <a:chExt cx="4017240" cy="2505240"/>
          </a:xfrm>
        </p:grpSpPr>
        <p:sp>
          <p:nvSpPr>
            <p:cNvPr id="175" name=""/>
            <p:cNvSpPr/>
            <p:nvPr/>
          </p:nvSpPr>
          <p:spPr>
            <a:xfrm rot="17788800">
              <a:off x="4159080" y="191088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51200">
              <a:off x="3270960" y="353196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BDB-189C-4C97-880B-22FC551B71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Software es una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486400"/>
            <a:ext cx="5486400" cy="533520"/>
          </a:xfrm>
          <a:prstGeom prst="rect">
            <a:avLst/>
          </a:prstGeom>
          <a:solidFill>
            <a:srgbClr val="f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800600"/>
            <a:ext cx="5486400" cy="533520"/>
          </a:xfrm>
          <a:prstGeom prst="rect">
            <a:avLst/>
          </a:prstGeom>
          <a:solidFill>
            <a:srgbClr val="d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4114800"/>
            <a:ext cx="5486400" cy="533520"/>
          </a:xfrm>
          <a:prstGeom prst="rect">
            <a:avLst/>
          </a:prstGeom>
          <a:solidFill>
            <a:srgbClr val="c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486400" cy="533520"/>
          </a:xfrm>
          <a:prstGeom prst="rect">
            <a:avLst/>
          </a:prstGeom>
          <a:solidFill>
            <a:srgbClr val="b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ALT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743200"/>
            <a:ext cx="5486400" cy="533520"/>
          </a:xfrm>
          <a:prstGeom prst="rect">
            <a:avLst/>
          </a:prstGeom>
          <a:solidFill>
            <a:srgbClr val="a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057400"/>
            <a:ext cx="5486400" cy="533520"/>
          </a:xfrm>
          <a:prstGeom prst="rect">
            <a:avLst/>
          </a:prstGeom>
          <a:solidFill>
            <a:srgbClr val="8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CIÓN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14080" y="1967040"/>
            <a:ext cx="752040" cy="4115160"/>
            <a:chOff x="514080" y="1967040"/>
            <a:chExt cx="752040" cy="4115160"/>
          </a:xfrm>
        </p:grpSpPr>
        <p:sp>
          <p:nvSpPr>
            <p:cNvPr id="185" name=""/>
            <p:cNvSpPr/>
            <p:nvPr/>
          </p:nvSpPr>
          <p:spPr>
            <a:xfrm rot="10797600">
              <a:off x="515520" y="196704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60000">
              <a:off x="-11880" y="42242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C72-812A-4893-937D-638010692E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de 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entario en el encabezado describe una abstracción de la funcionalidad del proced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l costo de desarrollo se realiza considerando los principales fac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s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c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pami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0A7-8209-406E-AC6C-78BB079388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5.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antenibilidad es una cualidad deseable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cción de err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la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ar software fácilmente mantenible no es grat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icipar el cómo y dónde van a ocurrir los camb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er de modo que haga fácil la aplicación de futuros camb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principio se aplica generalmente en la etapa de diseño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lugares que van a cambiar se aíslan de modo que los cambios no afecten otras porciones del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812-4A3F-4F82-9EB6-ECAA8E7143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lgunos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 sistemática de abordar una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técnicos y restringidos que lo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métodos y técnicas para guiar el proceso de resolución de un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rna y fuerza la metodología (métodos y téc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E09-9E9B-4696-83D8-6338BA4144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 Únic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plicaciones de software se desarrollan a pesar de que sus requerimientos muchas veces no se han comprendido comple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instalado el sistema, el usuario realiza comentarios que dan lugar a cambios y aju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organizaciones se ven afectadas por la instalación de un nuevo sistema, de modo que los requerimientos cambian con su impla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nticipación de los cambios es casi la única forma de abordar esta situación efi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85D-CC54-4589-AAE0-87F64AD92B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utilización y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reusable si puede ser utilizada para construir un nuevo sistema de software (sin cambios o con cambios mínim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tilización es una evolución en pequeña escala, a nivel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uede anticiparse los contextos en que la componente será utilizada, se la diseña de modo de poder acomodar fácilmente los cambios neces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ECC-73D6-4AEE-B948-62EE4D73F3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trol de la Configur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en las componentes deben ser registrados y almace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sistema debe tener la versión apropiada de cada una de su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figuración consistente debe también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son esen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28600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58128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4800600"/>
            <a:ext cx="6098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7" idx="2"/>
            <a:endCxn id="198" idx="0"/>
          </p:cNvCxnSpPr>
          <p:nvPr/>
        </p:nvCxnSpPr>
        <p:spPr>
          <a:xfrm flipH="1">
            <a:off x="579096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7" name=""/>
          <p:cNvCxnSpPr>
            <a:stCxn id="197" idx="2"/>
            <a:endCxn id="199" idx="0"/>
          </p:cNvCxnSpPr>
          <p:nvPr/>
        </p:nvCxnSpPr>
        <p:spPr>
          <a:xfrm>
            <a:off x="7086240" y="2990520"/>
            <a:ext cx="108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8" name=""/>
          <p:cNvCxnSpPr>
            <a:stCxn id="197" idx="2"/>
            <a:endCxn id="200" idx="0"/>
          </p:cNvCxnSpPr>
          <p:nvPr/>
        </p:nvCxnSpPr>
        <p:spPr>
          <a:xfrm>
            <a:off x="708660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9" name=""/>
          <p:cNvCxnSpPr>
            <a:stCxn id="198" idx="2"/>
            <a:endCxn id="201" idx="0"/>
          </p:cNvCxnSpPr>
          <p:nvPr/>
        </p:nvCxnSpPr>
        <p:spPr>
          <a:xfrm flipH="1">
            <a:off x="548568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8" idx="2"/>
            <a:endCxn id="202" idx="0"/>
          </p:cNvCxnSpPr>
          <p:nvPr/>
        </p:nvCxnSpPr>
        <p:spPr>
          <a:xfrm>
            <a:off x="5791320" y="4286160"/>
            <a:ext cx="3052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1" name=""/>
          <p:cNvCxnSpPr>
            <a:stCxn id="199" idx="2"/>
            <a:endCxn id="203" idx="0"/>
          </p:cNvCxnSpPr>
          <p:nvPr/>
        </p:nvCxnSpPr>
        <p:spPr>
          <a:xfrm flipH="1">
            <a:off x="6780960" y="4286160"/>
            <a:ext cx="30564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2" name=""/>
          <p:cNvCxnSpPr>
            <a:stCxn id="199" idx="2"/>
            <a:endCxn id="204" idx="0"/>
          </p:cNvCxnSpPr>
          <p:nvPr/>
        </p:nvCxnSpPr>
        <p:spPr>
          <a:xfrm>
            <a:off x="708624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0" idx="2"/>
            <a:endCxn id="205" idx="0"/>
          </p:cNvCxnSpPr>
          <p:nvPr/>
        </p:nvCxnSpPr>
        <p:spPr>
          <a:xfrm>
            <a:off x="8381520" y="4286160"/>
            <a:ext cx="10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D8F-66D8-4688-B6AE-910C601F18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nticipación en el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anticiparse acciones en caso de cambio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debe considerarse el mantenimiento para la estimación de costos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considerarse la construcción de componentes reutilizables como parte del proyecto o como un proyecto paral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648-78F3-42BB-A929-78CEFE532A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lgoritmo de Sor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deremos un algoritmo de ordenamiento, por ejemplo QuickS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osibles cambios en una componente que implemente este 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 en el tipo de datos a orden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antidad de datos es tan grande que deben almacenarse en di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onsideraciones haría para prever este tipo de camb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52E-B45D-4FD7-864E-18562E76D1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30120" y="5865840"/>
            <a:ext cx="79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que evaluar la conveniencia de una solució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595944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6. Gener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ez que deba resolver un problema, trate de concentrarse en descubrir un problema más general que se esconde bajo el problema parti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suceder que el problema generalizado sea más sencillo que el orig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solución más general es potencialmente más reutiliz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nclusive posible que ya exista una solución general dispon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posible que la solución general sea invocada en varias circunstancias en la aplicación en lugar de tener varias soluciones parti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contrapartida, una solución general puede ser menos eficiente (ejecución, uso de memoria, tiempo de desarrol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AF5-E662-4D0D-AD28-B9FF053106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010280" y="1752480"/>
            <a:ext cx="1599840" cy="4800240"/>
            <a:chOff x="7010280" y="1752480"/>
            <a:chExt cx="1599840" cy="4800240"/>
          </a:xfrm>
        </p:grpSpPr>
        <p:sp>
          <p:nvSpPr>
            <p:cNvPr id="224" name=""/>
            <p:cNvSpPr/>
            <p:nvPr/>
          </p:nvSpPr>
          <p:spPr>
            <a:xfrm>
              <a:off x="7010280" y="1752480"/>
              <a:ext cx="48708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23400" y="1752480"/>
              <a:ext cx="48672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36320" y="3928680"/>
              <a:ext cx="487080" cy="26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5804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98408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Intercalar dos Archiv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ea intercalar dos archivos ordenados para obtener un único archivo or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abe que no existen claves dupl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desarrolla un algoritmo que acepte también claves duplicadas, habrá una mayor cantidad de casos para reusar el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 existe un algoritmo para esta tarea que puede tom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42A-7A77-4AC1-94AD-D03C7588E3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Generalidad e Indust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generalidad es esencial si se intenta desarrollar herramientas o paquetes para comercia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generalidad implica más aplicaciones y por lo tanto más potenciales compr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r un producto general es más fácil, rápido y barato que desarrollar una aplicación a med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dencia natural en todas las áreas de la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ropa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s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2A6-3839-47EB-81E9-B5A51CD23A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7. Increment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proceso es incremental si se compone de pequeños pasos (incremen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se logra como una sucesión de aproximaciones construidas cada una sobre l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oftware, un proceso de desarrollo es incremental si se aplica el modelo Evolutivo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69B-9E76-463B-96EF-CE9F594BDA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048120" y="280188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51480" y="165744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ciona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conjun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29200" y="523872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r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74080" y="5162400"/>
            <a:ext cx="204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ntario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seguir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22B-B981-417A-9E92-2623736F6A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447920" y="2057400"/>
            <a:ext cx="6705360" cy="3652920"/>
            <a:chOff x="1447920" y="2057400"/>
            <a:chExt cx="6705360" cy="3652920"/>
          </a:xfrm>
        </p:grpSpPr>
        <p:sp>
          <p:nvSpPr>
            <p:cNvPr id="53" name=""/>
            <p:cNvSpPr/>
            <p:nvPr/>
          </p:nvSpPr>
          <p:spPr>
            <a:xfrm>
              <a:off x="1447920" y="2155680"/>
              <a:ext cx="6705360" cy="35546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22760" y="205740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errami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laciones entre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89000" y="2716200"/>
            <a:ext cx="5623200" cy="2994120"/>
            <a:chOff x="1989000" y="2716200"/>
            <a:chExt cx="5623200" cy="2994120"/>
          </a:xfrm>
        </p:grpSpPr>
        <p:sp>
          <p:nvSpPr>
            <p:cNvPr id="57" name=""/>
            <p:cNvSpPr/>
            <p:nvPr/>
          </p:nvSpPr>
          <p:spPr>
            <a:xfrm>
              <a:off x="1989000" y="2814480"/>
              <a:ext cx="5623200" cy="2895840"/>
            </a:xfrm>
            <a:prstGeom prst="flowChartAlternate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0760" y="271620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etodolo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637000" y="3368520"/>
            <a:ext cx="4327200" cy="2341800"/>
            <a:chOff x="2637000" y="3368520"/>
            <a:chExt cx="4327200" cy="2341800"/>
          </a:xfrm>
        </p:grpSpPr>
        <p:sp>
          <p:nvSpPr>
            <p:cNvPr id="60" name=""/>
            <p:cNvSpPr/>
            <p:nvPr/>
          </p:nvSpPr>
          <p:spPr>
            <a:xfrm>
              <a:off x="2637000" y="3471840"/>
              <a:ext cx="4327200" cy="2238480"/>
            </a:xfrm>
            <a:prstGeom prst="flowChartAlternateProcess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4600" y="3368520"/>
              <a:ext cx="28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étodos y Técn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86080" y="4130640"/>
            <a:ext cx="3029040" cy="1579680"/>
            <a:chOff x="3286080" y="4130640"/>
            <a:chExt cx="3029040" cy="1579680"/>
          </a:xfrm>
        </p:grpSpPr>
        <p:sp>
          <p:nvSpPr>
            <p:cNvPr id="63" name=""/>
            <p:cNvSpPr/>
            <p:nvPr/>
          </p:nvSpPr>
          <p:spPr>
            <a:xfrm>
              <a:off x="3286080" y="4130640"/>
              <a:ext cx="3029040" cy="1579680"/>
            </a:xfrm>
            <a:prstGeom prst="flowChartAlternateProcess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47840" y="416412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Princip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FCA-A42E-4ABF-983D-CEF2D9312A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esarroll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controlado cuando los requerimientos no son estables o completamente cl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 parte de los casos es imposible tener todos los requerimientos al momento de comenzar 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larificación de los requerimientos surge como consecuencia de la experimentación co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troalimentación permite desarrollar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á íntimamente relacionado con la anticipación del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252-8580-49F4-8C92-081701CD27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crementalidad de Cua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stados intermedios del sistema pueden considerarse prototipos del sistema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trol de la configuración resulta también esencial para administrar la increment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oluci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ig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bust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1520" y="26049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re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057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9"/>
                </a:lnTo>
                <a:cubicBezTo>
                  <a:pt x="10800" y="10519"/>
                  <a:pt x="5400" y="11419"/>
                  <a:pt x="0" y="11419"/>
                </a:cubicBezTo>
                <a:cubicBezTo>
                  <a:pt x="5400" y="11419"/>
                  <a:pt x="10800" y="12319"/>
                  <a:pt x="10800" y="1321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C4C-7518-4268-AA9B-03A530F2E4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1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gor y form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paración de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odu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nticipación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6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ener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cremen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96C-AC32-472E-A29C-A5D96FC7F1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1. 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3124080"/>
            <a:ext cx="258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Creativida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5880600" y="320040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orma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352680"/>
            <a:ext cx="2133720" cy="304920"/>
          </a:xfrm>
          <a:prstGeom prst="leftRightArrow">
            <a:avLst>
              <a:gd name="adj1" fmla="val 50000"/>
              <a:gd name="adj2" fmla="val 1393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1520" y="25383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3124080" cy="202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2734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BF4-20EE-46AF-8C16-F38E3A5B54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05320"/>
            <a:ext cx="7467480" cy="1066680"/>
          </a:xfrm>
          <a:custGeom>
            <a:avLst/>
            <a:gdLst>
              <a:gd name="textAreaLeft" fmla="*/ 680040 w 7467480"/>
              <a:gd name="textAreaRight" fmla="*/ 6787440 w 7467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65" y="5400"/>
                </a:lnTo>
                <a:lnTo>
                  <a:pt x="17665" y="0"/>
                </a:lnTo>
                <a:lnTo>
                  <a:pt x="21600" y="10800"/>
                </a:lnTo>
                <a:lnTo>
                  <a:pt x="17665" y="21600"/>
                </a:lnTo>
                <a:lnTo>
                  <a:pt x="17665" y="16200"/>
                </a:lnTo>
                <a:lnTo>
                  <a:pt x="0" y="16200"/>
                </a:lnTo>
                <a:lnTo>
                  <a:pt x="196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5160" y="297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6440" y="2970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ig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9480" y="297036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CBC-1B4C-4331-ACAF-4D817CF9D5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serie de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s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h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ada paso se aplica alguna téc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écnica aplicada depend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s teóricos derivados de un modelo de la real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justes empíricos para casos no cubiertos por el mode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del desarroll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mezcla define una metodología que puede usarse repet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B5C-BF6C-4A21-B29A-B0A07A051A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o Formalism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grado de formalismo usado en cada paso depende de vario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en el área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án crítico es el produc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en ejec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que el desarrollador sepa decidir sobre el grado de formalidad necesario para cada paso d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57C-39DC-4011-B8ED-BDFB055F09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2-06-20T13:34:06Z</cp:lastPrinted>
  <dcterms:modified xsi:type="dcterms:W3CDTF">2008-08-12T18:24:55Z</dcterms:modified>
  <cp:revision>25</cp:revision>
  <dc:subject/>
  <dc:title>CC31B: Desarrollo de Software de Aplicaciones</dc:title>
</cp:coreProperties>
</file>