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2935-FD4F-4309-88AB-2DE35AE6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83E1-EF25-41BB-A3BB-85939E8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0CE0-3728-4C76-8EF4-D8E11AD0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2DD-E4E9-45BC-92F3-50C94833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A25-F487-4DAF-A972-988E6D3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A13-3D61-4735-BA67-B415DA75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C7C-5B42-4946-9556-864B97B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DA-3EF4-4463-85FC-A6984536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A1B-3705-41E8-8663-918CD053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8A2-B960-4DAF-9C96-ED42CA3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9D4-CB51-4675-B755-4BE1592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944-F312-4528-9C25-408092D4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CFB2-2780-48B3-88A6-DB4E92931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número de usuario es único e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 = u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, u’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USUARIOS </a:t>
            </a:r>
            <a:r>
              <a:rPr b="0" lang="es-ES_tradnl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.número = u’.núm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E33-1A35-4A4C-AA90-0EAB08852F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3733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ación rigurosa y/o f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2880" y="1980720"/>
            <a:ext cx="3810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rifi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nte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828800"/>
            <a:ext cx="304920" cy="3657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1560" y="5638680"/>
            <a:ext cx="77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ualidades del producto y del proces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7A7-F81A-4FA1-B12F-E4EB66B9F5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2. 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t Imper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parar el problema en sus diferentes aspectos y abordarlos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95480" y="3429000"/>
          <a:ext cx="4475160" cy="2595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429000"/>
                    <a:ext cx="44751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370-9060-4B1C-819D-33AA96ED18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57400" y="5638680"/>
            <a:ext cx="5410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untos económicos y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un 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 ofrec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 espera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 en el uso del tiempo y el espaci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ncias del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l proceso de desarrol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 y organización del equipo de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imientos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dise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anismos de recuperación de err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2CC-8EEF-41BB-A1D7-9036475755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ordar los Distintos Enfoqu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aspectos no pueden decidirse en forma completamente independ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nero dispon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2057400"/>
            <a:ext cx="1066680" cy="10666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133720"/>
            <a:ext cx="990360" cy="106668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2895480"/>
            <a:ext cx="990720" cy="10670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1905120"/>
            <a:ext cx="990720" cy="106668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4495680"/>
            <a:ext cx="990720" cy="106704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4495680"/>
            <a:ext cx="990360" cy="10670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0C73-3A14-4AA8-92F7-E2369613A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de Intere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las actividades en el tiemp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del ciclo de vida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encia de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dicarse a desarrollar distintas cualidades por separad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.: funcionalidad y efic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lujo de datos y flujo de contro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 del usuario y diseño de la base de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amiento del sistema por partes dependiendo del tamañ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ul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3AE-928E-4C77-A487-6977FD3A5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eparación y Opti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l problema completo en pequeñas partes sugiere que es posible no considerar una solución ópti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, la complejidad del problema completo nos impide resolver bien los problemas parciales y también el problema glo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5089680"/>
            <a:ext cx="7543800" cy="761760"/>
          </a:xfrm>
          <a:prstGeom prst="rightArrow">
            <a:avLst>
              <a:gd name="adj1" fmla="val 46667"/>
              <a:gd name="adj2" fmla="val 155057"/>
            </a:avLst>
          </a:prstGeom>
          <a:gradFill rotWithShape="0">
            <a:gsLst>
              <a:gs pos="0">
                <a:srgbClr val="cc3300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5520" y="46576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7760" y="577224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35760" y="47070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040" y="59245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6A8-9B9E-4D3C-8F7F-DF38AD90E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secuenci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intereses determina la división de las tareas posiblemente entre personas con diferentes h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las necesidades de personal en las distintas etapas de desarrollo del software son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t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E8B-AAE5-4A6C-9565-1559F62A7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3.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complejo puede dividirse en partes llamadas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módul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istema dividido en módulos es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odularidad es importante en casi todos los productos y procesos de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8FA-712A-4CA4-BA68-0D075A62CD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bjetivos de la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componer un sistema en grandes blo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r la descomposición recursivamente a bloques comple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ndo varios elementos (módulos) básicos, se construye un sistema más comple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utilización de módulos de software beneficia todo el proceso de desarro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más fácil localizar cambios en un sistema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más fácil comprender módulos peque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903-9ADA-4F39-93D0-30BEC7E002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se logra construir un software de cal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algún principio o práctica general que me asegure que el producto de software creado tendrá ciertas cualida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22160" y="464832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29160" y="464832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4474080" y="3758040"/>
            <a:ext cx="914400" cy="376092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600 h 3760920"/>
              <a:gd name="textAreaBottom" fmla="*/ 2511360 h 376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 rot="16200000">
            <a:off x="4014000" y="2310840"/>
            <a:ext cx="914400" cy="376056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3240 h 3760560"/>
              <a:gd name="textAreaBottom" fmla="*/ 2511000 h 376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2" stAng="-5400000" swAng="-5400000"/>
                <a:lnTo>
                  <a:pt x="0" y="10267"/>
                </a:lnTo>
                <a:arcTo wR="21600" hR="8312" stAng="10800000" swAng="-3020857"/>
                <a:lnTo>
                  <a:pt x="15037" y="21207"/>
                </a:lnTo>
                <a:lnTo>
                  <a:pt x="21600" y="17601"/>
                </a:lnTo>
                <a:lnTo>
                  <a:pt x="15037" y="13208"/>
                </a:lnTo>
                <a:lnTo>
                  <a:pt x="15037" y="16230"/>
                </a:lnTo>
                <a:arcTo wR="21600" hR="8312" stAng="7779143" swAng="2864304"/>
                <a:lnTo>
                  <a:pt x="150" y="9289"/>
                </a:lnTo>
                <a:arcTo wR="21600" hR="8312" stAng="-10643447" swAng="5243447"/>
                <a:close/>
              </a:path>
              <a:path fill="darkenLess" w="21600" h="21600">
                <a:moveTo>
                  <a:pt x="21600" y="0"/>
                </a:moveTo>
                <a:arcTo wR="21600" hR="8312" stAng="-5400000" swAng="-5400000"/>
                <a:lnTo>
                  <a:pt x="0" y="8312"/>
                </a:lnTo>
                <a:arcTo wR="21600" hR="8312" stAng="10800000" swAng="-156553"/>
                <a:lnTo>
                  <a:pt x="150" y="9289"/>
                </a:lnTo>
                <a:arcTo wR="21600" hR="8312" stAng="-10643447" swAng="524344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3AF-E83C-4637-BD12-C44219203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hesión y 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Cohesión (inte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lementos comprendidos dentro de un módulo están altamente relaciona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operan para lograr un mismo f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están juntos al a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Acoplamiento (exter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lación e interacción entre los distintos módulos debe ser sim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dos módulos dependen altamente uno del otro, es probable que los cambios en un módulo afecten al ot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9D4-8D4B-46FE-93BE-F3029F6F60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os Fases de Modular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: Nivel de Mód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talles de cada módulo se trat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: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acción entre los módulos se trata independientemente de los detalles inter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1 - F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ttom -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se 2 - F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228276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p -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6A6-4A35-48EB-AEAC-5C8DF73C3C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Buena Modulariz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29718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16765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2666880"/>
            <a:ext cx="106704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449568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43800" y="2133720"/>
            <a:ext cx="1066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4343400"/>
            <a:ext cx="10666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4"/>
            <a:endCxn id="130" idx="0"/>
          </p:cNvCxnSpPr>
          <p:nvPr/>
        </p:nvCxnSpPr>
        <p:spPr>
          <a:xfrm flipH="1">
            <a:off x="1904400" y="3962520"/>
            <a:ext cx="76680" cy="121968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5" name=""/>
          <p:cNvCxnSpPr>
            <a:stCxn id="127" idx="7"/>
            <a:endCxn id="128" idx="3"/>
          </p:cNvCxnSpPr>
          <p:nvPr/>
        </p:nvCxnSpPr>
        <p:spPr>
          <a:xfrm flipV="1">
            <a:off x="2359080" y="2521800"/>
            <a:ext cx="1302480" cy="59436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" name=""/>
          <p:cNvCxnSpPr>
            <a:stCxn id="127" idx="5"/>
            <a:endCxn id="131" idx="1"/>
          </p:cNvCxnSpPr>
          <p:nvPr/>
        </p:nvCxnSpPr>
        <p:spPr>
          <a:xfrm>
            <a:off x="2359080" y="3817440"/>
            <a:ext cx="768960" cy="82332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>
            <a:stCxn id="127" idx="6"/>
            <a:endCxn id="129" idx="2"/>
          </p:cNvCxnSpPr>
          <p:nvPr/>
        </p:nvCxnSpPr>
        <p:spPr>
          <a:xfrm flipV="1">
            <a:off x="2514600" y="3161520"/>
            <a:ext cx="3124800" cy="305640"/>
          </a:xfrm>
          <a:prstGeom prst="straightConnector1">
            <a:avLst/>
          </a:prstGeom>
          <a:ln w="2844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8" name=""/>
          <p:cNvCxnSpPr>
            <a:stCxn id="129" idx="7"/>
            <a:endCxn id="132" idx="2"/>
          </p:cNvCxnSpPr>
          <p:nvPr/>
        </p:nvCxnSpPr>
        <p:spPr>
          <a:xfrm flipV="1">
            <a:off x="6550200" y="2628360"/>
            <a:ext cx="993960" cy="183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29" idx="5"/>
            <a:endCxn id="133" idx="1"/>
          </p:cNvCxnSpPr>
          <p:nvPr/>
        </p:nvCxnSpPr>
        <p:spPr>
          <a:xfrm>
            <a:off x="6549840" y="3512880"/>
            <a:ext cx="921240" cy="97524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77E-9243-451F-A697-054A90FAC1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4.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tinguir los elementos esenciales e ignorar los deta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forma de separación de intereses (esencia y detal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bstracción no es ú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ende del softwa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usuario de la abstr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24480" y="1676520"/>
            <a:ext cx="2209680" cy="3809880"/>
            <a:chOff x="6324480" y="1676520"/>
            <a:chExt cx="2209680" cy="3809880"/>
          </a:xfrm>
        </p:grpSpPr>
        <p:sp>
          <p:nvSpPr>
            <p:cNvPr id="143" name=""/>
            <p:cNvSpPr/>
            <p:nvPr/>
          </p:nvSpPr>
          <p:spPr>
            <a:xfrm>
              <a:off x="6553080" y="3886200"/>
              <a:ext cx="609480" cy="6858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19760" y="3657600"/>
              <a:ext cx="6098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62560" y="4800600"/>
              <a:ext cx="609840" cy="685800"/>
            </a:xfrm>
            <a:prstGeom prst="rect">
              <a:avLst/>
            </a:prstGeom>
            <a:solidFill>
              <a:srgbClr val="00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4680" y="2743200"/>
              <a:ext cx="609480" cy="685800"/>
            </a:xfrm>
            <a:prstGeom prst="rect">
              <a:avLst/>
            </a:prstGeom>
            <a:solidFill>
              <a:srgbClr val="a50021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2743200"/>
              <a:ext cx="609480" cy="68580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560" y="1676520"/>
              <a:ext cx="60984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400" y="2362320"/>
              <a:ext cx="83808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857640" y="2362320"/>
              <a:ext cx="609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23623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67480" y="2362320"/>
              <a:ext cx="4572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67480" y="23623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2D8-B966-4FC8-ADA3-DE8B88C54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on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20800" y="2255760"/>
            <a:ext cx="2111760" cy="6426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4110120"/>
            <a:ext cx="17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Usuario Fin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canism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a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0960" y="4110120"/>
            <a:ext cx="162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Diseñ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5600" y="411012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Programa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goritmo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ructura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os, lengu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61240" y="4110120"/>
            <a:ext cx="163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Mantened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quitectur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ncionalid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nguaj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971440"/>
            <a:ext cx="2362320" cy="106668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52680" y="2971440"/>
            <a:ext cx="76212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876920" y="2971440"/>
            <a:ext cx="45720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409720" y="2971440"/>
            <a:ext cx="2210040" cy="114300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0C8-CC71-4947-8F80-CE068396C7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en Otras Áre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quite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plano de una casa descri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rien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maño relativo de las habit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no incluy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eriales de construc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lores de las pare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s eléct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s, capacitores, etc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uacion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incluy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istencia de los cone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0A5-173B-4E0D-A2A2-6B7D87F700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57200" y="1752480"/>
            <a:ext cx="4267080" cy="2590920"/>
            <a:chOff x="457200" y="1752480"/>
            <a:chExt cx="4267080" cy="2590920"/>
          </a:xfrm>
        </p:grpSpPr>
        <p:sp>
          <p:nvSpPr>
            <p:cNvPr id="169" name=""/>
            <p:cNvSpPr/>
            <p:nvPr/>
          </p:nvSpPr>
          <p:spPr>
            <a:xfrm>
              <a:off x="457200" y="1752480"/>
              <a:ext cx="4267080" cy="2590920"/>
            </a:xfrm>
            <a:prstGeom prst="cloudCallout">
              <a:avLst>
                <a:gd name="adj1" fmla="val -21351"/>
                <a:gd name="adj2" fmla="val 31555"/>
              </a:avLst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36760" y="2478240"/>
              <a:ext cx="23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Requerimi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4267080"/>
            <a:ext cx="2133720" cy="2057400"/>
            <a:chOff x="5867280" y="4267080"/>
            <a:chExt cx="2133720" cy="2057400"/>
          </a:xfrm>
        </p:grpSpPr>
        <p:sp>
          <p:nvSpPr>
            <p:cNvPr id="172" name=""/>
            <p:cNvSpPr/>
            <p:nvPr/>
          </p:nvSpPr>
          <p:spPr>
            <a:xfrm>
              <a:off x="5867280" y="4267080"/>
              <a:ext cx="2133720" cy="2057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26840" y="4875120"/>
              <a:ext cx="166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Modelo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5400" y="2715840"/>
            <a:ext cx="4017240" cy="2505240"/>
            <a:chOff x="2525400" y="2715840"/>
            <a:chExt cx="4017240" cy="2505240"/>
          </a:xfrm>
        </p:grpSpPr>
        <p:sp>
          <p:nvSpPr>
            <p:cNvPr id="175" name=""/>
            <p:cNvSpPr/>
            <p:nvPr/>
          </p:nvSpPr>
          <p:spPr>
            <a:xfrm rot="17788800">
              <a:off x="4159080" y="191088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651200">
              <a:off x="3270960" y="353196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7DC-F123-4CDD-8134-F8CA17425A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Software es una Abstrac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5486400"/>
            <a:ext cx="5486400" cy="533520"/>
          </a:xfrm>
          <a:prstGeom prst="rect">
            <a:avLst/>
          </a:prstGeom>
          <a:solidFill>
            <a:srgbClr val="f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800600"/>
            <a:ext cx="5486400" cy="533520"/>
          </a:xfrm>
          <a:prstGeom prst="rect">
            <a:avLst/>
          </a:prstGeom>
          <a:solidFill>
            <a:srgbClr val="d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4114800"/>
            <a:ext cx="5486400" cy="533520"/>
          </a:xfrm>
          <a:prstGeom prst="rect">
            <a:avLst/>
          </a:prstGeom>
          <a:solidFill>
            <a:srgbClr val="c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486400" cy="533520"/>
          </a:xfrm>
          <a:prstGeom prst="rect">
            <a:avLst/>
          </a:prstGeom>
          <a:solidFill>
            <a:srgbClr val="b4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NGUAJE DE ALT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743200"/>
            <a:ext cx="5486400" cy="533520"/>
          </a:xfrm>
          <a:prstGeom prst="rect">
            <a:avLst/>
          </a:prstGeom>
          <a:solidFill>
            <a:srgbClr val="a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DE CÓDI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057400"/>
            <a:ext cx="5486400" cy="533520"/>
          </a:xfrm>
          <a:prstGeom prst="rect">
            <a:avLst/>
          </a:prstGeom>
          <a:solidFill>
            <a:srgbClr val="8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FICACIÓN DE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14080" y="1967040"/>
            <a:ext cx="752040" cy="4115160"/>
            <a:chOff x="514080" y="1967040"/>
            <a:chExt cx="752040" cy="4115160"/>
          </a:xfrm>
        </p:grpSpPr>
        <p:sp>
          <p:nvSpPr>
            <p:cNvPr id="185" name=""/>
            <p:cNvSpPr/>
            <p:nvPr/>
          </p:nvSpPr>
          <p:spPr>
            <a:xfrm rot="10797600">
              <a:off x="515520" y="1967040"/>
              <a:ext cx="749160" cy="4114800"/>
            </a:xfrm>
            <a:prstGeom prst="downArrow">
              <a:avLst>
                <a:gd name="adj1" fmla="val 50000"/>
                <a:gd name="adj2" fmla="val 13731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60000">
              <a:off x="-11880" y="422424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bstr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A3B-707E-41AA-8364-3DDE05DB95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bstracción de 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entario en el encabezado describe una abstracción de la funcionalidad del proced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de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estimación del costo de desarrollo se realiza considerando los principales fa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son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ca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pamien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D51-8372-4FF8-AE87-CFFAABA21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5.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mantenibilidad es una cualidad deseable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cción de err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r la funcion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ar software fácilmente mantenible no es gra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ipar el cómo y dónde van a ocurrir los camb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der de modo que haga fácil la aplicación de futuros camb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e principio se aplica generalmente en la etapa de diseño del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lugares que van a cambiar se aíslan de modo que los cambios no afecten otras porciones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9A3-F44F-4A75-8C0D-D4689D2640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lgunos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a sistemática de abordar una a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técnicos y restringidos que los mét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ción de métodos y técnicas para guiar el proceso de resolución de un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rrami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rna y fuerza la metodología (métodos y técnic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A7A-165B-4FC6-B69B-9FACDFDF8F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 Único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plicaciones de software se desarrollan a pesar de que sus requerimientos muchas veces no se han comprendido compl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pués de instalado el sistema, el usuario realiza comentarios que dan lugar a cambios y aju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organizaciones se ven afectadas por la instalación de un nuevo sistema, de modo que los requerimientos cambian con su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anticipación de los cambios es casi la única forma de abordar esta situación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177-07CC-422C-81B4-D0983884BE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utilización y Anticipación del Cambi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reusable si puede ser utilizada para construir un nuevo sistema de software (sin cambios o con cambios míni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utilización es una evolución en pequeña escala, a nivel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uede anticiparse los contextos en que la componente será utilizada, se la diseña de modo de poder acomodar fácilmente los cambios neces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3FD-7815-4119-A25B-E9F39EF60E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ntrol de la Configur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4724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en las componentes deben ser registrados y almacen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sistema debe tener la versión apropiada de cada una de su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figuración consistente debe también ser almace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herramientas son esen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28600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581280"/>
            <a:ext cx="1067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3581280"/>
            <a:ext cx="106668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81480" y="4800600"/>
            <a:ext cx="60984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480060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800600"/>
            <a:ext cx="609480" cy="6094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7" idx="2"/>
            <a:endCxn id="198" idx="0"/>
          </p:cNvCxnSpPr>
          <p:nvPr/>
        </p:nvCxnSpPr>
        <p:spPr>
          <a:xfrm flipH="1">
            <a:off x="579096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7" name=""/>
          <p:cNvCxnSpPr>
            <a:stCxn id="197" idx="2"/>
            <a:endCxn id="199" idx="0"/>
          </p:cNvCxnSpPr>
          <p:nvPr/>
        </p:nvCxnSpPr>
        <p:spPr>
          <a:xfrm>
            <a:off x="7086240" y="2990520"/>
            <a:ext cx="108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8" name=""/>
          <p:cNvCxnSpPr>
            <a:stCxn id="197" idx="2"/>
            <a:endCxn id="200" idx="0"/>
          </p:cNvCxnSpPr>
          <p:nvPr/>
        </p:nvCxnSpPr>
        <p:spPr>
          <a:xfrm>
            <a:off x="7086600" y="2990520"/>
            <a:ext cx="1296000" cy="57204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09" name=""/>
          <p:cNvCxnSpPr>
            <a:stCxn id="198" idx="2"/>
            <a:endCxn id="201" idx="0"/>
          </p:cNvCxnSpPr>
          <p:nvPr/>
        </p:nvCxnSpPr>
        <p:spPr>
          <a:xfrm flipH="1">
            <a:off x="548568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98" idx="2"/>
            <a:endCxn id="202" idx="0"/>
          </p:cNvCxnSpPr>
          <p:nvPr/>
        </p:nvCxnSpPr>
        <p:spPr>
          <a:xfrm>
            <a:off x="5791320" y="4286160"/>
            <a:ext cx="3052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1" name=""/>
          <p:cNvCxnSpPr>
            <a:stCxn id="199" idx="2"/>
            <a:endCxn id="203" idx="0"/>
          </p:cNvCxnSpPr>
          <p:nvPr/>
        </p:nvCxnSpPr>
        <p:spPr>
          <a:xfrm flipH="1">
            <a:off x="6780960" y="4286160"/>
            <a:ext cx="30564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cxnSp>
        <p:nvCxnSpPr>
          <p:cNvPr id="212" name=""/>
          <p:cNvCxnSpPr>
            <a:stCxn id="199" idx="2"/>
            <a:endCxn id="204" idx="0"/>
          </p:cNvCxnSpPr>
          <p:nvPr/>
        </p:nvCxnSpPr>
        <p:spPr>
          <a:xfrm>
            <a:off x="7086240" y="4285800"/>
            <a:ext cx="3056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200" idx="2"/>
            <a:endCxn id="205" idx="0"/>
          </p:cNvCxnSpPr>
          <p:nvPr/>
        </p:nvCxnSpPr>
        <p:spPr>
          <a:xfrm>
            <a:off x="8381520" y="4286160"/>
            <a:ext cx="1080" cy="496080"/>
          </a:xfrm>
          <a:prstGeom prst="straightConnector1">
            <a:avLst/>
          </a:prstGeom>
          <a:ln w="38160">
            <a:solidFill>
              <a:srgbClr val="3333cc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562-E17F-41E5-97AD-1E2327C6D7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Anticipación en el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anticiparse acciones en caso de cambio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debe considerarse el mantenimiento para la estimación de costos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considerarse la construcción de componentes reutilizables como parte del proyecto o como un proyecto paral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0FFC-9B6F-491B-9B60-3FF8393538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lgoritmo de Sor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mos un algoritmo de ordenamiento, por ejemplo QuickS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posibles cambios en una componente que implemente este 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 en el tipo de datos a orden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antidad de datos es tan grande que deben almacenarse en dis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consideraciones haría para prever este tipo de cambi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119-82E0-4823-A829-18190AE3CF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30120" y="5865840"/>
            <a:ext cx="798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que evaluar la conveniencia de una solució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20" y="595944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6. Gener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vez que deba resolver un problema, trate de concentrarse en descubrir un problema más general que se esconde bajo el problema particul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de suceder que el problema generalizado sea más sencillo que el origi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solución más general es potencialmente más reutiliz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66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nclusive posible que ya exista una solución general dispon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es posible que la solución general sea invocada en varias circunstancias en la aplicación en lugar de tener varias soluciones particu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o contrapartida, una solución general puede ser menos eficiente (ejecución, uso de memoria, tiempo de desarroll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9CA-D144-4835-840A-5672B60B2B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7010280" y="1752480"/>
            <a:ext cx="1599840" cy="4800240"/>
            <a:chOff x="7010280" y="1752480"/>
            <a:chExt cx="1599840" cy="4800240"/>
          </a:xfrm>
        </p:grpSpPr>
        <p:sp>
          <p:nvSpPr>
            <p:cNvPr id="224" name=""/>
            <p:cNvSpPr/>
            <p:nvPr/>
          </p:nvSpPr>
          <p:spPr>
            <a:xfrm>
              <a:off x="7010280" y="1752480"/>
              <a:ext cx="48708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23400" y="1752480"/>
              <a:ext cx="486720" cy="1728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36320" y="3928680"/>
              <a:ext cx="487080" cy="26240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5804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984080" y="3544560"/>
              <a:ext cx="347760" cy="255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Intercalar dos Archiv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ea intercalar dos archivos ordenados para obtener un único archivo orden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abe que no existen claves dupl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desarrolla un algoritmo que acepte también claves duplicadas, habrá una mayor cantidad de casos para reusar el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existe un algoritmo para esta tarea que puede tom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D17-487C-493C-BE69-13F2CED7E2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Generalidad e Indust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generalidad es esencial si se intenta desarrollar herramientas o paquetes para comerci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ás generalidad implica más aplicaciones y por lo tanto más potenciales compr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gurar un producto general es más fácil, rápido y barato que desarrollar una aplicación a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dencia natural en todas las áreas de la ingenie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ropa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s a med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812-B5D2-48B9-B975-13CA1FD379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7. Increment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proceso es incremental si se compone de pequeños pasos (increment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se logra como una sucesión de aproximaciones construidas cada una sobre l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software, un proceso de desarrollo es incremental si se aplica el modelo Evolutivo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662-F9CF-4826-9FB3-5DD830D598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048120" y="280188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651480" y="165744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ciona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conjun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29200" y="523872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r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ncio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74080" y="5162400"/>
            <a:ext cx="2049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entarios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uario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seguir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23E-4071-4E73-AF50-E1D7CE730A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447920" y="2057400"/>
            <a:ext cx="6705360" cy="3652920"/>
            <a:chOff x="1447920" y="2057400"/>
            <a:chExt cx="6705360" cy="3652920"/>
          </a:xfrm>
        </p:grpSpPr>
        <p:sp>
          <p:nvSpPr>
            <p:cNvPr id="53" name=""/>
            <p:cNvSpPr/>
            <p:nvPr/>
          </p:nvSpPr>
          <p:spPr>
            <a:xfrm>
              <a:off x="1447920" y="2155680"/>
              <a:ext cx="6705360" cy="3554640"/>
            </a:xfrm>
            <a:prstGeom prst="flowChartAlternateProcess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22760" y="205740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Herrami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laciones entre concep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989000" y="2716200"/>
            <a:ext cx="5623200" cy="2994120"/>
            <a:chOff x="1989000" y="2716200"/>
            <a:chExt cx="5623200" cy="2994120"/>
          </a:xfrm>
        </p:grpSpPr>
        <p:sp>
          <p:nvSpPr>
            <p:cNvPr id="57" name=""/>
            <p:cNvSpPr/>
            <p:nvPr/>
          </p:nvSpPr>
          <p:spPr>
            <a:xfrm>
              <a:off x="1989000" y="2814480"/>
              <a:ext cx="5623200" cy="2895840"/>
            </a:xfrm>
            <a:prstGeom prst="flowChartAlternateProcess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30760" y="271620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etodologí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637000" y="3368520"/>
            <a:ext cx="4327200" cy="2341800"/>
            <a:chOff x="2637000" y="3368520"/>
            <a:chExt cx="4327200" cy="2341800"/>
          </a:xfrm>
        </p:grpSpPr>
        <p:sp>
          <p:nvSpPr>
            <p:cNvPr id="60" name=""/>
            <p:cNvSpPr/>
            <p:nvPr/>
          </p:nvSpPr>
          <p:spPr>
            <a:xfrm>
              <a:off x="2637000" y="3471840"/>
              <a:ext cx="4327200" cy="2238480"/>
            </a:xfrm>
            <a:prstGeom prst="flowChartAlternateProcess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4600" y="3368520"/>
              <a:ext cx="289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Métodos y Técn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286080" y="4130640"/>
            <a:ext cx="3029040" cy="1579680"/>
            <a:chOff x="3286080" y="4130640"/>
            <a:chExt cx="3029040" cy="1579680"/>
          </a:xfrm>
        </p:grpSpPr>
        <p:sp>
          <p:nvSpPr>
            <p:cNvPr id="63" name=""/>
            <p:cNvSpPr/>
            <p:nvPr/>
          </p:nvSpPr>
          <p:spPr>
            <a:xfrm>
              <a:off x="3286080" y="4130640"/>
              <a:ext cx="3029040" cy="1579680"/>
            </a:xfrm>
            <a:prstGeom prst="flowChartAlternateProcess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7840" y="4164120"/>
              <a:ext cx="149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Arial"/>
                </a:rPr>
                <a:t>Princip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D22E-F673-43E1-957C-ECD807D864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esarrollo Incremental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controlado cuando los requerimientos no son estables o completamente cl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 parte de los casos es imposible tener todos los requerimientos al momento de comenzar 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larificación de los requerimientos surge como consecuencia de la experimentación con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troalimentación permite desarrollar 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á íntimamente relacionado con la anticipación del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3AC-39DA-4BD9-843A-36599A0839C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crementalidad de Cua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stados intermedios del sistema pueden considerarse prototipos del sistema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trol de la configuración resulta también esencial para administrar la increment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oluc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bust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1520" y="26049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re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20574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19"/>
                </a:lnTo>
                <a:cubicBezTo>
                  <a:pt x="10800" y="10519"/>
                  <a:pt x="5400" y="11419"/>
                  <a:pt x="0" y="11419"/>
                </a:cubicBezTo>
                <a:cubicBezTo>
                  <a:pt x="5400" y="11419"/>
                  <a:pt x="10800" y="12319"/>
                  <a:pt x="10800" y="1321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525-F465-4264-AC97-8899D60CF2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320" y="20574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1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gor y form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2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paración de inter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3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odu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4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bs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5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nticipación del cam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6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Gener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cc33"/>
                </a:solidFill>
                <a:latin typeface="Arial"/>
              </a:rPr>
              <a:t>7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remen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8F9-959A-4F32-82EF-BC0F1602FE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1. 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3124080"/>
            <a:ext cx="2583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ookman Old Style"/>
              </a:rPr>
              <a:t>Creativida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69" name=""/>
          <p:cNvSpPr/>
          <p:nvPr/>
        </p:nvSpPr>
        <p:spPr>
          <a:xfrm>
            <a:off x="5880600" y="3200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ormal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352680"/>
            <a:ext cx="2133720" cy="304920"/>
          </a:xfrm>
          <a:prstGeom prst="leftRightArrow">
            <a:avLst>
              <a:gd name="adj1" fmla="val 50000"/>
              <a:gd name="adj2" fmla="val 13930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1520" y="253836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62720" y="3962520"/>
            <a:ext cx="3124080" cy="2028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22734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BAF-A590-4D27-A0C0-7B3ADE254F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05320"/>
            <a:ext cx="7467480" cy="1066680"/>
          </a:xfrm>
          <a:custGeom>
            <a:avLst/>
            <a:gdLst>
              <a:gd name="textAreaLeft" fmla="*/ 680040 w 7467480"/>
              <a:gd name="textAreaRight" fmla="*/ 6787440 w 7467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665" y="5400"/>
                </a:lnTo>
                <a:lnTo>
                  <a:pt x="17665" y="0"/>
                </a:lnTo>
                <a:lnTo>
                  <a:pt x="21600" y="10800"/>
                </a:lnTo>
                <a:lnTo>
                  <a:pt x="17665" y="21600"/>
                </a:lnTo>
                <a:lnTo>
                  <a:pt x="17665" y="16200"/>
                </a:lnTo>
                <a:lnTo>
                  <a:pt x="0" y="16200"/>
                </a:lnTo>
                <a:lnTo>
                  <a:pt x="196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ffcc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5160" y="297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6440" y="2970360"/>
            <a:ext cx="10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g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9480" y="2970360"/>
            <a:ext cx="19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115-FACD-431B-90CF-B3314613ED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y Formalidad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serie de p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d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s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h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ada paso se aplica alguna té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écnica aplicada depend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s teóricos derivados de un modelo de la realida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justes empíricos para casos no cubiertos por el mode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del desarroll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mezcla define una metodología que puede usarse repeti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26C-AA0C-4123-87C0-3041B7A4F8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igor o Formalism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grado de formalismo usado en cada paso depende de varios fac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periencia en el área de desarroll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án crítico es el produc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en ejec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necesario que el desarrollador sepa decidir sobre el grado de formalidad necesario para cada paso del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24D-FA57-46CC-8ECB-E7B363933A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2-06-20T13:34:06Z</cp:lastPrinted>
  <dcterms:modified xsi:type="dcterms:W3CDTF">2008-08-12T18:24:55Z</dcterms:modified>
  <cp:revision>25</cp:revision>
  <dc:subject/>
  <dc:title>CC31B: Desarrollo de Software de Aplicaciones</dc:title>
</cp:coreProperties>
</file>