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278688" cy="9564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B505-B637-488C-AC2C-DC67A5E1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C6F4-3E05-455E-B06C-0300EDFA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78F2-F506-4F1E-BE67-593F5A66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B4A5-5C3F-41F7-9761-EE585360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1BA3-345F-41C5-89C9-9B87C3B4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1D94-368D-4160-A225-0EC46FC1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88B-7CF7-49DB-8B37-A704245C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6244-7FE3-4010-97B2-214C3068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D1E8-87C6-458F-9618-A4768A0E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D1BA-0928-4AA9-9D84-961C9C0D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CF21-DF7C-41DA-93E2-B3EF1122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2507-F3C6-4F69-86B8-53C2107C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cc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1FCB-4CE9-4F22-B26D-D167A03F34D8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ualidades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a50021"/>
                </a:solidFill>
                <a:latin typeface="Arial"/>
              </a:rPr>
              <a:t>¿Qué es un buen softw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495440" cy="1623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520" y="1752480"/>
            <a:ext cx="8076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portable si puede ejecutarse en </a:t>
            </a:r>
            <a:br>
              <a:rPr sz="2400"/>
            </a:b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distintos ambientes (hardware, sistemas operativos, etc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Port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na forma de lograr portabilidad es suponer la mínima configu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o penaliza los sistemas que podrían ejecutar mejor haciendo uso del ambiente dispon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Otra opción es determinar sobre la marcha las disponibilidades del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F85F-9ADF-4734-B5A6-D50A413E70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391520" y="304920"/>
            <a:ext cx="1268280" cy="1674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46280" y="1716120"/>
            <a:ext cx="72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istema es interoperable si puede coexistir y cooperar con otros sist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Interoper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s componentes reutilizables son (deben ser) inherentemente interoper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estandarización de las interfaces promueve la interoper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s sistemas abiertos son casos típicos de sistemas interoper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3FC5-D5C5-4AFB-B5A9-B9477F24D74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781680" y="396720"/>
            <a:ext cx="2057400" cy="1965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65040" y="1792440"/>
            <a:ext cx="679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La productividad es la eficiencia del proceso de desarrollo del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Productiv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productividad de un equipo de desarrollo es generalmente menor que la suma de las productividades individ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xisten métricas para medir la productividad (LOC, puntos de función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automatización y el soporte de software de desarrollo aumentan la produc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5BC-7C29-4240-8C6B-DBA9EBC3222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229520" y="228600"/>
            <a:ext cx="1533600" cy="1752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127160" y="1828800"/>
            <a:ext cx="59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El proceso de desarrollo debe obtener su producto en el tiempo plane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A Tiemp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ener el producto a tiempo da, en general, una mejor oportunidad comercial, y a veces hace que el producto sea útil o inút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ener un producto a tiempo sin confiabilidad o eficiencia tampoco es út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equi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stimación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hitos verific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F2EB-7C75-4F8E-B761-453536C8E13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162920" y="457200"/>
            <a:ext cx="1274760" cy="1370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65040" y="1944720"/>
            <a:ext cx="786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proceso de desarrollo de software es visible si todos sus pasos están claramente documentados, y se puede saber su estado de avance en cada mo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Visi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seño, testing, codificación e integración pueden suceder simultáneamente, pero deben coordina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visibilidad ayuda a evaluar el impacto de las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ambién es esencial cuando existe rotación en el pers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A8C1-562F-40FB-A736-3252CB8FA4D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175248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Medida de la relación entre las partes de una compo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ohes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incident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no relacion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Lóg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funciones simil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Tempor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ejecución simultá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rocedur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secuencia de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municacion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mparten el in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25909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Secuenc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output de uno es input del o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Funcion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todas las partes son necesarias para la fun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Obje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todas las acciones actúan sobre los mismos datos del obj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0379-25AB-4341-A512-8D3F19ADFFE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Acopl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320004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200" spc="-1" strike="noStrike">
                <a:solidFill>
                  <a:srgbClr val="000000"/>
                </a:solidFill>
                <a:latin typeface="Arial"/>
              </a:rPr>
              <a:t>Sistemas muy acopl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mparten variables o información de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200" spc="-1" strike="noStrike">
                <a:solidFill>
                  <a:srgbClr val="000000"/>
                </a:solidFill>
                <a:latin typeface="Arial"/>
              </a:rPr>
              <a:t>Sistemas desacopl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interfaces definidas con listas de paráme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00800" y="1066680"/>
            <a:ext cx="2168280" cy="1810800"/>
            <a:chOff x="6400800" y="1066680"/>
            <a:chExt cx="2168280" cy="1810800"/>
          </a:xfrm>
        </p:grpSpPr>
        <p:sp>
          <p:nvSpPr>
            <p:cNvPr id="113" name=""/>
            <p:cNvSpPr/>
            <p:nvPr/>
          </p:nvSpPr>
          <p:spPr>
            <a:xfrm>
              <a:off x="6400800" y="1066680"/>
              <a:ext cx="2136600" cy="1224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04200" y="106668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00800" y="1677960"/>
              <a:ext cx="213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65960" y="1542960"/>
              <a:ext cx="276120" cy="747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69200" y="122544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72240" y="1270080"/>
              <a:ext cx="93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69200" y="18828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18288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66000" y="2357280"/>
              <a:ext cx="116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400" spc="-1" strike="noStrike">
                  <a:solidFill>
                    <a:srgbClr val="000000"/>
                  </a:solidFill>
                  <a:latin typeface="Times New Roman"/>
                </a:rPr>
                <a:t>Área de da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400" spc="-1" strike="noStrike">
                  <a:solidFill>
                    <a:srgbClr val="000000"/>
                  </a:solidFill>
                  <a:latin typeface="Times New Roman"/>
                </a:rPr>
                <a:t>comparti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410080" y="3429000"/>
            <a:ext cx="3353040" cy="2897640"/>
            <a:chOff x="5410080" y="3429000"/>
            <a:chExt cx="3353040" cy="2897640"/>
          </a:xfrm>
        </p:grpSpPr>
        <p:sp>
          <p:nvSpPr>
            <p:cNvPr id="123" name=""/>
            <p:cNvSpPr/>
            <p:nvPr/>
          </p:nvSpPr>
          <p:spPr>
            <a:xfrm>
              <a:off x="6477120" y="3429000"/>
              <a:ext cx="121896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77120" y="3733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29400" y="34290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30120" y="3733560"/>
              <a:ext cx="10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10080" y="4495680"/>
              <a:ext cx="121932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10080" y="4800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62720" y="4495680"/>
              <a:ext cx="93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63080" y="480060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43800" y="4495680"/>
              <a:ext cx="121932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43800" y="4800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96080" y="449568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96800" y="4800600"/>
              <a:ext cx="10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10080" y="5715000"/>
              <a:ext cx="121932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10080" y="6019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62720" y="57150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63440" y="6019560"/>
              <a:ext cx="10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stCxn id="123" idx="2"/>
              <a:endCxn id="127" idx="0"/>
            </p:cNvCxnSpPr>
            <p:nvPr/>
          </p:nvCxnSpPr>
          <p:spPr>
            <a:xfrm flipH="1">
              <a:off x="6019200" y="4038480"/>
              <a:ext cx="106740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"/>
            <p:cNvCxnSpPr>
              <a:stCxn id="126" idx="2"/>
              <a:endCxn id="131" idx="0"/>
            </p:cNvCxnSpPr>
            <p:nvPr/>
          </p:nvCxnSpPr>
          <p:spPr>
            <a:xfrm>
              <a:off x="7137360" y="4038480"/>
              <a:ext cx="101664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" name=""/>
            <p:cNvCxnSpPr>
              <a:stCxn id="127" idx="2"/>
              <a:endCxn id="135" idx="0"/>
            </p:cNvCxnSpPr>
            <p:nvPr/>
          </p:nvCxnSpPr>
          <p:spPr>
            <a:xfrm>
              <a:off x="6019560" y="5105160"/>
              <a:ext cx="1080" cy="610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18284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Medida de la interdependencia de distintas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C55D-19D1-422D-8460-B1B14CBFA70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553080" y="2514600"/>
            <a:ext cx="1069920" cy="230184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6629400" y="762120"/>
            <a:ext cx="2209680" cy="1904400"/>
            <a:chOff x="6629400" y="762120"/>
            <a:chExt cx="2209680" cy="1904400"/>
          </a:xfrm>
        </p:grpSpPr>
        <p:sp>
          <p:nvSpPr>
            <p:cNvPr id="145" name=""/>
            <p:cNvSpPr/>
            <p:nvPr/>
          </p:nvSpPr>
          <p:spPr>
            <a:xfrm>
              <a:off x="6629400" y="1066680"/>
              <a:ext cx="30456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34160" y="12189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81680" y="21333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81880" y="23619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38880" y="16761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76212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>
              <a:stCxn id="145" idx="0"/>
              <a:endCxn id="150" idx="1"/>
            </p:cNvCxnSpPr>
            <p:nvPr/>
          </p:nvCxnSpPr>
          <p:spPr>
            <a:xfrm flipH="1" flipV="1" rot="5400000">
              <a:off x="7391160" y="304200"/>
              <a:ext cx="152640" cy="1372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" name=""/>
            <p:cNvCxnSpPr>
              <a:stCxn id="145" idx="2"/>
              <a:endCxn id="147" idx="0"/>
            </p:cNvCxnSpPr>
            <p:nvPr/>
          </p:nvCxnSpPr>
          <p:spPr>
            <a:xfrm flipH="1" rot="16200000">
              <a:off x="6476040" y="1675800"/>
              <a:ext cx="762120" cy="1530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45" idx="3"/>
              <a:endCxn id="148" idx="0"/>
            </p:cNvCxnSpPr>
            <p:nvPr/>
          </p:nvCxnSpPr>
          <p:spPr>
            <a:xfrm>
              <a:off x="6933600" y="1218960"/>
              <a:ext cx="1600920" cy="1143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"/>
            <p:cNvCxnSpPr>
              <a:stCxn id="149" idx="0"/>
              <a:endCxn id="146" idx="2"/>
            </p:cNvCxnSpPr>
            <p:nvPr/>
          </p:nvCxnSpPr>
          <p:spPr>
            <a:xfrm flipH="1" flipV="1" rot="5400000">
              <a:off x="7962480" y="951480"/>
              <a:ext cx="152640" cy="1296360"/>
            </a:xfrm>
            <a:prstGeom prst="curvedConnector5">
              <a:avLst>
                <a:gd name="adj1" fmla="val 49881"/>
                <a:gd name="adj2" fmla="val 50000"/>
                <a:gd name="adj3" fmla="val 4988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"/>
            <p:cNvCxnSpPr>
              <a:stCxn id="147" idx="3"/>
              <a:endCxn id="148" idx="1"/>
            </p:cNvCxnSpPr>
            <p:nvPr/>
          </p:nvCxnSpPr>
          <p:spPr>
            <a:xfrm>
              <a:off x="7086600" y="2286000"/>
              <a:ext cx="1296000" cy="228960"/>
            </a:xfrm>
            <a:prstGeom prst="curvedConnector5">
              <a:avLst>
                <a:gd name="adj1" fmla="val 49986"/>
                <a:gd name="adj2" fmla="val 49921"/>
                <a:gd name="adj3" fmla="val 4998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"/>
            <p:cNvCxnSpPr>
              <a:stCxn id="149" idx="1"/>
              <a:endCxn id="145" idx="3"/>
            </p:cNvCxnSpPr>
            <p:nvPr/>
          </p:nvCxnSpPr>
          <p:spPr>
            <a:xfrm rot="10800000">
              <a:off x="6933240" y="1218240"/>
              <a:ext cx="305640" cy="610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" name=""/>
            <p:cNvCxnSpPr>
              <a:stCxn id="149" idx="3"/>
              <a:endCxn id="148" idx="1"/>
            </p:cNvCxnSpPr>
            <p:nvPr/>
          </p:nvCxnSpPr>
          <p:spPr>
            <a:xfrm>
              <a:off x="7543800" y="1828800"/>
              <a:ext cx="838800" cy="686160"/>
            </a:xfrm>
            <a:prstGeom prst="curvedConnector5">
              <a:avLst>
                <a:gd name="adj1" fmla="val 49978"/>
                <a:gd name="adj2" fmla="val 49973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" name=""/>
            <p:cNvCxnSpPr>
              <a:stCxn id="150" idx="2"/>
              <a:endCxn id="147" idx="3"/>
            </p:cNvCxnSpPr>
            <p:nvPr/>
          </p:nvCxnSpPr>
          <p:spPr>
            <a:xfrm rot="5400000">
              <a:off x="7085880" y="1066680"/>
              <a:ext cx="1219680" cy="12196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59" name=""/>
          <p:cNvSpPr/>
          <p:nvPr/>
        </p:nvSpPr>
        <p:spPr>
          <a:xfrm>
            <a:off x="838080" y="182880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Un sistema es comprensible si es fácil comprender cómo funci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omprensi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274284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aracterísticas que afectan la comprensibilidad del sist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hesión y acop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nom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Si un sistema es comprensible, es también más mantenible y verific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esde el punto de vista del usuario, ser comprensible es ser amigable y robu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0F89-B25E-4BD9-B6C1-B187751C93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486080" cy="15019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Manteni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251460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Tipos de mantenimi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rrectivo (aprox. 2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adaptativo (aprox. 2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erfectivo (más de 5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Software Manten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eparable: que permite corregir defect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volucionable: facilita la introducción de nuevas funcional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55640" y="25146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ondi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número de component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acoplamient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mple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mprensib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al dí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uso de componentes está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evolucionabilidad decrece con cada versión del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905120"/>
            <a:ext cx="6705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Un sistema es mantenible si es fácil modific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4E06-F771-41BD-B7A9-98BB6BBA6D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ualidades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rrec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nfi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obus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fici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Amig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Verific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eus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ort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Interoper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roduc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A Tiem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he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Desacopl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mpren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Manten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96080" y="4343400"/>
            <a:ext cx="1127160" cy="1585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7F72-9313-4FC2-B370-521BDD871C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Correc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2819520"/>
            <a:ext cx="5257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definición sup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existencia de un especificación de 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posibilidad de determinar sin ambigüedad la correspondencia entre la especificación y el dis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orrectitud del software puede comprobarse probándolo o mediante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990720"/>
            <a:ext cx="1752840" cy="17524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specificació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2819520"/>
            <a:ext cx="381240" cy="1295280"/>
          </a:xfrm>
          <a:prstGeom prst="upDownArrow">
            <a:avLst>
              <a:gd name="adj1" fmla="val 50000"/>
              <a:gd name="adj2" fmla="val 6763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4191120"/>
            <a:ext cx="1752840" cy="17524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828800"/>
            <a:ext cx="6476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correcto si se comporta de acuerdo con su espec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DCF8-46DB-4E39-89FF-876AB8EEFD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752480"/>
            <a:ext cx="6095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El software se comporta de acuerdo con lo esperado por el usu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629400" y="533520"/>
            <a:ext cx="2286000" cy="2286000"/>
            <a:chOff x="6629400" y="533520"/>
            <a:chExt cx="2286000" cy="2286000"/>
          </a:xfrm>
        </p:grpSpPr>
        <p:sp>
          <p:nvSpPr>
            <p:cNvPr id="56" name=""/>
            <p:cNvSpPr/>
            <p:nvPr/>
          </p:nvSpPr>
          <p:spPr>
            <a:xfrm>
              <a:off x="6629400" y="533520"/>
              <a:ext cx="2286000" cy="228600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86600" y="914400"/>
              <a:ext cx="1371600" cy="1447920"/>
            </a:xfrm>
            <a:prstGeom prst="ellipse">
              <a:avLst/>
            </a:prstGeom>
            <a:solidFill>
              <a:srgbClr val="49683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cc"/>
                  </a:solidFill>
                  <a:latin typeface="Arial"/>
                </a:rPr>
                <a:t>Correc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64000" y="2332080"/>
              <a:ext cx="125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Conf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450440" y="6173640"/>
            <a:ext cx="66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Clr>
                <a:srgbClr val="cc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00cc"/>
                </a:solidFill>
                <a:latin typeface="Tahoma"/>
              </a:rPr>
              <a:t>Esta es una señal de la inmadurez del á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Confi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3048120"/>
            <a:ext cx="83822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 diferencia de la corrección, la confiabilidad es algo rel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mercado puede admitir algunos errores en el software siempre que en general se comporte en forma esper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No sólo no damos garantías de corrección del software, sino que varios productos incluyen un “disclaime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D71D-F2B1-42BE-809A-39B0641820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467480" y="76320"/>
            <a:ext cx="1506600" cy="2819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robusto si se comporta en forma razonable aún en situaciones no anticip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Robus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29714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atos de entrada incorrectos o fallas de hardware son las situaciones más frecu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antidad de código que se dedica a hacer el software robusto depende de la experiencia de los usuarios o lo crítico de su mi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i algo se especifica como requisito, cumplirlo es cuestión de corrección; si no está en los requisitos es cuestión de robust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F7A4-E191-4625-B4B6-2D1CF99D48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7524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istema de software es eficiente si usa sus recursos en forma econó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Eficienc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27208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uy lento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baja la productividad de los usu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sa mucho disco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puede ser muy caro ejecut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sa mucha memoria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puede afectar la performance de otros 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56000" y="249228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s criterios de eficiencia varían con la tecnología y el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étodos de evaluación de perform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onitore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análisi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imu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No es bueno evaluar la performance sólo después que el producto esta li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1676520" cy="1647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7610-0A64-407B-B888-1E114139F13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1676520"/>
            <a:ext cx="6019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amigable si sus usuarios lo encuentran fácil de utiliz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Amig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2819520"/>
            <a:ext cx="41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interfaz con el usuario es parte esencial del ser amig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epende de los usua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novicios: mejor largos mensajes explica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xpertos: aprecian los ataj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281952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s sistemas insertos son amigables si son fáciles de configur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onsistencia de las interfaces es un factor determin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ambién la performance y la confi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715000" y="380880"/>
            <a:ext cx="3138480" cy="1336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617C-9782-47B3-91C9-3636E84ED17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080" y="175248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El software es verificable si sus propiedades pueden ser comprob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Verific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809880" cy="31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orrección y la performance pueden verificarse fáci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verificación puede hacerse mediante análisis o tes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2971800"/>
            <a:ext cx="4100400" cy="31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ás verific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onitores en el códi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iseño modul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isciplina en la codificació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enguaje de programación adecu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55AA-8216-48F8-AFAE-C312EE6EF7F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086600" y="304920"/>
            <a:ext cx="1752480" cy="1676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14400" y="1752480"/>
            <a:ext cx="6324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Software ya construido se usa con pocos o ningún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Reus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2707920"/>
            <a:ext cx="42447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reutilización es más apropiada para componentes que para sistemas compl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s bibliotecas (¿librerías?) científicas FORTRAN son los ejemplos más antiguos. Java APIs son ejemplos más nue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2852280"/>
            <a:ext cx="431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reuso es una cualidad difícil (¿imposible?) de conseguir a posterio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orientación a objetos tiene el potencial para mejorar la reutilización y la evol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ambién los patrones de arquitectura y el desarrollo de familias de produ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4B1A-7B9A-4B81-812D-D7653881CF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cecilia</cp:lastModifiedBy>
  <cp:lastPrinted>2005-01-28T19:11:18Z</cp:lastPrinted>
  <dcterms:modified xsi:type="dcterms:W3CDTF">2008-08-05T16:18:36Z</dcterms:modified>
  <cp:revision>20</cp:revision>
  <dc:subject/>
  <dc:title>CC31B: Desarrollo de Software de Aplicaciones</dc:title>
</cp:coreProperties>
</file>