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30C-47B6-4219-B595-C8D49183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86C-C2F0-4C3F-B7CC-CA857589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56A-B919-4630-ACBE-45A11A26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E9E-836A-402B-8119-075C6616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AE2-4D5E-4EC6-9635-F18E9361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4D1-754C-4B07-9A9E-372A13C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90D-D81C-4498-8945-1769BAB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26A-C501-4819-9083-63BEF1D4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F16-69B2-4A74-9D38-BAE70A11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E2A-7F2B-4EA2-BD60-2D10D78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3F6-D543-41B6-AA15-DF203586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145-7738-4993-BEC5-3AE81AA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E4C0-C01C-4A52-AB52-BAAB99B7E88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48D-D735-480A-B532-6C1CC64564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526-BA96-4C55-AE0F-9C30A9AE40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CF0-A7EF-40AB-8444-5BEBB0ADB0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335-1A53-4F65-9873-40E5EA4FFC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7DB-20E9-452E-BC39-31A42C3FA3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C54-02CA-43BE-BFF9-06FDC3E0399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89E-C782-4F0B-B21F-AFFE1C0F0D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4DF-1914-4633-86A8-4965D056C3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1E7-6D7E-45F5-8DFC-5AC86389DB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940-EE96-4B69-8C4B-4C70965702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5D8-82D0-495A-B577-9CF31F1696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11D-E2CF-4EC5-8755-D8829DB2E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32B-31BC-4C65-86F0-7C27D67196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3C7-7B91-44F8-98F8-6F50A0B344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282-42FF-4EE3-9F86-DB907A174E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083-6841-4A7F-9471-3C0E6C9744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A74-7BC3-4E87-98FF-F110F0164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1:18Z</cp:lastPrinted>
  <dcterms:modified xsi:type="dcterms:W3CDTF">2008-08-05T16:18:36Z</dcterms:modified>
  <cp:revision>20</cp:revision>
  <dc:subject/>
  <dc:title>CC31B: Desarrollo de Software de Aplicaciones</dc:title>
</cp:coreProperties>
</file>