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195-813E-4622-B590-2E89E7FE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34A-33BD-4528-B659-24C03043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391-603F-4FA4-B638-C9BAC54D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7DF-1A22-488C-8678-62317482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67B-770D-467A-88B9-0C48FEB8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C49-419F-4680-8D42-00C31BD3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347-F745-4EF6-BC6D-C9A6BEB9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345-945E-4E3F-86B2-C1802C04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D84-F76D-4924-82B3-BABE8480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F22-A129-431E-B60D-0250D5DA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D33-9DB5-49C0-BC50-21C82C80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32D-F087-48EE-B7EC-C64B30C4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F022-DBB4-4454-BA2A-4BBE9B3F49F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Arial"/>
              </a:rPr>
              <a:t>¿Qué es un bue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portable si puede ejecutarse en </a:t>
            </a:r>
            <a:br>
              <a:rPr sz="2400"/>
            </a:b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or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a forma de lograr portabilidad es suponer la mínima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 penaliza los sistemas que podrían ejecutar mejor haciendo uso del ambiente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a opción es determinar sobre la marcha las disponibilidades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AAD-2595-4B73-B209-AD0EED9162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268280" cy="167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6280" y="171612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Interoper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componentes reutilizables son (deben ser) inherentemente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standarización de las interfaces promueve la interop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abiertos son casos típicos de sistemas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427-0210-491D-87A6-2BFDE8E6302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5040" y="17924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roductiv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roductividad de un equipo de desarrollo es generalmente menor que la suma de las productividad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isten métricas para medir la productividad (LOC, puntos de función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automatización y el soporte de software de desarrollo aumen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0C1-EE63-45CF-AFB9-D240C8B323C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7160" y="1828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 Tiemp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el producto a tiempo da, en general, una mejor oportunidad comercial, y a veces hace que el producto sea útil o in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un producto a tiempo sin confiabilidad o eficiencia tampoco es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ima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itos verifi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744-3499-40DB-829E-808F07B586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040" y="19447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i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eño, testing, codificación e integración pueden suceder simultáneamente, pero deben coord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sibilidad ayuda a evaluar el impacto de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es esencial cuando existe rotación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F48-6668-4BC7-803C-C3D1A3C7743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relación entre las partes de un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hes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inciden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o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óg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unciones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po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jecución simult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cedu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cuencia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unica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el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cu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utput de uno es input d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Fun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partes son necesarias para l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Obje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acciones actúan sobre los mismos datos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B3A-CE5C-459F-997D-8C59B05D109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muy 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variables o información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des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terfaces definidas con listas de pará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00800" y="1066680"/>
            <a:ext cx="2168280" cy="1810800"/>
            <a:chOff x="6400800" y="1066680"/>
            <a:chExt cx="2168280" cy="1810800"/>
          </a:xfrm>
        </p:grpSpPr>
        <p:sp>
          <p:nvSpPr>
            <p:cNvPr id="113" name="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9200" y="1225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2240" y="12700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9200" y="1882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1828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6000" y="2357280"/>
              <a:ext cx="11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123" name="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429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30120" y="3733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4956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3080" y="48006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6080" y="44956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800" y="480060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5715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3440" y="6019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3" idx="2"/>
              <a:endCxn id="127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6" idx="2"/>
              <a:endCxn id="131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2"/>
              <a:endCxn id="135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BA3-8CC3-4736-A8AC-D80797944C4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145" name="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5" idx="0"/>
              <a:endCxn id="150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5" idx="2"/>
              <a:endCxn id="147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3"/>
              <a:endCxn id="148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9" idx="0"/>
              <a:endCxn id="146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3"/>
              <a:endCxn id="148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9" idx="1"/>
              <a:endCxn id="145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9" idx="3"/>
              <a:endCxn id="148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50" idx="2"/>
              <a:endCxn id="147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9" name="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mpren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294-F240-483A-9B3F-177D9B4CBC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anten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625-4EFE-45CE-87E2-B8402A0AC5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f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mig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erifi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u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terope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esacop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r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ante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969-8B97-40AF-B582-15F9F8AF95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rrec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definición sup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istencia de un especificación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posibilidad de determinar sin ambigüedad la correspondencia entre la especificación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titud del software puede comprobarse probándolo o mediant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D12-98D1-4500-814D-DD196E49E7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56" name="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nfi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diferencia de la corrección, la confiabilidad es alg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mercado puede admitir algunos errores en el software siempre que en general se comporte en forma es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sólo no damos garantías de corrección del software, sino que varios productos incluyen un “disclaim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FDE-5297-4D54-9CA5-82427C997F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obus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entrada incorrectos o fallas de hardware son las situaciones más frecu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antidad de código que se dedica a hacer el software robusto depende de la experiencia de los usuarios o lo crítico de su 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 algo se especifica como requisito, cumplirlo es cuestión de corrección; si no está en los requisitos es cuestión de robus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868-A5E3-474C-801B-637F5C87AF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Efi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74B-A025-428D-9DE6-1229923C60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mig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09A-0109-49AF-B319-C45860A643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erific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751-F79F-4CE3-96DD-87BED2D95C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Software ya construido se usa con pocos o ningún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eus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bibliotecas (¿librerías?)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10C-24B9-4A27-A415-EE6AB1F8F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1:18Z</cp:lastPrinted>
  <dcterms:modified xsi:type="dcterms:W3CDTF">2008-08-05T16:18:36Z</dcterms:modified>
  <cp:revision>20</cp:revision>
  <dc:subject/>
  <dc:title>CC31B: Desarrollo de Software de Aplicaciones</dc:title>
</cp:coreProperties>
</file>