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2B9-6E7A-4EB3-A174-CC81B513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A474-83B6-40E6-ADB6-5EBD4F17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B38-4150-4613-B5F1-6020066A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489-41BF-4FF7-9C47-E199B76E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27E6-63DB-4416-87AC-929FB603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B91-A88A-4C07-9961-705FF587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20E-C706-420E-AD1A-4E376661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DEEF-191E-401D-9083-0CBFF2B6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692-C5ED-4192-9331-9C4A7393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513-B960-4B48-BA6E-15DF8553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ED4-F04E-4A9E-90D1-D0A67279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AF5-041A-4E60-A65E-7D83F919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DF83-8FC2-48E7-A750-B81ADBC40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C31B: Desarrollo de Software de Aplica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8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f. M. 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ecilia@dcc.uchile.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2514600" cy="2119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Ciencia de la Compu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ciencia de la computación se ocup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las teorías y métodos subyacentes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 las computadoras y los sistemas de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ingeniería de software se refiere a los problemas prácticos de producir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s ingenieros de software requieren conocimiento de ciencias de la computación para realizar su labor, pero su objetivo es pragmát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B96-D4CB-44D4-817F-B1C4A879B0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Definición (I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o, ¿es así como se desarrolla habitualmente la práctica profesional? y ¿por qué sería conveniente que así fu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FC82-6E04-4C03-94FB-B395101288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Definic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strucción de un software con múltiples versiones  por múltiples personas. [Parnas87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031-665C-4370-9323-A5EF071962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68" name="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31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5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C6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IS trata de organizar un buen proceso de desarrollo para lograr un buen product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735F-29A1-4CFC-83FA-6136EE2397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volución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83" name="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96" name="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98" name="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9" name=""/>
              <p:cNvCxnSpPr>
                <a:stCxn id="98" idx="2"/>
                <a:endCxn id="96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0" name="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101" name="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103" name="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4" name=""/>
              <p:cNvCxnSpPr>
                <a:stCxn id="103" idx="0"/>
                <a:endCxn id="101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105" name=""/>
          <p:cNvGrpSpPr/>
          <p:nvPr/>
        </p:nvGrpSpPr>
        <p:grpSpPr>
          <a:xfrm>
            <a:off x="5724360" y="3429000"/>
            <a:ext cx="2969640" cy="1764000"/>
            <a:chOff x="5724360" y="3429000"/>
            <a:chExt cx="2969640" cy="1764000"/>
          </a:xfrm>
        </p:grpSpPr>
        <p:sp>
          <p:nvSpPr>
            <p:cNvPr id="106" name=""/>
            <p:cNvSpPr/>
            <p:nvPr/>
          </p:nvSpPr>
          <p:spPr>
            <a:xfrm>
              <a:off x="5724360" y="3429000"/>
              <a:ext cx="722520" cy="5781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6340680" y="3935880"/>
              <a:ext cx="2353320" cy="1257120"/>
              <a:chOff x="6340680" y="3935880"/>
              <a:chExt cx="2353320" cy="1257120"/>
            </a:xfrm>
          </p:grpSpPr>
          <p:sp>
            <p:nvSpPr>
              <p:cNvPr id="108" name=""/>
              <p:cNvSpPr/>
              <p:nvPr/>
            </p:nvSpPr>
            <p:spPr>
              <a:xfrm>
                <a:off x="6607080" y="4368960"/>
                <a:ext cx="2086920" cy="824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algoritmos, estructur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 datos, 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9" name=""/>
              <p:cNvCxnSpPr>
                <a:stCxn id="108" idx="0"/>
                <a:endCxn id="106" idx="5"/>
              </p:cNvCxnSpPr>
              <p:nvPr/>
            </p:nvCxnSpPr>
            <p:spPr>
              <a:xfrm flipH="1" flipV="1">
                <a:off x="6340680" y="3935880"/>
                <a:ext cx="1310040" cy="433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F26-93B4-4273-806B-1BFC9B4C55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istor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5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gramadores escribían progra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os de los ‘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os desarrollaron grandes proy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s de los ‘6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recen los grandes sistemas comerciales d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rabajo va más allá de la program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crea el término “ingeniería de softwar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308-763A-41CE-892E-BA1B5B8620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ras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BCD-EE95-4661-8752-7A299F9C27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gram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solo programador escribe todo el progra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in the small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programadores aprecian el sistema complet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requiere más tiempo para comunicación que para codif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bios de personal afec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29F-0641-4D18-AA69-88B28AE617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La 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¿Para qué la Ingeniería de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uda a construir grandes sistemas de softwa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yuda a definir claramente los proble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in the large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, organización, herramientas, teorías, metodologías y técnicas como base para resolver los problemas computa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C32-353A-4816-9605-61A56C4D5D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fluencia de la I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037-62B4-40E0-B6F3-ABDD6CD81F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eneralidades del Cur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xiliar: Viernes/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os controles de lecturas, dos controles de materia y un examen f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474E-DCAA-4250-8F24-0C4A13F09C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l del Ingenier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FB63-B7E1-43DC-9621-D8F323FB0A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7619760" y="152280"/>
            <a:ext cx="1447560" cy="1447920"/>
            <a:chOff x="7619760" y="152280"/>
            <a:chExt cx="1447560" cy="1447920"/>
          </a:xfrm>
        </p:grpSpPr>
        <p:sp>
          <p:nvSpPr>
            <p:cNvPr id="139" name=""/>
            <p:cNvSpPr/>
            <p:nvPr/>
          </p:nvSpPr>
          <p:spPr>
            <a:xfrm>
              <a:off x="8146440" y="152280"/>
              <a:ext cx="350640" cy="1447920"/>
            </a:xfrm>
            <a:prstGeom prst="upDownArrow">
              <a:avLst>
                <a:gd name="adj1" fmla="val 50000"/>
                <a:gd name="adj2" fmla="val 82205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5400000">
              <a:off x="8168040" y="173880"/>
              <a:ext cx="350640" cy="1447560"/>
            </a:xfrm>
            <a:prstGeom prst="upDownArrow">
              <a:avLst>
                <a:gd name="adj1" fmla="val 50000"/>
                <a:gd name="adj2" fmla="val 82184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85800" y="5973840"/>
            <a:ext cx="7803000" cy="327240"/>
            <a:chOff x="685800" y="5973840"/>
            <a:chExt cx="7803000" cy="327240"/>
          </a:xfrm>
        </p:grpSpPr>
        <p:sp>
          <p:nvSpPr>
            <p:cNvPr id="142" name=""/>
            <p:cNvSpPr/>
            <p:nvPr/>
          </p:nvSpPr>
          <p:spPr>
            <a:xfrm>
              <a:off x="197748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ducto y Proce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fío es desarrollar software de alta calidad 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FEC-D810-4503-A2C8-E4CE5FCF6A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oces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A0F-3EE5-4DAF-8C44-5C1956D2A1C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alidad es Más Car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104-40BA-49E2-91B9-E980745EE7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o de Casca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155" name="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7" idx="3"/>
              <a:endCxn id="158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8" idx="3"/>
              <a:endCxn id="160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5" idx="3"/>
              <a:endCxn id="162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62" idx="3"/>
              <a:endCxn id="157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endCxn id="155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836-1795-4EA7-A331-209A4671F8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formación de Grup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upos de trabajo debe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er entre dos y tres perso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irse antes del martes 5 de ago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darle un mail al auxiliar del curso informándole la conformación de los grup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n para el martes 5 no tenga grupo será asignado arbitrar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872-34F0-4AEB-8F49-DF002E93BE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lific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e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s de lectu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 5.5 de promedio en tare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.5 en controles se puede exim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7A9-2575-4A86-853D-F638D4DDA2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ontenidos del Curs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de Ingeniería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ios y Cualidades del Software y su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 de ciclo de vida del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s del ciclo de vida del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f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ñ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ción y valid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 de Desarrollo d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942-0710-42F2-B54D-72682CDCD9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geniería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BB1-271E-46AD-B222-90703408B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Ingeniería, Tecnología y 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1378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 la tecnolog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licación de la ciencia para la resolución de problemas práct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 la ingenierí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plicación de la tecnología en presencia de recursos limit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o, ¿qué es la ciencia y cuándo estamos aplicando la cienc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erpo de doctrina metódicamente formado y ordenado, que constituye una rama particular del s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delos de la realidad cuyo comportamiento es explicable y que permiten predecir el comportamiento de situaciones simi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D06-C655-4ADF-8297-3462C949D4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Definición (I)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onc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ingeniería de software es la aplicación de la ciencia para la construcción de software en presencia de recursos limi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o, ¿qué es el software? y ¿qué ciencia se aplica en su construc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2B7-7D6E-4CF4-BEB7-55D8A7D5CF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cc"/>
                </a:solidFill>
                <a:latin typeface="Arial"/>
              </a:rPr>
              <a:t>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jecutables, de instalación, de reconfigu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quisitos, diseño, pruebas, código fuente, manuales de usua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tos de la aplicación, parámetros de configurac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753F-D353-4C9F-9843-00325F4869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1-28T19:18:43Z</cp:lastPrinted>
  <dcterms:modified xsi:type="dcterms:W3CDTF">2008-07-31T18:13:26Z</dcterms:modified>
  <cp:revision>11</cp:revision>
  <dc:subject/>
  <dc:title>CC31B: Desarrollo de Software de Aplicaciones</dc:title>
</cp:coreProperties>
</file>