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3A20-6245-447B-8327-7B680BE83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A78B-63AC-417D-8384-36EF188B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96F6-5974-4671-A6B4-760E4B2E2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0BC6-158C-4973-99CE-7378A2F8F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E7EA-E209-4DAE-A8B8-098D73FE9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CAF1-5E63-4394-AAE7-FBECEABC5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2A1C-E381-436A-90BB-144EDF0EB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EFC3-1D2C-4142-9801-F4000F4F7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88B4-4C01-4C96-8A26-70A2DFFD2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635A-59AD-4736-9B94-81F2E2D7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6302-44F8-441A-B444-5187B808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ADE4-85CA-42A7-85C4-3CD656BC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cc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CB8DB-20B4-4BE2-88D0-FA92F4CF0E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76520"/>
            <a:ext cx="9144000" cy="75960"/>
          </a:xfrm>
          <a:prstGeom prst="rect">
            <a:avLst/>
          </a:prstGeom>
          <a:gradFill rotWithShape="0">
            <a:gsLst>
              <a:gs pos="0">
                <a:srgbClr val="c3e8ff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CC31B: Desarrollo de Software de Aplicacion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2008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f. M. Cecilia Bastar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ecilia@dcc.uchile.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705720" y="1600200"/>
            <a:ext cx="2514600" cy="21193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3333cc"/>
                </a:solidFill>
                <a:latin typeface="Arial"/>
              </a:rPr>
              <a:t>Ciencia de la Computación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 ciencia de la computación se ocupa 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 las teorías y métodos subyacentes 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 las computadoras y los sistemas de 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 ingeniería de software se refiere a los problemas prácticos de producir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s ingenieros de software requieren conocimiento de ciencias de la computación para realizar su labor, pero su objetivo es pragmát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12D6-0D28-4E01-BFE1-97195242617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3333cc"/>
                </a:solidFill>
                <a:latin typeface="Arial"/>
              </a:rPr>
              <a:t>Definición (II)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ingeniería de software es la aplicación de la ciencia de la computación para la construcción de programas de software y todos sus documentos y datos asoci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ero, ¿es así como se desarrolla habitualmente la práctica profesional? y ¿por qué sería conveniente que así fuer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B181-5792-43B3-B473-0BFC2D87D2A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Otras Definicion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Ingeniería de Software es el área de la ciencia de la computación que trata con la construcción de sistemas de software que son tan grandes o complejos que son construidos por un equipo o varios equipos de ingenieros. [Ghezzi9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strucción de un software con múltiples versiones  por múltiples personas. [Parnas87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887F-F6A8-4208-8A92-091B5B48B78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993600" y="3489480"/>
            <a:ext cx="7139520" cy="2986920"/>
            <a:chOff x="993600" y="3489480"/>
            <a:chExt cx="7139520" cy="2986920"/>
          </a:xfrm>
        </p:grpSpPr>
        <p:sp>
          <p:nvSpPr>
            <p:cNvPr id="68" name=""/>
            <p:cNvSpPr/>
            <p:nvPr/>
          </p:nvSpPr>
          <p:spPr>
            <a:xfrm>
              <a:off x="993600" y="3489480"/>
              <a:ext cx="182880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CC31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84520" y="3489480"/>
              <a:ext cx="182880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CC51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175440" y="3489480"/>
              <a:ext cx="182880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CC61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898720" y="3870360"/>
              <a:ext cx="609480" cy="304920"/>
            </a:xfrm>
            <a:prstGeom prst="rightArrow">
              <a:avLst>
                <a:gd name="adj1" fmla="val 50000"/>
                <a:gd name="adj2" fmla="val 4997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489640" y="3870360"/>
              <a:ext cx="609480" cy="304920"/>
            </a:xfrm>
            <a:prstGeom prst="rightArrow">
              <a:avLst>
                <a:gd name="adj1" fmla="val 50000"/>
                <a:gd name="adj2" fmla="val 4997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147320" y="5162760"/>
              <a:ext cx="15552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Técnicas 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Ingenierí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de Softwa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(producto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669480" y="5086440"/>
              <a:ext cx="16956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Aplicación 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Ingenierí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de Softwa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(proceso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196680" y="5162760"/>
              <a:ext cx="19364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Aplicación Re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de Ingenierí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de Softwa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(proyecto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1908000" y="4632120"/>
              <a:ext cx="0" cy="6094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4498920" y="4632120"/>
              <a:ext cx="0" cy="6094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7165800" y="4632120"/>
              <a:ext cx="0" cy="6094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Producto y Proces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IS trata de organizar un buen proceso de desarrollo para lograr un buen producto de soft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4850-9A11-4B68-A789-3AE8965CAB7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Evolución de la I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295280" y="2209680"/>
            <a:ext cx="6782040" cy="3429000"/>
            <a:chOff x="1295280" y="2209680"/>
            <a:chExt cx="6782040" cy="3429000"/>
          </a:xfrm>
        </p:grpSpPr>
        <p:sp>
          <p:nvSpPr>
            <p:cNvPr id="83" name=""/>
            <p:cNvSpPr/>
            <p:nvPr/>
          </p:nvSpPr>
          <p:spPr>
            <a:xfrm>
              <a:off x="1295280" y="3886200"/>
              <a:ext cx="2057400" cy="380880"/>
            </a:xfrm>
            <a:prstGeom prst="rightArrow">
              <a:avLst>
                <a:gd name="adj1" fmla="val 50000"/>
                <a:gd name="adj2" fmla="val 13504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657600" y="2590920"/>
              <a:ext cx="2057400" cy="380880"/>
            </a:xfrm>
            <a:prstGeom prst="rightArrow">
              <a:avLst>
                <a:gd name="adj1" fmla="val 50000"/>
                <a:gd name="adj2" fmla="val 13504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52680" y="4038480"/>
              <a:ext cx="228600" cy="13716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657600" y="4572000"/>
              <a:ext cx="2057400" cy="380880"/>
            </a:xfrm>
            <a:prstGeom prst="rightArrow">
              <a:avLst>
                <a:gd name="adj1" fmla="val 50000"/>
                <a:gd name="adj2" fmla="val 13504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295280" y="5257800"/>
              <a:ext cx="2057400" cy="380880"/>
            </a:xfrm>
            <a:prstGeom prst="rightArrow">
              <a:avLst>
                <a:gd name="adj1" fmla="val 50000"/>
                <a:gd name="adj2" fmla="val 13504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15000" y="2743200"/>
              <a:ext cx="228600" cy="20574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53640 h 2057400"/>
                <a:gd name="textAreaBottom" fmla="*/ 200376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019920" y="3581280"/>
              <a:ext cx="2057400" cy="381240"/>
            </a:xfrm>
            <a:prstGeom prst="rightArrow">
              <a:avLst>
                <a:gd name="adj1" fmla="val 50000"/>
                <a:gd name="adj2" fmla="val 13491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392480" y="3505320"/>
              <a:ext cx="139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Produc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561320" y="4952880"/>
              <a:ext cx="120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Artesaní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765960" y="4191120"/>
              <a:ext cx="12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Comerc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782520" y="2209680"/>
              <a:ext cx="9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Cienc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131160" y="312408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Ingenierí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2057400" y="1752480"/>
            <a:ext cx="1981080" cy="1371600"/>
            <a:chOff x="2057400" y="1752480"/>
            <a:chExt cx="1981080" cy="1371600"/>
          </a:xfrm>
        </p:grpSpPr>
        <p:sp>
          <p:nvSpPr>
            <p:cNvPr id="96" name=""/>
            <p:cNvSpPr/>
            <p:nvPr/>
          </p:nvSpPr>
          <p:spPr>
            <a:xfrm>
              <a:off x="3352680" y="2514600"/>
              <a:ext cx="685800" cy="609480"/>
            </a:xfrm>
            <a:prstGeom prst="ellipse">
              <a:avLst/>
            </a:pr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2057400" y="1752480"/>
              <a:ext cx="1676520" cy="836640"/>
              <a:chOff x="2057400" y="1752480"/>
              <a:chExt cx="1676520" cy="836640"/>
            </a:xfrm>
          </p:grpSpPr>
          <p:sp>
            <p:nvSpPr>
              <p:cNvPr id="98" name=""/>
              <p:cNvSpPr/>
              <p:nvPr/>
            </p:nvSpPr>
            <p:spPr>
              <a:xfrm>
                <a:off x="2057400" y="1752480"/>
                <a:ext cx="1676520" cy="641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1965-70: Algoritmos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Estructuras de dato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9" name=""/>
              <p:cNvCxnSpPr>
                <a:stCxn id="98" idx="2"/>
                <a:endCxn id="96" idx="1"/>
              </p:cNvCxnSpPr>
              <p:nvPr/>
            </p:nvCxnSpPr>
            <p:spPr>
              <a:xfrm>
                <a:off x="2895480" y="2219040"/>
                <a:ext cx="558000" cy="370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100" name=""/>
          <p:cNvGrpSpPr/>
          <p:nvPr/>
        </p:nvGrpSpPr>
        <p:grpSpPr>
          <a:xfrm>
            <a:off x="3200400" y="4419720"/>
            <a:ext cx="2743200" cy="1602000"/>
            <a:chOff x="3200400" y="4419720"/>
            <a:chExt cx="2743200" cy="1602000"/>
          </a:xfrm>
        </p:grpSpPr>
        <p:sp>
          <p:nvSpPr>
            <p:cNvPr id="101" name=""/>
            <p:cNvSpPr/>
            <p:nvPr/>
          </p:nvSpPr>
          <p:spPr>
            <a:xfrm>
              <a:off x="3200400" y="4419720"/>
              <a:ext cx="685800" cy="609480"/>
            </a:xfrm>
            <a:prstGeom prst="ellipse">
              <a:avLst/>
            </a:pr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3785400" y="4953960"/>
              <a:ext cx="2158200" cy="1067760"/>
              <a:chOff x="3785400" y="4953960"/>
              <a:chExt cx="2158200" cy="1067760"/>
            </a:xfrm>
          </p:grpSpPr>
          <p:sp>
            <p:nvSpPr>
              <p:cNvPr id="103" name=""/>
              <p:cNvSpPr/>
              <p:nvPr/>
            </p:nvSpPr>
            <p:spPr>
              <a:xfrm>
                <a:off x="3962520" y="5562720"/>
                <a:ext cx="1981080" cy="459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1980s: Metodologías d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Desarrollo de Software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04" name=""/>
              <p:cNvCxnSpPr>
                <a:stCxn id="103" idx="0"/>
                <a:endCxn id="101" idx="5"/>
              </p:cNvCxnSpPr>
              <p:nvPr/>
            </p:nvCxnSpPr>
            <p:spPr>
              <a:xfrm flipH="1" flipV="1">
                <a:off x="3785400" y="4953960"/>
                <a:ext cx="1167480" cy="608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105" name=""/>
          <p:cNvGrpSpPr/>
          <p:nvPr/>
        </p:nvGrpSpPr>
        <p:grpSpPr>
          <a:xfrm>
            <a:off x="5724360" y="3429000"/>
            <a:ext cx="2969640" cy="1764000"/>
            <a:chOff x="5724360" y="3429000"/>
            <a:chExt cx="2969640" cy="1764000"/>
          </a:xfrm>
        </p:grpSpPr>
        <p:sp>
          <p:nvSpPr>
            <p:cNvPr id="106" name=""/>
            <p:cNvSpPr/>
            <p:nvPr/>
          </p:nvSpPr>
          <p:spPr>
            <a:xfrm>
              <a:off x="5724360" y="3429000"/>
              <a:ext cx="722520" cy="578160"/>
            </a:xfrm>
            <a:prstGeom prst="ellipse">
              <a:avLst/>
            </a:pr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6340680" y="3935880"/>
              <a:ext cx="2353320" cy="1257120"/>
              <a:chOff x="6340680" y="3935880"/>
              <a:chExt cx="2353320" cy="1257120"/>
            </a:xfrm>
          </p:grpSpPr>
          <p:sp>
            <p:nvSpPr>
              <p:cNvPr id="108" name=""/>
              <p:cNvSpPr/>
              <p:nvPr/>
            </p:nvSpPr>
            <p:spPr>
              <a:xfrm>
                <a:off x="6607080" y="4368960"/>
                <a:ext cx="2086920" cy="824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Ejemplos aislado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(algoritmos, estructura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de datos, compiladores, BD)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09" name=""/>
              <p:cNvCxnSpPr>
                <a:stCxn id="108" idx="0"/>
                <a:endCxn id="106" idx="5"/>
              </p:cNvCxnSpPr>
              <p:nvPr/>
            </p:nvCxnSpPr>
            <p:spPr>
              <a:xfrm flipH="1" flipV="1">
                <a:off x="6340680" y="3935880"/>
                <a:ext cx="1310040" cy="433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D69E-50F1-44DE-A53B-7E7B02936BF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Histori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5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programadores escribían progra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ios de los ‘6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tos desarrollaron grandes proyec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es de los ‘6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arecen los grandes sistemas comerciales de softwa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trabajo va más allá de la programació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crea el término “ingeniería de software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A9B4-3068-422A-AD66-F7848014B39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Eras de la I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52880" y="1981080"/>
            <a:ext cx="19051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010280" y="1981080"/>
            <a:ext cx="19051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1981080"/>
            <a:ext cx="19051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85800" y="2286000"/>
          <a:ext cx="7924680" cy="3887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286000"/>
                    <a:ext cx="7924680" cy="38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380880" y="4876920"/>
            <a:ext cx="8229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4648320"/>
            <a:ext cx="2819520" cy="228600"/>
          </a:xfrm>
          <a:prstGeom prst="rect">
            <a:avLst/>
          </a:prstGeom>
          <a:solidFill>
            <a:srgbClr val="a50021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38280" y="4419720"/>
            <a:ext cx="2438640" cy="228600"/>
          </a:xfrm>
          <a:prstGeom prst="rect">
            <a:avLst/>
          </a:prstGeom>
          <a:solidFill>
            <a:srgbClr val="a50021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95680" y="4648320"/>
            <a:ext cx="2210040" cy="228600"/>
          </a:xfrm>
          <a:prstGeom prst="rect">
            <a:avLst/>
          </a:prstGeom>
          <a:solidFill>
            <a:srgbClr val="a50021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4419720"/>
            <a:ext cx="2361960" cy="228600"/>
          </a:xfrm>
          <a:prstGeom prst="rect">
            <a:avLst/>
          </a:prstGeom>
          <a:solidFill>
            <a:srgbClr val="a50021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292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9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22024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9576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9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7192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9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24844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9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7232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9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4090-D4EA-472A-8CB4-9F9691EA100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Programación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a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solo programador escribe todo el program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ing in the small”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programadores aprecian el sistema complet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requiere más tiempo para comunicación que para codificació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bios de personal afectan la productiv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781680" y="533520"/>
            <a:ext cx="2013120" cy="193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F47A-7C35-4328-AD39-1C368BB799E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La Ingeniería de Softwar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Para qué la Ingeniería de Softwa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yuda a construir grandes sistemas de softwa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yuda a definir claramente los problema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ing in the large”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ministración, organización, herramientas, teorías, metodologías y técnicas como base para resolver los problemas computacion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9B07-48F0-4FB0-9AF2-136BA6F0396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Influencia de la I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s costos de desarrollo de software crecen en comparación con los costos del hardwar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 requiere una producción de software más eficien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 complejidad de los sistemas grandes de software hace que el desarrollo sea más que la codificac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pción, diseño, desarrollo, documentación, mantenimiento, evolució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 ingeniería de software continuará creciend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conomía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l creciente del software en todos los ámbit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EF1F-CBAD-462C-A658-A3F15C259C4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Generalidades del Curs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la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átedra: Martes/4 y Jueves/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uxiliar: Viernes/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s transparencias se publicarán regularmente en la página web del curso en UCurs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gularmente se mandará leer el capítulo correspondiente de algún libro de Ingeniería de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areas grupales aproximadamente cada dos seman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os controles de lecturas, dos controles de materia y un examen fi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3823-8C09-47D4-AFEF-75FFF681A7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ol del Ingeniero de Softwar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gramador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baja solo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ocimiento de estructuras de datos y algoritmos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ábil con varios lenguajes de programació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geniero de softwar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te de un equipo de trabajo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oce estrategias de diseño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duce necesidades en especificaciones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ocimiento de varias áreas de aplicación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sión del sistema con distintos niveles de abstracción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unicación e interacción con otras person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6E6C-1E88-4917-8C5E-FACC1447124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7619760" y="152280"/>
            <a:ext cx="1447560" cy="1447920"/>
            <a:chOff x="7619760" y="152280"/>
            <a:chExt cx="1447560" cy="1447920"/>
          </a:xfrm>
        </p:grpSpPr>
        <p:sp>
          <p:nvSpPr>
            <p:cNvPr id="139" name=""/>
            <p:cNvSpPr/>
            <p:nvPr/>
          </p:nvSpPr>
          <p:spPr>
            <a:xfrm>
              <a:off x="8146440" y="152280"/>
              <a:ext cx="350640" cy="1447920"/>
            </a:xfrm>
            <a:prstGeom prst="upDownArrow">
              <a:avLst>
                <a:gd name="adj1" fmla="val 50000"/>
                <a:gd name="adj2" fmla="val 82205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5400000">
              <a:off x="8168040" y="173880"/>
              <a:ext cx="350640" cy="1447560"/>
            </a:xfrm>
            <a:prstGeom prst="upDownArrow">
              <a:avLst>
                <a:gd name="adj1" fmla="val 50000"/>
                <a:gd name="adj2" fmla="val 82184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685800" y="5973840"/>
            <a:ext cx="7803000" cy="327240"/>
            <a:chOff x="685800" y="5973840"/>
            <a:chExt cx="7803000" cy="327240"/>
          </a:xfrm>
        </p:grpSpPr>
        <p:sp>
          <p:nvSpPr>
            <p:cNvPr id="142" name=""/>
            <p:cNvSpPr/>
            <p:nvPr/>
          </p:nvSpPr>
          <p:spPr>
            <a:xfrm>
              <a:off x="1977480" y="5978520"/>
              <a:ext cx="651132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La IS se ocupa tanto del producto como del proces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85800" y="5973840"/>
              <a:ext cx="1371600" cy="304560"/>
            </a:xfrm>
            <a:prstGeom prst="rightArrow">
              <a:avLst>
                <a:gd name="adj1" fmla="val 50000"/>
                <a:gd name="adj2" fmla="val 112589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Producto y Proces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objetivo de la IS es desarrollar productos de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oftware de calidad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os tipos de produc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enéricos - desarrollados para vender masiva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medida - desarrollados para un cliente particul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9532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desafío es desarrollar software de alta calidad con una cantidad finita de recursos y dentro del plazo plane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ceso de desarroll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tiene una incidencia importante en la calidad del produ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4DF9-E12D-467C-9906-83C121975EE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Proceso de Softwar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onjunto de actividades y resultados asociados que producen un producto de softwar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ctividades fundamental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specificación de requisitos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iseño, codificación y test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verificación y validación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instalación y evolució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istintos tipos de procesos pueden aplicarse para desarrollar un mismo product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n general algunos procesos son más apropiados para desarrollar ciertos produc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3685-220D-47AE-BAC4-B100BDE4D80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85800" y="1846440"/>
          <a:ext cx="8229600" cy="4935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846440"/>
                    <a:ext cx="8229600" cy="49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Más Calidad es Más Car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0447-70CC-4006-A025-F601ED96655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Modelo de Cascad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533520" y="1981080"/>
            <a:ext cx="7924320" cy="4190760"/>
            <a:chOff x="533520" y="1981080"/>
            <a:chExt cx="7924320" cy="4190760"/>
          </a:xfrm>
        </p:grpSpPr>
        <p:sp>
          <p:nvSpPr>
            <p:cNvPr id="155" name=""/>
            <p:cNvSpPr/>
            <p:nvPr/>
          </p:nvSpPr>
          <p:spPr>
            <a:xfrm>
              <a:off x="533520" y="1981080"/>
              <a:ext cx="1584720" cy="8380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Análisis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especificación d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requerimient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6" name=""/>
            <p:cNvCxnSpPr>
              <a:stCxn id="157" idx="3"/>
              <a:endCxn id="158" idx="0"/>
            </p:cNvCxnSpPr>
            <p:nvPr/>
          </p:nvCxnSpPr>
          <p:spPr>
            <a:xfrm>
              <a:off x="5287680" y="4076640"/>
              <a:ext cx="793080" cy="419760"/>
            </a:xfrm>
            <a:prstGeom prst="bentConnector2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8" idx="3"/>
              <a:endCxn id="160" idx="0"/>
            </p:cNvCxnSpPr>
            <p:nvPr/>
          </p:nvCxnSpPr>
          <p:spPr>
            <a:xfrm>
              <a:off x="6872760" y="4914720"/>
              <a:ext cx="793440" cy="419760"/>
            </a:xfrm>
            <a:prstGeom prst="bentConnector2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5" idx="3"/>
              <a:endCxn id="162" idx="0"/>
            </p:cNvCxnSpPr>
            <p:nvPr/>
          </p:nvCxnSpPr>
          <p:spPr>
            <a:xfrm>
              <a:off x="2118240" y="2400120"/>
              <a:ext cx="793440" cy="419760"/>
            </a:xfrm>
            <a:prstGeom prst="bentConnector2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63" name=""/>
            <p:cNvCxnSpPr>
              <a:stCxn id="162" idx="3"/>
              <a:endCxn id="157" idx="0"/>
            </p:cNvCxnSpPr>
            <p:nvPr/>
          </p:nvCxnSpPr>
          <p:spPr>
            <a:xfrm>
              <a:off x="3702960" y="3238200"/>
              <a:ext cx="793080" cy="419760"/>
            </a:xfrm>
            <a:prstGeom prst="bentConnector2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64" name=""/>
            <p:cNvCxnSpPr>
              <a:endCxn id="155" idx="2"/>
            </p:cNvCxnSpPr>
            <p:nvPr/>
          </p:nvCxnSpPr>
          <p:spPr>
            <a:xfrm rot="10800000">
              <a:off x="1325160" y="2818440"/>
              <a:ext cx="5547600" cy="3004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5" name=""/>
            <p:cNvSpPr/>
            <p:nvPr/>
          </p:nvSpPr>
          <p:spPr>
            <a:xfrm flipH="1" flipV="1">
              <a:off x="2876040" y="3656880"/>
              <a:ext cx="6840" cy="21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4461120" y="4495680"/>
              <a:ext cx="0" cy="132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6045840" y="5333760"/>
              <a:ext cx="0" cy="48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118240" y="2819160"/>
              <a:ext cx="1585080" cy="8380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Diseñ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03320" y="3657240"/>
              <a:ext cx="1584720" cy="8380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Codificación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Test de Módul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288040" y="4495680"/>
              <a:ext cx="1584720" cy="8380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Integración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Test del Siste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872760" y="5333760"/>
              <a:ext cx="1585080" cy="8380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Instalación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Manteni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5944-3130-4364-B70F-5637E787265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Conformación de Grupo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grupos de trabajo deberá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er entre dos y tres person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dirse antes del martes 5 de agos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darle un mail al auxiliar del curso informándole la conformación de los grup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en para el martes 5 no tenga grupo será asignado arbitrari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6443-97BC-4481-BDC4-B739EA670E2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Calificación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e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es de lectur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 5.5 de promedio en tarea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.5 en controles se puede exim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5837-0FF8-4C0A-9C03-A07D2EECC9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Contenidos del Curs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ción de Ingeniería de Soft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ios y Cualidades del Software y su Desarrol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os de ciclo de vida del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apas del ciclo de vida del softw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pecificació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eñ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icación y valid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o de Desarrollo de Soft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79EA-4975-41DD-963B-7F79A285D07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Ingeniería de Softwar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308916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ahoma"/>
              </a:rPr>
              <a:t>¿Qué es la Ingeniería de Softwa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81CA-6879-487C-91B1-EF80190EDD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3333cc"/>
                </a:solidFill>
                <a:latin typeface="Arial"/>
              </a:rPr>
              <a:t>Ingeniería, Tecnología y Cienci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6560" y="1988640"/>
            <a:ext cx="81378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¿Qué es la tecnologí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plicación de la ciencia para la resolución de problemas práct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¿Qué es la ingenierí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plicación de la tecnología en presencia de recursos limit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ero, ¿qué es la ciencia y cuándo estamos aplicando la cienc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uerpo de doctrina metódicamente formado y ordenado, que constituye una rama particular del sab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odelos de la realidad cuyo comportamiento es explicable y que permiten predecir el comportamiento de situaciones simila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74F2-2D46-4CDC-9CD6-49430D4DE0A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3333cc"/>
                </a:solidFill>
                <a:latin typeface="Arial"/>
              </a:rPr>
              <a:t>Definición (I)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ntonc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 ingeniería de software es la aplicación de la ciencia para la construcción de software en presencia de recursos limit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ero, ¿qué es el software? y ¿qué ciencia se aplica en su construcció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B26B-DDBA-41C7-A17F-8B38FB7B078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3333cc"/>
                </a:solidFill>
                <a:latin typeface="Arial"/>
              </a:rPr>
              <a:t>Softwar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l software es una serie de programas, conjuntamente con todos los documentos asociados y la configuración de datos que se necesitan para que los programas operen de manera correc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gra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jecutables, de instalación, de reconfiguración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ocumen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quisitos, diseño, pruebas, código fuente, manuales de usuario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atos de la aplicación, parámetros de configuración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A9EF-096D-4A2B-B5EE-7F0B22B994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13:49:39Z</dcterms:created>
  <dc:creator>Cecilia Bastarrica</dc:creator>
  <dc:description/>
  <dc:language>en-US</dc:language>
  <cp:lastModifiedBy>cecilia</cp:lastModifiedBy>
  <cp:lastPrinted>2005-01-28T19:18:43Z</cp:lastPrinted>
  <dcterms:modified xsi:type="dcterms:W3CDTF">2008-07-31T18:13:26Z</dcterms:modified>
  <cp:revision>11</cp:revision>
  <dc:subject/>
  <dc:title>CC31B: Desarrollo de Software de Aplicaciones</dc:title>
</cp:coreProperties>
</file>