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2A0-AEED-41C6-8B2D-7C540717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1E2-3D01-4F39-A3E9-CDF01B0E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7D7C-54A5-4F20-AF0A-430A7331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389-5A51-4D7D-89A7-6DF0BF98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126-660F-40A8-A86B-57B2CDFE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BE9-22E1-4106-810E-ABAC0272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9DD-36DE-4EDB-9E49-1378D690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312-A5ED-4A6D-9555-30DD591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B3D-786B-4160-BCF4-0D719B38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195-7B57-4797-9AB0-5571957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462-1CEE-4E57-A0D3-D67050FB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8EE-5D4F-4E13-A274-401D1B48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B4CA-E814-4834-81FE-227D9489E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C31B: Desarrollo de Software de Aplica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8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. M. 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ecilia@dcc.uchile.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514600" cy="2119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Ciencia de la Compu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AB1-13F8-4A0F-B0C2-27CCF36CF0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es así como se desarrolla habitualmente la práctica profesional? y ¿por qué sería conveniente que así fu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896-864E-41F5-ACFE-32E4CD0BA5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Defini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ón de un software con múltiples versiones  por múltiples personas. [Parnas8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2C9-A3E4-432C-A7E6-17B8DE7249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68" name="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31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5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6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S trata de organizar un buen proceso de desarrollo para lograr un buen produc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86D-4EFD-4BCD-B0FA-326F8674EA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volución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83" name="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96" name="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98" name="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9" name=""/>
              <p:cNvCxnSpPr>
                <a:stCxn id="98" idx="2"/>
                <a:endCxn id="96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0" name="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101" name="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103" name="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4" name=""/>
              <p:cNvCxnSpPr>
                <a:stCxn id="103" idx="0"/>
                <a:endCxn id="101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5" name=""/>
          <p:cNvGrpSpPr/>
          <p:nvPr/>
        </p:nvGrpSpPr>
        <p:grpSpPr>
          <a:xfrm>
            <a:off x="5724360" y="3429000"/>
            <a:ext cx="2969640" cy="1764000"/>
            <a:chOff x="5724360" y="3429000"/>
            <a:chExt cx="2969640" cy="1764000"/>
          </a:xfrm>
        </p:grpSpPr>
        <p:sp>
          <p:nvSpPr>
            <p:cNvPr id="106" name=""/>
            <p:cNvSpPr/>
            <p:nvPr/>
          </p:nvSpPr>
          <p:spPr>
            <a:xfrm>
              <a:off x="5724360" y="3429000"/>
              <a:ext cx="722520" cy="5781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340680" y="3935880"/>
              <a:ext cx="2353320" cy="1257120"/>
              <a:chOff x="6340680" y="3935880"/>
              <a:chExt cx="23533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6607080" y="4368960"/>
                <a:ext cx="20869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algoritmos, estructur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 datos, 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8" idx="0"/>
                <a:endCxn id="106" idx="5"/>
              </p:cNvCxnSpPr>
              <p:nvPr/>
            </p:nvCxnSpPr>
            <p:spPr>
              <a:xfrm flipH="1" flipV="1">
                <a:off x="6340680" y="3935880"/>
                <a:ext cx="131004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CBE-5A9B-4DD2-8781-82D9283255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isto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escribían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os desarrollaron grande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cen los grandes sistemas comerciale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rabajo va más allá de la program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rea el término “ingeniería de softwa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D83-1369-416C-B9B3-B42071ADFD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ras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F91-9D91-44FC-8638-A79D808899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gram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olo programador escribe todo el progra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small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aprecian el sistema comple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quiere más tiempo para comunicación que para cod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s de personal afec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1E8-E2D9-4074-A4AC-8D352565EF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ara qué la Ingeniería de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construir grandes sistema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definir claramente los proble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large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, organización, herramientas, teorías, metodologías y técnicas como base para resolver los problemas comput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F2F-650C-4335-8648-91CBDC7C68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fluencia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A8A-FE88-4E44-9225-8B21DB5421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neralidade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486-F3B4-492A-809B-B1FEAE1194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l del Ingenier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DF5-4C62-43CB-88CC-40E6E0B7C0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619760" y="152280"/>
            <a:ext cx="1447560" cy="1447920"/>
            <a:chOff x="7619760" y="152280"/>
            <a:chExt cx="1447560" cy="1447920"/>
          </a:xfrm>
        </p:grpSpPr>
        <p:sp>
          <p:nvSpPr>
            <p:cNvPr id="139" name=""/>
            <p:cNvSpPr/>
            <p:nvPr/>
          </p:nvSpPr>
          <p:spPr>
            <a:xfrm>
              <a:off x="8146440" y="152280"/>
              <a:ext cx="350640" cy="1447920"/>
            </a:xfrm>
            <a:prstGeom prst="upDownArrow">
              <a:avLst>
                <a:gd name="adj1" fmla="val 50000"/>
                <a:gd name="adj2" fmla="val 8220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8168040" y="173880"/>
              <a:ext cx="350640" cy="1447560"/>
            </a:xfrm>
            <a:prstGeom prst="upDownArrow">
              <a:avLst>
                <a:gd name="adj1" fmla="val 50000"/>
                <a:gd name="adj2" fmla="val 8218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5973840"/>
            <a:ext cx="7803000" cy="327240"/>
            <a:chOff x="685800" y="5973840"/>
            <a:chExt cx="7803000" cy="327240"/>
          </a:xfrm>
        </p:grpSpPr>
        <p:sp>
          <p:nvSpPr>
            <p:cNvPr id="142" name=""/>
            <p:cNvSpPr/>
            <p:nvPr/>
          </p:nvSpPr>
          <p:spPr>
            <a:xfrm>
              <a:off x="197748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fío es desarrollar software de alta calidad 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985-47BB-4525-98D4-D885B47040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8F9-EF1D-48E3-90C5-5C058E336E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alidad es Más Car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79D-7568-47EA-A68E-8BE319FE71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 Casca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155" name="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7" idx="3"/>
              <a:endCxn id="158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8" idx="3"/>
              <a:endCxn id="160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5" idx="3"/>
              <a:endCxn id="162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62" idx="3"/>
              <a:endCxn id="157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endCxn id="155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305-C6D5-497E-BE68-FF139D1404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formación de Grup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upos de trabajo debe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entre dos y tres perso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irse antes del martes 5 de ago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rle un mail al auxiliar del curso informándole la conformación de los gru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n para el martes 5 no tenga grupo será asignado arbitra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EB8-8108-4DFC-816F-2669BB87C4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lific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5.5 de promedio en tare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.5 en controles se puede exim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91A-CE48-441F-93F3-D9A5788771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de Ingenierí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y Cualidades del Software y su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 de ciclo de vida del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s del ciclo de vida del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ñ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ción y valid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esarroll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743-2F3F-4008-A2C3-972B44C50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3F0-B34A-4C1F-AD3B-5D5946E64D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Ingeniería, Tecnología y 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137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tecnolog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ciencia para la resolución de problemas prác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ingenier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tecnología en presencia de recursos lim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o, ¿qué es la ciencia y cuándo estamos aplicando la 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erpo de doctrina metódicamente formado y ordenado, que constituye una rama particular del s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delos de la realidad cuyo comportamiento es explicable y que permiten predecir el comportamiento de situaciones simi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29E-F9B2-4128-AAE5-614EB3A1AD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o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para la construcción de software en presencia de recursos limi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qué es el software? y ¿qué ciencia se aplica en su construc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572-015B-4BDD-9025-3FBC61853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jecutables, de instalación, de re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quisitos, diseño, pruebas, código fuente, manuales de usua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 de la aplicación, parámetros de 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A36-494C-417E-8DEF-1289FB1A6D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8:43Z</cp:lastPrinted>
  <dcterms:modified xsi:type="dcterms:W3CDTF">2008-07-31T18:13:26Z</dcterms:modified>
  <cp:revision>11</cp:revision>
  <dc:subject/>
  <dc:title>CC31B: Desarrollo de Software de Aplicaciones</dc:title>
</cp:coreProperties>
</file>