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F83-3361-4FDC-A7AC-627D512D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D2C-D82B-42B3-A7D1-2C71AEE8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A52-7190-46F2-AA05-5272F177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44E-7F62-423C-9A37-9AE94B76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FDB-0B38-47F4-8CB5-39E58FCC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663-3FAE-4CA9-98CD-1C3A986A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118-962A-465C-BF1B-FED9F811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4F3-3081-4A30-AA06-B36EE6FB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005-1AF1-4DE6-967A-ECA111BD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748-B7A5-4FAE-A6E8-ED43B039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B2E-8398-4B6D-B2D9-258B55C1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D32-B261-4DFE-AFDF-7A21C7E4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5B47-5434-418F-9F2D-7C26BED62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C31B: Desarrollo de Software de Aplicac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8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f. M. 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ecilia@dcc.uchile.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2514600" cy="2119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Ciencia de la Compu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529-A979-4269-8B2B-91AD946064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Definición (II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o, ¿es así como se desarrolla habitualmente la práctica profesional? y ¿por qué sería conveniente que así fu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8D5-7808-49F8-AD33-41B210A989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Definic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trucción de un software con múltiples versiones  por múltiples personas. [Parnas8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836-93C8-4A61-8B07-17727892B9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68" name="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31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5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6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S trata de organizar un buen proceso de desarrollo para lograr un buen product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CE1-6C1B-4CAB-B87E-EF1C73598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volución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83" name="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96" name="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98" name="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9" name=""/>
              <p:cNvCxnSpPr>
                <a:stCxn id="98" idx="2"/>
                <a:endCxn id="96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00" name="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101" name="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103" name="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4" name=""/>
              <p:cNvCxnSpPr>
                <a:stCxn id="103" idx="0"/>
                <a:endCxn id="101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05" name=""/>
          <p:cNvGrpSpPr/>
          <p:nvPr/>
        </p:nvGrpSpPr>
        <p:grpSpPr>
          <a:xfrm>
            <a:off x="5724360" y="3429000"/>
            <a:ext cx="2969640" cy="1764000"/>
            <a:chOff x="5724360" y="3429000"/>
            <a:chExt cx="2969640" cy="1764000"/>
          </a:xfrm>
        </p:grpSpPr>
        <p:sp>
          <p:nvSpPr>
            <p:cNvPr id="106" name=""/>
            <p:cNvSpPr/>
            <p:nvPr/>
          </p:nvSpPr>
          <p:spPr>
            <a:xfrm>
              <a:off x="5724360" y="3429000"/>
              <a:ext cx="722520" cy="5781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340680" y="3935880"/>
              <a:ext cx="2353320" cy="1257120"/>
              <a:chOff x="6340680" y="3935880"/>
              <a:chExt cx="2353320" cy="1257120"/>
            </a:xfrm>
          </p:grpSpPr>
          <p:sp>
            <p:nvSpPr>
              <p:cNvPr id="108" name=""/>
              <p:cNvSpPr/>
              <p:nvPr/>
            </p:nvSpPr>
            <p:spPr>
              <a:xfrm>
                <a:off x="6607080" y="4368960"/>
                <a:ext cx="20869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algoritmos, estructur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 datos, 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8" idx="0"/>
                <a:endCxn id="106" idx="5"/>
              </p:cNvCxnSpPr>
              <p:nvPr/>
            </p:nvCxnSpPr>
            <p:spPr>
              <a:xfrm flipH="1" flipV="1">
                <a:off x="6340680" y="3935880"/>
                <a:ext cx="131004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858-3FF8-46F5-85D6-60021A6ABD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istor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rogramadores escribían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os de los ‘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os desarrollaron grande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s de los ‘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ecen los grandes sistemas comerciales d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rabajo va más allá de la program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rea el término “ingeniería de softwar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848-78B5-4A27-8193-33B02A25DC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ras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155-2C0D-4F17-8373-AC57F79B76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gram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olo programador escribe todo el progra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in the small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rogramadores aprecian el sistema comple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requiere más tiempo para comunicación que para codif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s de personal afec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E5E-078B-4A3D-A17D-72E3F61EB9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a 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Para qué la Ingeniería de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uda a construir grandes sistemas d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uda a definir claramente los proble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in the large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ón, organización, herramientas, teorías, metodologías y técnicas como base para resolver los problemas comput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B42-5259-41A7-A6CF-3279DFDB65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fluencia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443-1804-44FE-BBE3-9B66A5D0A7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eneralidades del Cur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E87-FB82-4DA0-876A-54A80E4C26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l del Ingenier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223-EBA6-4235-8EFB-DDFE972DFD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7619760" y="152280"/>
            <a:ext cx="1447560" cy="1447920"/>
            <a:chOff x="7619760" y="152280"/>
            <a:chExt cx="1447560" cy="1447920"/>
          </a:xfrm>
        </p:grpSpPr>
        <p:sp>
          <p:nvSpPr>
            <p:cNvPr id="139" name=""/>
            <p:cNvSpPr/>
            <p:nvPr/>
          </p:nvSpPr>
          <p:spPr>
            <a:xfrm>
              <a:off x="8146440" y="152280"/>
              <a:ext cx="350640" cy="1447920"/>
            </a:xfrm>
            <a:prstGeom prst="upDownArrow">
              <a:avLst>
                <a:gd name="adj1" fmla="val 50000"/>
                <a:gd name="adj2" fmla="val 8220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8168040" y="173880"/>
              <a:ext cx="350640" cy="1447560"/>
            </a:xfrm>
            <a:prstGeom prst="upDownArrow">
              <a:avLst>
                <a:gd name="adj1" fmla="val 50000"/>
                <a:gd name="adj2" fmla="val 8218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5800" y="5973840"/>
            <a:ext cx="7803000" cy="327240"/>
            <a:chOff x="685800" y="5973840"/>
            <a:chExt cx="7803000" cy="327240"/>
          </a:xfrm>
        </p:grpSpPr>
        <p:sp>
          <p:nvSpPr>
            <p:cNvPr id="142" name=""/>
            <p:cNvSpPr/>
            <p:nvPr/>
          </p:nvSpPr>
          <p:spPr>
            <a:xfrm>
              <a:off x="197748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fío es desarrollar software de alta calidad 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C29-AF0A-4EC3-A93B-9A81FBECB4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ces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350-74B9-4E4C-92A1-CDDE635275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alidad es Más Car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89B-49AC-40B4-943E-874E2F6BE0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o de Casca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155" name="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7" idx="3"/>
              <a:endCxn id="158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8" idx="3"/>
              <a:endCxn id="160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5" idx="3"/>
              <a:endCxn id="162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62" idx="3"/>
              <a:endCxn id="157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endCxn id="155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5" name="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B68-21DB-494B-97EB-5FC9C9CE91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formación de Grup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upos de trabajo debe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er entre dos y tres perso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irse antes del martes 5 de ago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rle un mail al auxiliar del curso informándole la conformación de los gru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n para el martes 5 no tenga grupo será asignado arbitra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102-1F65-4CE7-B6B9-B8D69EA4A0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alific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5.5 de promedio en tare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.5 en controles se puede exim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740-4802-4B79-8B05-25E485C350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enidos del Cur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de Ingeniería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os y Cualidades del Software y su 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 de ciclo de vida del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s del ciclo de vida del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ñ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ción y valid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Desarroll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89C-CBF7-4FAE-AA50-6E9E5F1817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B9F-FDE5-4BA5-9239-833AB16EAF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Ingeniería, Tecnología y 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137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es la tecnolog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licación de la ciencia para la resolución de problemas prác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es la ingenier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licación de la tecnología en presencia de recursos limi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o, ¿qué es la ciencia y cuándo estamos aplicando la 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erpo de doctrina metódicamente formado y ordenado, que constituye una rama particular del s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delos de la realidad cuyo comportamiento es explicable y que permiten predecir el comportamiento de situaciones simi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A85-3B60-4870-82C1-2487D595E1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Definición (I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on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ingeniería de software es la aplicación de la ciencia para la construcción de software en presencia de recursos limi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o, ¿qué es el software? y ¿qué ciencia se aplica en su construc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147-590D-4315-AFDE-108B7C97AF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jecutables, de instalación, de reconfigur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quisitos, diseño, pruebas, código fuente, manuales de usua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tos de la aplicación, parámetros de configur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E51-71A9-40AA-AAB9-3179CC25E9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1-28T19:18:43Z</cp:lastPrinted>
  <dcterms:modified xsi:type="dcterms:W3CDTF">2008-07-31T18:13:26Z</dcterms:modified>
  <cp:revision>11</cp:revision>
  <dc:subject/>
  <dc:title>CC31B: Desarrollo de Software de Aplicaciones</dc:title>
</cp:coreProperties>
</file>