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1CC-4D8F-447A-BF14-6CEE2B0E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E9D-58F5-4964-A6A4-958340AB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8F9-E56D-4F62-AD75-D9815377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C17-2EFB-40DC-BB1B-3FB90DC1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5DF-5511-420C-B960-2E2FB08D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A1F-CCB7-4C4D-8A88-DE83FE66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8B8-7060-43F5-8A0A-D48A12AF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2E7-ED92-4371-A9B5-0240FD6E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F79-0818-426B-846A-87F053BD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655-7892-4401-9C21-A4B2FB8C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F11-EE45-4A47-85A1-C0345E31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166-07BF-4D7E-B4C7-8DC7BC90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FB2F-D30D-4DDB-A848-FA9506B1C03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998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16-23-30 de Abril: </a:t>
            </a:r>
            <a:r>
              <a:rPr b="0" lang="es-E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14-May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redacción borrador de memoria</a:t>
            </a: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4-11-18 de Juni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4-</a:t>
            </a: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Julio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Agosto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5-Agosto: 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0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99" name="Object 6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 Box 9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11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03" name="Object 12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4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Text Box 13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Rectangle 14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s-ES_tradnl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s-ES_tradnl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 o está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ás o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4 de JULIO 2009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Oval 5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1700280"/>
            <a:ext cx="1619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4 de Julio 200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Oval 7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1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Oval 5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403280" y="40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d0c"/>
                </a:solidFill>
                <a:latin typeface="Times New Roman"/>
              </a:rPr>
              <a:t>Sólo para el examen de grad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mi memoria no es aceptada por la comi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memoria puede quedar con nota Suspendida y se dan 3 semanas para que se hagan los cambios neces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nota máxima en ese caso en 4.0 y corre los mismos plazos que en el caso normal (3 semanas para la revisión de la comisión y 3 semanas para las correcciones del alum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no he terminado en la fecha prev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 tienes causas justificadas se puede pedir una prorroga de hasta 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ara ello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Llenar formulario de prorroga hasta 1 semana después de vencido el plazo de entrega del borr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profesor guía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alumno (a)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52280"/>
            <a:ext cx="8229600" cy="80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1 de Junio 14:30 Sala CIBY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VEGA, MARCELA (Magister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geniería de proteínas en una celulasa de hongos: optimización de sus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piedades hidrolíticas y estudio de costo/beneficio de su aplicación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dustri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152280"/>
            <a:ext cx="8229600" cy="9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Jueves 11 de  Junio 14:30 Sala CIBY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 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Identificación, clonación y expresión de una endoglucanasa activa con vistas a la producción de bioetan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M.E. Lienqueo Integrante: A. Gar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DELPIANO TEDROS, MARICELLE </a:t>
            </a: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ESTUDIO DEL EFECTO DE LA ADICION DE EXTREMOS HIDROFOBICOS EN LA EXPRESION Y PURIFICACION DE CELULASAS RECOMBINANTES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M.E. Lienqueo  Co-guia: O. Salaza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457200" y="152280"/>
            <a:ext cx="8229600" cy="87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18 de  Junio 16:15 Sala B1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TIERREZ DUARTE, SEBASTIAN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REPARACIÓN Y CARACTERIZACIÓN DE MATERIALES COMPUESTOS BASADOS EN POLIPROPILENO CON NANOPARTÍCULAS DE COBRE      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 R. Quijada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ATURANA SEPULVEDA, ANDRES 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ESTUDIO PRELIMINAR DE PARTÍCULAS NANOESTRUCTURADAS DE MNO2 PARA SU UTILIZACIÓN EN CATÁLISIS   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F. Gracia  Int:. RQuijad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EREZ CHAMORRO, PABLO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DESARROLLO DE PROCESOS PARA SINTESIS DE COMPUESTOS DE RENI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J. Casas; L. Cifuentes;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NUÑEZ LOPEZ, PATRICIA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CARACTERIZACIÓN DE RILES SEGÚN ACTIVIDAD INDUSTRIAL DEL GRAN SANTIAG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L.Herrer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457200" y="152280"/>
            <a:ext cx="822960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25 de  Junio 14:30 CIBY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ERCADO ARGANDOÑA, SERGIO 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B.Andrews Co-guia: J. Asenjo; Integrante: Z. GERDTZE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9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53" name="Oval 6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8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5-14T18:15:45Z</dcterms:modified>
  <cp:revision>152</cp:revision>
  <dc:subject/>
  <dc:title>El ingeniero, etica y sociedad</dc:title>
</cp:coreProperties>
</file>