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DE2-1D2A-417E-BE53-AFA06F7B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D50-C25F-474C-A571-85A9CE9F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A5B-A339-4840-A56C-2E036DFB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613-B296-4A39-93AC-F6B0144C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9B8-E6A1-4BB4-92E8-0717A009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C75-41E3-4691-B535-8B59429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2D1-7451-4391-ABD0-17E710AB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E53-F19C-44B3-86BB-07BECDCA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6DD-0714-4D23-B5C6-AC0182D4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C8B-507B-4E14-9C3B-DE7D6D18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539-6D9D-4716-83B8-C7BCC1C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31B-AA89-482C-9112-5E2FC1F5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4F2A-8100-4481-BD5F-A6A2FAE96D6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998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16-23-30 de Abril: </a:t>
            </a:r>
            <a:r>
              <a:rPr b="0" lang="es-ES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14-May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redacción borrador de memoria</a:t>
            </a:r>
            <a:br>
              <a:rPr sz="2400"/>
            </a:br>
            <a:br>
              <a:rPr sz="2400"/>
            </a:b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 4-11-18 de Junio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-</a:t>
            </a:r>
            <a:r>
              <a:rPr b="0" lang="es-ES" sz="3600" spc="-1" strike="noStrike">
                <a:solidFill>
                  <a:srgbClr val="ffff99"/>
                </a:solidFill>
                <a:latin typeface="Times New Roman"/>
              </a:rPr>
              <a:t>Julio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Agosto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5-Agosto: 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Object 6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9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Object 12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13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Rectangle 14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s-ES_tradnl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4 de JULIO 2009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Oval 5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1700280"/>
            <a:ext cx="1619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4 de Julio 200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Oval 7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1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Oval 5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52280"/>
            <a:ext cx="8229600" cy="80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 de Junio 14:30 Sala CIBY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VEGA, MARCELA (Magiste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geniería de proteínas en una celulasa de hongos: optimización de sus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piedades hidrolíticas y estudio de costo/beneficio de su aplicación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 Integrant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152280"/>
            <a:ext cx="8229600" cy="9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Jueves 11 de  Junio 14:30 Sala CIBY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 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Identificación, clonación y expresión de una endoglucanasa activa con vistas a la producción de bioeta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Oriana Salazar Co-guia: M.E. Lienqueo Integrante: A. Gar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Times New Roman"/>
              </a:rPr>
              <a:t>DELPIANO TEDROS, MARICELLE </a:t>
            </a: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ESTUDIO DEL EFECTO DE LA ADICION DE EXTREMOS HIDROFOBICOS EN LA EXPRESION Y PURIFICACION DE CELULASAS RECOMBINANTES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M.E. Lienqueo  Co-guia: O. Salaza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57200" y="152280"/>
            <a:ext cx="8229600" cy="87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18 de  Junio 16:15 Sala B1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TIERREZ DUARTE, SEBASTIAN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REPARACIÓN Y CARACTERIZACIÓN DE MATERIALES COMPUESTOS BASADOS EN POLIPROPILENO CON NANOPARTÍCULAS DE COBRE      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 R. Quijada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ATURANA SEPULVEDA, ANDRES 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ESTUDIO PRELIMINAR DE PARTÍCULAS NANOESTRUCTURADAS DE MNO2 PARA SU UTILIZACIÓN EN CATÁLISIS   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 H.Palza Co-guia:F. Gracia  Int:. RQuijad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PEREZ CHAMORRO, PABLO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DESARROLLO DE PROCESOS PARA SINTESIS DE COMPUESTOS DE RENI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J. Casas; L. Cifuentes; Int: F. Grac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NUÑEZ LOPEZ, PATRICIA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CARACTERIZACIÓN DE RILES SEGÚN ACTIVIDAD INDUSTRIAL DEL GRAN SANTIAGO  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L.Herrer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457200" y="152280"/>
            <a:ext cx="822960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Jueves 25 de  Junio 14:30 CIBY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MERCADO ARGANDOÑA, SERGIO (H2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99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imes New Roman"/>
              </a:rPr>
              <a:t>Guia: B.Andrews Co-guia: J. Asenjo; Integrante: Z. GERDTZEN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9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Oval 6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9-05-14T18:15:45Z</dcterms:modified>
  <cp:revision>152</cp:revision>
  <dc:subject/>
  <dc:title>El ingeniero, etica y sociedad</dc:title>
</cp:coreProperties>
</file>