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ADB-F24E-4AC3-BA02-6F65F231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091-867E-43B6-8A5D-ED670125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B0D-D787-4BDC-8A3F-D3DE2E4F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916-213A-4D2B-AD00-9A760ACB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D76-6B00-4A0D-82B8-01BD918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7DF-A25A-48A2-AFA7-96CB3F0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38D-B4B7-48CF-A24D-655F35F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730-1CFB-4936-9577-7A8F29BE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FDF-5A59-45F5-98E5-FD386D0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926-6799-4A99-8007-9704615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B86-9ECC-4E26-88F3-488BB1F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8AC-4CEE-4D86-8A4E-CAFEFF0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154-A987-4A02-9344-8341F3D9FE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Seman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152280"/>
            <a:ext cx="82296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6 de  Abril 14:30 Sala B1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QUIROGA CAMPANO, ANA 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Optimización del cultivo de E.coli para la producción de cutinasas recombinante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  Integrante: 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ZIOMARA GERDTZ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152280"/>
            <a:ext cx="8229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3 de  Abril 14:30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LOPEZ CASTRO, ADRIANA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Análisis genómico comparativo de células HEK293 en cultivo y producción de adenovirus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Z. GERDTZEN Co-guia: B.Andrew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ÑA, JAIME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Asenjo; Co-guia:B.Andrew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30 de  Abril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152280"/>
            <a:ext cx="8229600" cy="9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B110 (Magist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3-26T15:53:10Z</dcterms:modified>
  <cp:revision>155</cp:revision>
  <dc:subject/>
  <dc:title>El ingeniero, etica y sociedad</dc:title>
</cp:coreProperties>
</file>