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067-5C35-44C2-9FB2-E45E0410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6A6-4F23-42BC-B4C6-5F025FC8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711-2B27-4DC5-8151-ED6CD853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1C0-EA22-47E5-906D-876C1DA2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37A-78DE-4B83-B871-D695141A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909-F791-47A3-9E36-7A512006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9C5-BE16-4D41-8D3F-321BEC88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9F4-0416-4C11-812E-627F8608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A80-12D8-48DF-8C0C-A2CC527A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B9C-21D2-4DAF-ABEF-6C308D74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84F-A08A-4FBA-A56B-64E535B3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5A6-FDEC-4F92-A727-EBA66CD6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2B66-7656-4C59-AA31-BC8EC65E823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998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16-23-30 de Abril: </a:t>
            </a:r>
            <a:r>
              <a:rPr b="0" lang="es-E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14-May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redacción borrador de memoria</a:t>
            </a: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4-11-18 de Juni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Seman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semanas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semanas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152280"/>
            <a:ext cx="822960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Jueves 16 de  Abril 14:30 Sala B1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 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Identificación, clonación y expresión de una endoglucanasa activa con vistas a la producción de bioetan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M.E. Lienqueo Integrante: A. Gar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QUIROGA CAMPANO, ANA (H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Optimización del cultivo de E.coli para la producción de cutinasas recombinantes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M.E. Lienqueo  Co-guia: O. Salazar  Integrante: </a:t>
            </a:r>
            <a:r>
              <a:rPr b="1" lang="es-ES" sz="1600" spc="-1" strike="noStrike">
                <a:solidFill>
                  <a:srgbClr val="ffff99"/>
                </a:solidFill>
                <a:latin typeface="Times New Roman"/>
              </a:rPr>
              <a:t>ZIOMARA GERDTZ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DELPIANO TEDROS, MARICELLE </a:t>
            </a: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ESTUDIO DEL EFECTO DE LA ADICION DE EXTREMOS HIDROFOBICOS EN LA EXPRESION Y PURIFICACION DE CELULASAS RECOMBINANTES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M.E. Lienqueo  Co-guia: O. Salaza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57200" y="152280"/>
            <a:ext cx="8229600" cy="79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23 de  Abril 14:30 Sala B1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LOPEZ CASTRO, ADRIANA(H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Análisis genómico comparativo de células HEK293 en cultivo y producción de adenovirus  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Z. GERDTZEN Co-guia: B.Andrew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ERCADO ARGANDOÑA, SERGIO 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B.Andrews Co-guia: J. Asenjo; Integrante: Z. GERDTZE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EÑA, JAIME 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J. Asenjo; Co-guia:B.Andrews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152280"/>
            <a:ext cx="8229600" cy="87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30 de  Abril 16:15 Sala B1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TIERREZ DUARTE, SEBASTIAN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REPARACIÓN Y CARACTERIZACIÓN DE MATERIALES COMPUESTOS BASADOS EN POLIPROPILENO CON NANOPARTÍCULAS DE COBRE      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 R. Quijada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ATURANA SEPULVEDA, ANDRES 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ESTUDIO PRELIMINAR DE PARTÍCULAS NANOESTRUCTURADAS DE MNO2 PARA SU UTILIZACIÓN EN CATÁLISIS   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F. Gracia  Int:. RQuijad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EREZ CHAMORRO, PABLO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DESARROLLO DE PROCESOS PARA SINTESIS DE COMPUESTOS DE RENI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J. Casas; L. Cifuentes;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NUÑEZ LOPEZ, PATRICIA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CARACTERIZACIÓN DE RILES SEGÚN ACTIVIDAD INDUSTRIAL DEL GRAN SANTIAG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L.Herrer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57200" y="152280"/>
            <a:ext cx="8229600" cy="9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1 de Junio 14:30 B110 (Magist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VEGA, MARCELA (Magister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3-26T15:53:10Z</dcterms:modified>
  <cp:revision>155</cp:revision>
  <dc:subject/>
  <dc:title>El ingeniero, etica y sociedad</dc:title>
</cp:coreProperties>
</file>