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350-0C1D-4917-B25E-7149DB04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0D1-A201-481F-AD36-6D9B6D5D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2FE-6AD9-42D1-8F80-F21F78AD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369-F083-4CC8-B51F-DE945E7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E29-21D9-4312-95F9-D7315C2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47E-F643-4C0A-A33D-CC58051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8DC-4FA2-415D-9626-84C92979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6B7-8B5D-4CE6-9AA5-3CE99FA4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485-395B-4018-B6AB-F96FACFD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4B8-F880-49F7-B0D5-C08A4A8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15-5B4F-4188-846B-5F9C81B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2B5-4D92-43CF-955F-5B56C42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40F-45A0-4D26-ACD9-E31999891CA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Seman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152280"/>
            <a:ext cx="82296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6 de  Abril 14:30 Sala B1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QUIROGA CAMPANO, ANA 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Optimización del cultivo de E.coli para la producción de cutinasas recombinante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  Integrante: 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ZIOMARA GERDTZ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152280"/>
            <a:ext cx="8229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3 de  Abril 14:30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LOPEZ CASTRO, ADRIANA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Análisis genómico comparativo de células HEK293 en cultivo y producción de adenovirus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Z. GERDTZEN Co-guia: B.Andrew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ÑA, JAIME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Asenjo; Co-guia:B.Andrew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30 de  Abril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152280"/>
            <a:ext cx="8229600" cy="9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B110 (Magist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3-26T15:53:10Z</dcterms:modified>
  <cp:revision>155</cp:revision>
  <dc:subject/>
  <dc:title>El ingeniero, etica y sociedad</dc:title>
</cp:coreProperties>
</file>