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268-448A-4605-9B3D-686A1193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B7A-AA5B-4FBA-8A8E-0395648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4F2-75A2-45D7-8F4B-1E72A4FA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035-AE48-4262-85E4-D9A6819C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2E8-9F65-46AC-AFD8-3C8C359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CFF-E165-4564-8957-DCFCA248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7E2-8BDF-4623-9833-C33E1299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505-67E7-4C30-BD0B-50CA607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1E5-8038-4B5B-883C-FF6FD6CE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29E-4FF0-4232-A64D-141C5B9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DB2-E487-4B82-A008-F71715A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610-C616-41B0-B61C-F7716A60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FD6-5A8F-4A61-8060-0E393122B8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Seman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152280"/>
            <a:ext cx="82296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6 de  Abril 14:30 Sala B1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QUIROGA CAMPANO, ANA 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Optimización del cultivo de E.coli para la producción de cutinasas recombinante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  Integrante: 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ZIOMARA GERDTZ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152280"/>
            <a:ext cx="8229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3 de  Abril 14:30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LOPEZ CASTRO, ADRIANA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Análisis genómico comparativo de células HEK293 en cultivo y producción de adenovirus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Z. GERDTZEN Co-guia: B.Andrew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ÑA, JAIME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Asenjo; Co-guia:B.Andrew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30 de  Abril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152280"/>
            <a:ext cx="8229600" cy="9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B110 (Magist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3-26T15:53:10Z</dcterms:modified>
  <cp:revision>155</cp:revision>
  <dc:subject/>
  <dc:title>El ingeniero, etica y sociedad</dc:title>
</cp:coreProperties>
</file>