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BF33-C64A-472F-BC41-B6B0D7DE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7B2B-1080-4F49-990B-5CDE9270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1B8D-4291-4838-8D25-9C782327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C6E-FBE4-41D1-BD46-193B8F10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0EB-FAB0-49FB-A0F2-94ABF7A2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2DA-84F7-41C8-9995-6A64D9F8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88A9-2768-436E-BBFF-274D17CD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F33B-6CF6-430B-B261-39C848AF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A379-A9E1-40BF-ADD2-B651E650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95C1-2BED-4C98-AF24-901C29C6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5B8-96C1-42EE-88EC-638B50EF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D8BA-0E8C-4A74-AED4-000C56DC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BC8D-5E52-4A04-A554-EB0AFA464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.8, 4-11-25.9, 2.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6-13.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1.12.2008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.01.20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8/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 máxima para rendir examen de grad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99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03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 o está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ás o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9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1/12/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1/2008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0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d0c"/>
                </a:solidFill>
                <a:latin typeface="Times New Roman"/>
              </a:rPr>
              <a:t>Sólo para el examen de 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mi memoria no es aceptada por la comis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memoria puede quedar con nota Suspendida y se dan 3 semanas para que se hagan los cambios necesa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nota máxima en ese caso en 4.0 y corre los mismos plazos que en el caso normal (3 semanas para la revisión de la comisión y 3 semanas para las correcciones del alum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no he terminado en la fecha previ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 tienes causas justificadas se puede pedir una prorroga de hasta 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ara ello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Llenar formulario de prorroga hasta 1 semana después de vencido el plazo de entrega del borrador (</a:t>
            </a: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profesor guía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alumno (a)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53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11-05T15:52:22Z</dcterms:modified>
  <cp:revision>144</cp:revision>
  <dc:subject/>
  <dc:title>El ingeniero, etica y sociedad</dc:title>
</cp:coreProperties>
</file>