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3AD9-D7C4-4A61-A521-5832C474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37BA-DEE6-4F42-A294-15E09C65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B754-758C-4A80-943A-89A4C88A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1C56-F86B-4FA0-8DAE-E6940390D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A329-C34C-474C-99D9-904B77A1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74A6-B298-486C-8448-CF9BE378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4BCA-12C1-47E5-BF85-1DE59BE0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6216-6F12-46FB-A48D-A7543EAE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39B7-6AD5-48A9-B77C-5252DD9B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47B3-BCA9-46F1-BD16-2733202E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F286-5BEB-4F45-9257-C76C9C5A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15F3-5BA5-4453-A6C6-0EC10DB9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8B13-7043-44D2-8906-F51543EEB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ttp://www.diq.uchile.cl/~btcursos/titulo/index_F.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8/8, 4-11-25/9, 2/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-30/10, 6-13-20/11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ciembre 2008: 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de semestre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79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ueves 28 de Agosto 14:30 Sala por fi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CORTINEZ VILLALOBOS, VICT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ODUCCION DE BIO-ETANOL DE SEGUNDA GENERACION A PARTIR DE RESIDUOS DE LENGA Y EUCALIP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 Co-Guia: Oriana Salazar Integrante: Rene Carmo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EZOA CONTE, RIC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ODUCCION DE BIO-ETANOL DE SEGUNDA GENERACION A PARTIR DE RESIDUOS DE MAIZ Y TRI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  Co-Guia: Oriana Salazar   Integrante: Alejandro Gar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MONTECINOS PAVEZ, CATAL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DEL EFECTO DE LA ADICION DE EXTREMOS HIDROFOBICOS EN LA EXPRESION Y PURIFICACION DE XILANASAS RECOMBIN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Co-Guia: Oriana Salazar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Integrante: Cristian Salg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62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Jueves 4 de Septiembre 14:30 Sala por fi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MENADIER STAVELOT, MAURICE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INFLUENCIA DE LA CRISTALINIDAD Y ADHERENCIA BACTERIANA EN LA BIOLIXIVIACION DE PIRITAS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Tomás Vargas       Co-Guia: Blanca Escobar Integrante: Oriana Salaza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VELASCO SARAGONI, NONOY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ELECTROQUIMICO DE LA BIOLIXIVIACION DE PIRITAS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Tomás Vargas Co-Guia: Blanca Escobar Integrante:  Francisco Gracia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NUDMAN GUENDELMAN, ARI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DE LA GENERACION Y TRANSPORTE DE GAS SULFHIDRICO EN LAS REDES DE AGUAS SERVIDAS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Leandro Herrera Co-Guia: Cristian Salgado Integrante: Luis Felipe Salaz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INEDA ERICE, DANIEL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TECNICO ECONOMICO DE PRODUCCION DE HIDROGENO MEDIANTE ELECTROLISIS UTILIZANDO ENERGIA ELECTRICA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José Hernández Co-Guia: Leandro Herrera Integrante:  Francisco Gracia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66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ueves 11 de Septiembre 14:30 Sala por fi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ERRERO ADAROS, ALEJAND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IDENTIFICACION, CLONACION Y EXPRESION RECOMBINANTE DE UNA EXOGLUCANASA DE ALTA ACTIVIDAD CON VISTAS A LA PRODUCCION DE BIOETAN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Oriana Salazar Co-guia:  Integran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SALINAS, ALEJAND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ia: Oriana Salazar Co-guia:  Integra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VEGA, MARC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ia: Oriana Salazar Co-guia:  Integra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RIVEROS FIGUEROA, NIM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EDICCION DEL COEFICIENTE DE PARTICION DE PROTEINAS EN SISTEMAS DE DOS FASES ACUOSAS BASADO EN LA DETERMINACION DE CARGA E HIDROFOBICIDAD SUPER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Cristian Salgado  Co-guia: Barbara Andrews  Integrante: M.Elena Lienqu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89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Jueves 25 de Septiembre 14:30 Sala por fi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MERCADO ARGANDOÑA, SERG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OPTIMIZACION DEL CULTIVO DE CELULAS HEK-293 EN SUSPENSION PARA LA PRODUCCION DE UN ANTICUERPO QUIMERICO ANTI-FACTOR DE NECROSIS TUMORAL (TNF) HUM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Barbara Andrews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Co-guia: Juan Asenjo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Integra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ACHECO VEGA, CAROL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DE FACTIBILIDAD PLANTA PRODUCTORA KITS DE DIAGNOSTICO POR RT-P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Ricardo Badilla Co-guia: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Integra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EÑA ALVAREZ, JA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OPTIMIZACION DEL CULTIVO DE CELULAS CHO EN SUSPENSION PARA LA PRODUCCION DE ANTICUERPO QUIMERICO ANTI FACTOR DE NECROSIS TUMORAL (TNF) HUM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uan Asenj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Co-guia: 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Barbara Andrew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Integra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WILKENS DIAZ-MUÑOZ, CAMI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ANALISIS COMPARATIVO DEL METABOLISMO DE LACTATO PARA CELULAS CHO EN GLUCOSA Y GALACT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ia:ZIOMARA GERDTZEN  Co-guia:Barbara Andrews  Integra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2280"/>
            <a:ext cx="8229600" cy="29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ueves 2 de Octubre 14:30 Sala por fi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8-08-06T15:45:56Z</dcterms:modified>
  <cp:revision>142</cp:revision>
  <dc:subject/>
  <dc:title>El ingeniero, etica y sociedad</dc:title>
</cp:coreProperties>
</file>